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B0B4E-B38A-47F3-A9D8-39061E4C0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16000" y="3964320"/>
            <a:ext cx="7570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0185A-CE07-4664-8814-2B8642267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8F90C-B4E7-411B-9C63-14CF8869E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759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355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1600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759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355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1E94D-5280-4E90-9158-532EDD545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116000" y="1600200"/>
            <a:ext cx="75704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4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116000" y="274680"/>
            <a:ext cx="75704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16000" y="1600200"/>
            <a:ext cx="75704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BAC89-43DB-479C-B308-4D7F14E1D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7570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116000" y="3964320"/>
            <a:ext cx="7570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6759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2355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11600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6759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2355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4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26F6E-EE10-4E07-9334-6FDD9BBDA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A469A-2488-4ED0-8A5A-96E88B3F2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C613F-199E-4232-A563-35EA0DEFF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16000" y="274680"/>
            <a:ext cx="75704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46FF9-F0D6-4F97-8296-A523F7F19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3ADA3-F244-4F2F-BCEA-318CA4116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03CBD-3D94-4A83-AD18-8F0D2B3F1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7570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C3096-5194-45EA-AEA3-18D674FB9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 hidden="1"/>
          <p:cNvSpPr/>
          <p:nvPr/>
        </p:nvSpPr>
        <p:spPr>
          <a:xfrm>
            <a:off x="8101080" y="6237360"/>
            <a:ext cx="9489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fld id="{DCDF35C6-8005-46D3-9253-56358AA7760C}" type="slidenum">
              <a:rPr b="0" lang="it-IT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Fare clic per modificare lo stile del titolo</a:t>
            </a: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BE38687-CA6D-42D1-84D5-F77DE8561FFA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it-IT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8"/>
          <p:cNvSpPr/>
          <p:nvPr/>
        </p:nvSpPr>
        <p:spPr>
          <a:xfrm>
            <a:off x="8101080" y="6237360"/>
            <a:ext cx="9489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fld id="{CA97DC88-3CB4-4936-8468-67DD2C14B7E9}" type="slidenum">
              <a:rPr b="0" lang="it-IT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Fare clic per modificare lo stile del titolo</a:t>
            </a: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116000" y="1600200"/>
            <a:ext cx="7570440" cy="452556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Fare clic per modificare stili del testo dello schema</a:t>
            </a: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Secondo livello</a:t>
            </a:r>
            <a:endParaRPr b="0" lang="it-IT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Terzo livello</a:t>
            </a:r>
            <a:endParaRPr b="0" lang="it-IT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Quarto livello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tarSymbol"/>
              <a:buChar char="»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Quinto livello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-1764720" y="1196640"/>
            <a:ext cx="7772040" cy="146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br>
              <a:rPr sz="3600"/>
            </a:br>
            <a:r>
              <a:rPr b="1" lang="it-IT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it-IT" sz="2400" spc="-1" strike="noStrike">
                <a:solidFill>
                  <a:srgbClr val="ffffff"/>
                </a:solidFill>
                <a:latin typeface="Tahoma"/>
              </a:rPr>
              <a:t>Corso di</a:t>
            </a:r>
            <a:br>
              <a:rPr sz="2400"/>
            </a:br>
            <a:r>
              <a:rPr b="1" lang="it-IT" sz="2400" spc="-1" strike="noStrike">
                <a:solidFill>
                  <a:srgbClr val="ffffff"/>
                </a:solidFill>
                <a:latin typeface="Tahoma"/>
              </a:rPr>
              <a:t>               Ingegneria del Web e Applicazioni</a:t>
            </a:r>
            <a:br>
              <a:rPr sz="2400"/>
            </a:br>
            <a:r>
              <a:rPr b="1" lang="it-IT" sz="2400" spc="-1" strike="noStrike">
                <a:solidFill>
                  <a:srgbClr val="ffffff"/>
                </a:solidFill>
                <a:latin typeface="Tahoma"/>
              </a:rPr>
              <a:t>A A. 2017-2018</a:t>
            </a:r>
            <a:br>
              <a:rPr sz="2400"/>
            </a:br>
            <a:br>
              <a:rPr sz="2400"/>
            </a:br>
            <a:r>
              <a:rPr b="1" lang="it-IT" sz="2400" spc="-1" strike="noStrike">
                <a:solidFill>
                  <a:srgbClr val="ffffff"/>
                </a:solidFill>
                <a:latin typeface="Tahoma"/>
              </a:rPr>
              <a:t>Domenico Rosaci</a:t>
            </a:r>
            <a:br>
              <a:rPr sz="2400"/>
            </a:br>
            <a:br>
              <a:rPr sz="2400"/>
            </a:br>
            <a:r>
              <a:rPr b="1" lang="it-IT" sz="4800" spc="-1" strike="noStrike">
                <a:solidFill>
                  <a:srgbClr val="ffffff"/>
                </a:solidFill>
                <a:latin typeface="Tahoma"/>
              </a:rPr>
              <a:t>Patterns</a:t>
            </a:r>
            <a:br>
              <a:rPr sz="4800"/>
            </a:br>
            <a:r>
              <a:rPr b="1" lang="it-IT" sz="4800" spc="-1" strike="noStrike">
                <a:solidFill>
                  <a:srgbClr val="ffffff"/>
                </a:solidFill>
                <a:latin typeface="Tahoma"/>
              </a:rPr>
              <a:t>di</a:t>
            </a:r>
            <a:br>
              <a:rPr sz="4800"/>
            </a:br>
            <a:r>
              <a:rPr b="1" lang="it-IT" sz="4800" spc="-1" strike="noStrike">
                <a:solidFill>
                  <a:srgbClr val="ffffff"/>
                </a:solidFill>
                <a:latin typeface="Tahoma"/>
              </a:rPr>
              <a:t>E-Business</a:t>
            </a:r>
            <a:endParaRPr b="0" lang="it-IT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7812000" y="1413000"/>
            <a:ext cx="1331640" cy="502920"/>
          </a:xfrm>
          <a:prstGeom prst="rect">
            <a:avLst/>
          </a:prstGeom>
          <a:solidFill>
            <a:schemeClr val="tx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it-IT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Application Patterns</a:t>
            </a: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440" cy="452556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Una volta definito il business pattern, occorre identificare le componenti logiche ad alto livello per realizzarlo: queste costituiscono l’application pattern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Esistono più application pattern per realizzare un business pattern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Un’application pattern può avere un presentation tier, un application tier ed un back-end application tier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22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23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Web Services - Introduzi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Application Patterns: Directly Integrated Single Channel</a:t>
            </a: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24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25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Web Services - Introduzi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3" descr=""/>
          <p:cNvPicPr/>
          <p:nvPr/>
        </p:nvPicPr>
        <p:blipFill>
          <a:blip r:embed="rId1"/>
          <a:stretch/>
        </p:blipFill>
        <p:spPr>
          <a:xfrm>
            <a:off x="1575720" y="1845000"/>
            <a:ext cx="6945120" cy="367200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Application patterns: altro esempio</a:t>
            </a: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440" cy="452556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upponiamo che le polizze automobilistiche e le polizze sulla casa siano contenute in back end different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llora le richieste degli user, che possono riguardare dati differenti, devono essere decomposte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L’application pattern sarà diverso dal caso precedente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26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27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Web Services - Introduzi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Application patterns</a:t>
            </a: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28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ftr" idx="29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Web Services - Introduzi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2" descr=""/>
          <p:cNvPicPr/>
          <p:nvPr/>
        </p:nvPicPr>
        <p:blipFill>
          <a:blip r:embed="rId1"/>
          <a:stretch/>
        </p:blipFill>
        <p:spPr>
          <a:xfrm>
            <a:off x="1599120" y="1412640"/>
            <a:ext cx="6756120" cy="360000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Runtime patterns</a:t>
            </a: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440" cy="452556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Un application pattern può essere ulteriormente raffinato nelle funzioni che lo compongono. Ogni funzione costituisce un runtime node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Questi nodi possono coesistere sulla singola macchina, o essere distribuiti su più macchine (non è rilevante)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Es:L’utente ha determinato che la sua soluzione si adatta ad un self-service business pattern realizzato con una Directly Integrated Single Channel application pattern.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dt" idx="30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ftr" idx="31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Web Services - Introduzi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Esempio di runtime pattern</a:t>
            </a: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dt" idx="32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ftr" idx="33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Web Services - Introduzi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Picture 2" descr=""/>
          <p:cNvPicPr/>
          <p:nvPr/>
        </p:nvPicPr>
        <p:blipFill>
          <a:blip r:embed="rId1"/>
          <a:stretch/>
        </p:blipFill>
        <p:spPr>
          <a:xfrm>
            <a:off x="2051640" y="1266480"/>
            <a:ext cx="5616360" cy="481932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Ruoli dei nodi di runtime</a:t>
            </a: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440" cy="452556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resentation and application tier: implementati con un Web application server, che combina sia la funzione di HTTP server che quelle di application server: gestisce pagine Web statiche e dinamiche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Una variante può essere data dallo split del Web application server in un HTTP server ed in un application server: altro runtime pattern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34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35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Web Services - Introduzi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Altro runtime pattern</a:t>
            </a: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dt" idx="36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ftr" idx="37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Web Services - Introduzi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Picture 2" descr=""/>
          <p:cNvPicPr/>
          <p:nvPr/>
        </p:nvPicPr>
        <p:blipFill>
          <a:blip r:embed="rId1"/>
          <a:stretch/>
        </p:blipFill>
        <p:spPr>
          <a:xfrm>
            <a:off x="1979640" y="1282320"/>
            <a:ext cx="5722560" cy="473832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Product mapping</a:t>
            </a: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440" cy="452556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er ogni nodo di runtime, si individuano i prodotti adatti a realizzarlo.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38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39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Web Services - Introduzi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Product mapping</a:t>
            </a: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dt" idx="40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ftr" idx="41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Web Services - Introduzi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1195560" y="1556640"/>
            <a:ext cx="7127640" cy="410400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Patterns per l’E-Business</a:t>
            </a: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440" cy="452556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oluzioni aziendali già esistenti, strutturate a layer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onsentono il riuso di software concepito per risolvere una data tipologia di problemi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Ogni livello di dettaglio è costruito sul livello precedente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er esempio, la collezione di Pattern IBM comprende sette livelli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6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7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Web Services - Introduzi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Best Practice Guidelines</a:t>
            </a: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440" cy="452556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 pattern fin qui mostrati servono a definire le specifiche del sistema e l’ambiente di rete. Nulla è detto sull’effettivo sviluppo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Un guideline pattern definisce le tecniche idonee a sviluppare un application pattern, sulla base di: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Design guideline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it-IT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Development guideline</a:t>
            </a:r>
            <a:endParaRPr b="0" lang="it-IT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System Management guideline</a:t>
            </a:r>
            <a:endParaRPr b="0" lang="it-IT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Development guideline</a:t>
            </a:r>
            <a:endParaRPr b="0" lang="it-IT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dt" idx="42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ftr" idx="43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Web Services - Introduzi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Patterns per l’E Business</a:t>
            </a: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440" cy="452556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siness patterns: identificano le interazioni tra utenti, business e dati.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gration patterns: collegano più Business patterns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osite patterns: rappresentano combinazioni di Business ed Integration patterns di usale ricorrenza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patterns: Forniscono un layer concettuale che descrive come interagiscono le componenti applicative e I dati in un Business o Integration pattern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time patterns: definiscono la struttura logica middleware che supporta un Application pattern..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duct mappings: identifica implementazioni software provate e testate per ogni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Runtime pattern.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st-practice guidelines: guidano nello sviluppo.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8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9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Web Services - Introduzi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Patterns per l’E Business</a:t>
            </a: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10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ftr" idx="11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Web Services - Introduzi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1802160" y="1182600"/>
            <a:ext cx="6388560" cy="498240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Business patterns primari</a:t>
            </a: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dt" idx="12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ftr" idx="13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Web Services - Introduzi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1691640" y="1237680"/>
            <a:ext cx="6336360" cy="482040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Esempio d’uso di un pattern</a:t>
            </a: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440" cy="452556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ompagnia assicurativa: si supponga che voglia ridurre i costi dei call centeer, permettendo ai clienti di accedere alle proprie polizze sul Web ed effettuando le modifiche volute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l Self-service pattern si adatta perfettamente a questo caso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l Self-service pattern è adatto quando è necessario consentire l’accesso diretto degli utenti alle applicazioni e ai dati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14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15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Web Services - Introduzi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Integration Patterns</a:t>
            </a: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16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17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Web Services - Introduzi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icture 2" descr=""/>
          <p:cNvPicPr/>
          <p:nvPr/>
        </p:nvPicPr>
        <p:blipFill>
          <a:blip r:embed="rId1"/>
          <a:stretch/>
        </p:blipFill>
        <p:spPr>
          <a:xfrm>
            <a:off x="1521720" y="1845000"/>
            <a:ext cx="7286040" cy="309600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16000" y="116640"/>
            <a:ext cx="75704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Combinazione Business- Integration: Custom Design</a:t>
            </a: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dt" idx="18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ftr" idx="19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Web Services - Introduzi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Picture 2" descr=""/>
          <p:cNvPicPr/>
          <p:nvPr/>
        </p:nvPicPr>
        <p:blipFill>
          <a:blip r:embed="rId1"/>
          <a:stretch/>
        </p:blipFill>
        <p:spPr>
          <a:xfrm>
            <a:off x="1520280" y="1485360"/>
            <a:ext cx="6219720" cy="38156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Composite Patterns</a:t>
            </a: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dt" idx="20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 type="ftr" idx="21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Web Services - Introduzi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Picture 2" descr=""/>
          <p:cNvPicPr/>
          <p:nvPr/>
        </p:nvPicPr>
        <p:blipFill>
          <a:blip r:embed="rId1"/>
          <a:stretch/>
        </p:blipFill>
        <p:spPr>
          <a:xfrm>
            <a:off x="2090880" y="1192320"/>
            <a:ext cx="5289120" cy="511668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2_Personalizza struttura">
  <a:themeElements>
    <a:clrScheme name="2_Personalizza struttura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2_Personalizza struttura">
  <a:themeElements>
    <a:clrScheme name="2_Personalizza struttura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2</TotalTime>
  <Application>LibreOffice/7.4.7.2$Linux_X86_64 LibreOffice_project/40$Build-2</Application>
  <AppVersion>15.0000</AppVersion>
  <Words>645</Words>
  <Paragraphs>90</Paragraphs>
  <Company>DIMET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6T15:01:40Z</dcterms:created>
  <dc:creator>Domenico Rosaci</dc:creator>
  <dc:description/>
  <dc:language>en-US</dc:language>
  <cp:lastModifiedBy>Domenico Rosaci</cp:lastModifiedBy>
  <dcterms:modified xsi:type="dcterms:W3CDTF">2017-09-24T21:03:35Z</dcterms:modified>
  <cp:revision>190</cp:revision>
  <dc:subject/>
  <dc:title>Diapositiv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Presentazione su schermo (4:3)</vt:lpwstr>
  </property>
  <property fmtid="{D5CDD505-2E9C-101B-9397-08002B2CF9AE}" pid="3" name="Slides">
    <vt:r8>20</vt:r8>
  </property>
</Properties>
</file>