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5E7C2-6E8C-410A-B2A5-BFEF5B3E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27885-49FA-4671-ACD6-ABEDBA1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13930-533A-4D09-9CF9-30BB4641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DB6B9-2694-4F3A-A038-CFDB8296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726C3-6FA2-4F2A-9318-123BC046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6EC5F-DE23-464A-AC21-5C00D578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973FF-2793-455A-A78C-015B95B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28508-DC2D-4FC4-8FE0-9234943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FBA69-56E9-4DF4-896C-D36C4A54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85C9-A33A-4678-9B06-0FD2564D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32A51-30B3-4E78-B750-9DF358AA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18765-B782-4789-A035-F8926B79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D61F9-CFBB-48A5-8A5F-2BA39BE5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054BC-7DA6-482A-B96D-B3593B5B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ADBD9-15B4-4F28-996F-B7580678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6CA61-73B9-41C5-A349-03AA2442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5D4A0-6EB1-4E5A-84ED-2EDA8320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98BA0-3A11-4025-860A-EAE42AB7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2C7BD-5433-4CAA-82FE-F83E05AC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9495D-EB9D-4FB9-8767-D5681CBD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95555-00E0-43CE-920F-B03D7FE0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92214-3AE6-4B55-9FE7-18B89D61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758BA-9B97-49D6-91E0-4E8AC9A2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0B96E-7327-4C1B-A66E-9CF12C7C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AC426-D0D5-447A-827A-0391293B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BC183-4BB8-4435-9E56-300EE238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E274E-0977-44F2-A59A-9A1A749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00E52-0B56-49EE-8016-0D32827D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BC7FC-2436-49DF-931F-4A1C75E7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C707B-5105-4BC9-8171-5279EBC0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A11C9-3FB1-463C-AD26-77C1308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3728F-60EB-4400-A19B-4CA7B88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44B84-BE49-47FF-9306-DF3F08BC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08AEB-8044-4BA5-86EC-CBBD0973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7CAAA-53F6-45D2-98AE-F9E30381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C69CF-E870-40D9-899B-9854AB1F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D7728-EBC4-44FD-B3B0-2F95ED67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AE5E2-9D36-4E49-9F76-E3B5A3AC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50379-6962-41ED-8948-EB06BF60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A606E-1A4B-4D77-A387-D8E51FE9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D6CAE-C40A-4BD1-80B1-3C64F035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3A376-A1DA-4ACC-B6A8-F830073A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BAFEB-9467-4F7F-B6B0-66FDAE6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E1B76-1BF1-4EE6-9901-29CC573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74768-7E23-422A-9B4B-8F77BE3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AE505-6314-496B-8E1F-675C8FAF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B9F30-627D-44A0-BAC8-C921F6EB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C5584-9525-448A-89FD-FD3DCEA6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DBA9-7848-44D6-B8A6-13B5A164718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3F4-ACDB-452B-81B5-639F0F9E22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CAC-A242-4543-B0C7-A8D2C56F8C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F643-DB43-48D2-BA06-77EC1DF386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28D0-97C5-4875-9872-758F51402D8E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stemi Distribuit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 proce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e join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508720" y="1700280"/>
            <a:ext cx="302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metodo main() attende il completamento del thread prima di procedere con l’esecuzione: il programma si comporta adesso in modo determin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hread nei S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: rendono più semplice la gestione di connessioni logiche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spetti specifici da consider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ient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ver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obiettivo dei sistemi distribuiti è quello di raggiungere un alto grado di trasparenza alla distrib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e reti globali, ciò comporta la necessità di nascondere i lunghi tempi di propagazione dei messaggi tra i processi (ordine delle centinai di millisec., o addirittura dei secon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odo per nascondere la latenza nella comunicazione: avviare la comunicazione stessa e immediatamente iniziare a fare qualcos’a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: Browser Web: quando si carica una pagina Web, si prelevano dati spesso molto “pesanti” come immagini o oggetti multimediali. Per nascondere la latenza, il Browser spesso comincia a visualizzare i dati disponibili mentre ancora la comunicazione è in 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appena il file HTML è stato prelevato, si possono lanciare più thread indipendenti per prelevare i vari dati. Se un thread si blocca, gli altri non ne risent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o vantaggio: se il server è effettivamente replicato su più macchine per gestire flussi elevati di richieste, un client multi-thread può ottenere performance migliori perché è altamente probabile che i vari thread verrano eseguiti (in parallelo) da server diffe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o principale del multithreading nei SD: la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lifica notevolmente la scrittura del codice di u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onsideri ad esempio un file server che occasionalmente deve bloccarsi in att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file server attende la richiesta di un’operazione su un file, quindi la soddisfa ed invia la 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 possib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thread, il dispacher, legge le richieste in ingr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richieste sono inviate dai client al server ad una porta ben conosci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er esamina la richiesta, sceglie un worker thread inattivo e gliela pa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va avanti eseguendo una lettura bloccante sul file system locale de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può rimanere bloccato in attesa dei dati da disco. Ma questo non blocca né il dispatcher ne gli altri worker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ta: senza il multithreading, il server rimarrebbe bloccato sulla singola richiesta, senza poter servire altre richies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è un altro esempio di come i thread generalmente migliorino le pres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: Processo Server in JAV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ogliamo scrivere il codice di un programma server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farlo, dobbiamo introdurre due concetti base del linguaggio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è una sorta di “terminazione” software di un collegamento bidirezionale tra un programma server ed uno o più programmi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associa al programma server una specifica porta hardware sulla macchina su cui è eseguito, in modo tale che ogni programma client che sta in qualunque altro luogo nella rete con un socket associato a quella stessa porta può comunicare col programma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2538360" y="1703520"/>
          <a:ext cx="455472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1703520"/>
                    <a:ext cx="455472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Client extends JFrame implements ActionListener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text, click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Button button;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Field textFiel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socke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 = new JLabel("Text to sen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 = new JTextField(20); button = new JButton("Click Me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Fiel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South", butto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actionPerformed(ActionEvent event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f(source == button){ //Send data over so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ing text = textField.getTex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.println(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.setText(new String(""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Receive text from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tring line = in.readLin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Text received :" + lin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listenSocket(){ //Create socket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= new Socket("kq6py", 4444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 = new PrintWriter(socket.getOutputStream(), 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= 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w InputStreamReader(socket.getInputStream()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UnknownHost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Unknown hos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No I/O"); 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 frame = new SocketClien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Title("Client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//fine della classe Socket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" name="Object 5"/>
          <p:cNvGraphicFramePr/>
          <p:nvPr/>
        </p:nvGraphicFramePr>
        <p:xfrm>
          <a:off x="2673360" y="1773360"/>
          <a:ext cx="4203720" cy="25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3360" y="1773360"/>
                    <a:ext cx="420372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ass SocketServer extends JFrame implements ActionListener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Button butt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 clien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actionPerformed(ActionEvent event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(source == button){ textArea.setText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 = new ServerSocket(4444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Could not listen on port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ent = server.accep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Accept failed: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System.out.println("Accept failed: 4444"); System.exit(-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CONTIN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line = in.readLine(); //Send data back to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println(lin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//Fine funzione listen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tected void finalize(){ //Clean 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catch (IOException e) { System.out.println("Could not close."); System.exit(-1)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 frame = new SocketServer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Title("Server Program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//fine classe Socket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data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48836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permettere la connessione contemporanea di più client, il server deve usare più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411280" y="2766960"/>
          <a:ext cx="460872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66960"/>
                    <a:ext cx="460872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ClientWorker implements Runnable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Socket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JTextArea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entWorke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client, JTextArea textArea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client =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textArea =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run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in or out failed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line = in.readLine(); //Send data back to client out.println(line);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xtArea.append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Read failed"); System.exit(-1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ThrdServer extends JFrame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(){ //Begin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Are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 = new ServerSocket(444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Could not listen on port 4444"); System.exit(-1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ientWorker 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 = new ClientWorker(server.accept(), textAre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read t = new Thread(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Accept failed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444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tected void finalize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erver.close(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Could not close socke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 frame = new SocketThrdServer(); frame.setTitle("Server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System.exit(0); }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cessi: Concetti di b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rso della sua attività il S.O. crea una serie di Processori Virtuali, ad ognuno dei quali è assegnato un processo (programma in esecuzi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.O. ha cura che i singoli processi non si disturbino a vicenda: è reso trasparente il fatto che i processi utilzzano la stessa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zzo della Trasparenza alla Concorren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processo deve avere uno spazio degli indirizzi in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evono gestire gli switch da un processo all’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ai Processi ai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un processo, anche un thread esegue un suo pezzo di codice, indipendentemente dagli altri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differenza dei processi, non c’è però un alto grado di trasparenza alla concorr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atti, un sistema a thread gestisce solo l’insieme minimo delle informazioni per permettere alla CPU di essere condivisa da più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ntesto di un thread è composto solo dal contesto della CPU e da qualche altra informazione sui thread in esecuzione (ad esempio un thread è bloccato e non può essere utilizz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il programmatore che deve proteggere i dati da accessi scorretti da parte dei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 rispetto ai processi: Prestazioni generalmente migliori, al prezzo di uno sforzo intellettuale da parte del programm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a come si usano i thread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per scomporre un processo in sotto parti elementari in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processi a singolo thread, quando si esegue una chiamata a sistema bloccante, si blocca tutto il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: in un foglio elettronico, quando si inseriscono dati in una cella occorre poi eseguire computazioni che si ripercuotono su tutte le altre c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un solo thread, mentre si inseriscono i dati non si effettuano computazioni, e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iù efficiente usare due thread, uno per gestire l’input della cella, l’altro per gestire le compu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ltro grande vantaggio nel multi-threading si ha nei sistemi multiprocessore: ogni thread può essere assegnato ad un processore e ciò permette l’esecuzione parallela mentre i dati stanno su una memoria centrale condivisa (es. i server nelle applicazioni client-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508720" y="170028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si ottiene molto: i thread continuano ad essere eseguiti indipend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0:57:15Z</dcterms:modified>
  <cp:revision>77</cp:revision>
  <dc:subject/>
  <dc:title>Diapositiva 1</dc:title>
</cp:coreProperties>
</file>