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10EEE-0203-47C0-AD9C-329435987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6086-27A5-41C6-81F9-654C4E3BA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96F05-FF35-496B-A2E9-AADA7F25F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42C13-AE7C-407F-A15F-8ABE023E0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D7D1-7918-4BC0-9457-C06DD140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D293-97A5-45D0-8E2F-8B9D5402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2691-B7CF-4575-83E0-7C966A317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AFE61-5A1D-4561-A0EB-F6F0C3A02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3ACB-EFD6-4D53-8980-007EC504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7B6C-F6F6-4FA5-B978-0E1398D8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DC3B1-7DC2-4A1C-B3F4-5D0FA8F2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0CAA-7FB8-497A-94B6-9A4526193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FF91A33-6F3B-4345-8197-9C53C00C254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F12D8EDE-0F4A-44F5-8A57-C51DF5954423}"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79B6DDA-21C0-422C-BE5A-DAB61A0A41A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5" name="PlaceHolder 2"/>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D. Rosaci</a:t>
            </a:r>
            <a:endParaRPr b="0" lang="en-US" sz="1400" spc="-1" strike="noStrike">
              <a:solidFill>
                <a:srgbClr val="000000"/>
              </a:solidFill>
              <a:latin typeface="Times New Roman"/>
            </a:endParaRPr>
          </a:p>
        </p:txBody>
      </p:sp>
      <p:sp>
        <p:nvSpPr>
          <p:cNvPr id="86" name="PlaceHolder 3"/>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 processo SOA</a:t>
            </a:r>
            <a:endParaRPr b="0" lang="it-IT" sz="4400" spc="-1" strike="noStrike">
              <a:solidFill>
                <a:srgbClr val="000000"/>
              </a:solidFill>
              <a:latin typeface="Arial"/>
            </a:endParaRPr>
          </a:p>
        </p:txBody>
      </p:sp>
      <p:sp>
        <p:nvSpPr>
          <p:cNvPr id="1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inizia quando il business problem suggerisce l’uso di un approccio service oriented. Tipici candidati  sono i business problem che necessitano l’esposizione di un back office verso l’esterno del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spetto top down si evidenzia col prendere in considerazioni le prospettive di business aziendale: le business functions, i processi ed i sottoprocessi sono elaborati per delineare le componenti softw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ono i “mattoni” consentono la realizzazione dei servizi, che sono le unità software rese disponibili per l’orchestration, la choreography e la composizione delle applicazioni</a:t>
            </a:r>
            <a:endParaRPr b="0" lang="it-IT" sz="2000" spc="-1" strike="noStrike">
              <a:solidFill>
                <a:srgbClr val="000000"/>
              </a:solidFill>
              <a:latin typeface="Arial"/>
            </a:endParaRPr>
          </a:p>
        </p:txBody>
      </p:sp>
      <p:sp>
        <p:nvSpPr>
          <p:cNvPr id="121" name="PlaceHolder 3"/>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2" name="PlaceHolder 4"/>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dominio è suddiviso in</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Value chain</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Business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ub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se cases</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Il dominio consiste di una serie di aree funzionali, lungo le dimensioni chiamate value-net o value-chain.</a:t>
            </a:r>
            <a:endParaRPr b="0" lang="it-IT" sz="1600" spc="-1" strike="noStrike">
              <a:solidFill>
                <a:srgbClr val="000000"/>
              </a:solidFill>
              <a:latin typeface="Arial"/>
            </a:endParaRPr>
          </a:p>
          <a:p>
            <a:pPr indent="0">
              <a:spcBef>
                <a:spcPts val="1417"/>
              </a:spcBef>
              <a:buNone/>
              <a:tabLst>
                <a:tab algn="l" pos="0"/>
              </a:tabLst>
            </a:pPr>
            <a:endParaRPr b="0" lang="it-IT" sz="1600" spc="-1" strike="noStrike">
              <a:solidFill>
                <a:srgbClr val="000000"/>
              </a:solidFill>
              <a:latin typeface="Arial"/>
            </a:endParaRPr>
          </a:p>
        </p:txBody>
      </p:sp>
      <p:sp>
        <p:nvSpPr>
          <p:cNvPr id="125"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6"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8" name="PlaceHolder 2"/>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9" name="PlaceHolder 3"/>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0" name="Picture 2" descr=""/>
          <p:cNvPicPr/>
          <p:nvPr/>
        </p:nvPicPr>
        <p:blipFill>
          <a:blip r:embed="rId1"/>
          <a:stretch/>
        </p:blipFill>
        <p:spPr>
          <a:xfrm>
            <a:off x="1560600" y="1772640"/>
            <a:ext cx="7076160" cy="33840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decomponiamo ogni area funzionale in processi, sotto processi e use case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esempio avremo i seguenti use cases:</a:t>
            </a:r>
            <a:endParaRPr b="0" lang="it-IT"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1: Purchas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2: Sourc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3: Replenish Stock</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4: Supply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5: Manufacture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a:t>
            </a:r>
            <a:r>
              <a:rPr b="0" lang="en-US" sz="1800" spc="-1" strike="noStrike">
                <a:solidFill>
                  <a:srgbClr val="000000"/>
                </a:solidFill>
                <a:latin typeface="Arial"/>
              </a:rPr>
              <a:t>C6: Configure and Run Demo (non implementato)</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7: Log Event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8: View Events</a:t>
            </a:r>
            <a:endParaRPr b="0" lang="it-IT" sz="1800" spc="-1" strike="noStrike">
              <a:solidFill>
                <a:srgbClr val="000000"/>
              </a:solidFill>
              <a:latin typeface="Arial"/>
            </a:endParaRPr>
          </a:p>
        </p:txBody>
      </p:sp>
      <p:sp>
        <p:nvSpPr>
          <p:cNvPr id="133"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4"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6" name="PlaceHolder 2"/>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7" name="PlaceHolder 3"/>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1154880" y="1412640"/>
            <a:ext cx="7688160" cy="41040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i possiamo usare gli use cases per decomporre ulteriormente il domin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sono buoni candidati ad essere servizi che dovranno essere “esposti” come Web services su componenti aziendali</a:t>
            </a:r>
            <a:endParaRPr b="0" lang="it-IT" sz="2000" spc="-1" strike="noStrike">
              <a:solidFill>
                <a:srgbClr val="000000"/>
              </a:solidFill>
              <a:latin typeface="Arial"/>
            </a:endParaRPr>
          </a:p>
        </p:txBody>
      </p:sp>
      <p:sp>
        <p:nvSpPr>
          <p:cNvPr id="141"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2"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4" name="PlaceHolder 2"/>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5" name="PlaceHolder 3"/>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1938240" y="1395360"/>
            <a:ext cx="6083640" cy="4697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zione dei pattern</a:t>
            </a:r>
            <a:endParaRPr b="0" lang="it-IT" sz="4400" spc="-1" strike="noStrike">
              <a:solidFill>
                <a:srgbClr val="000000"/>
              </a:solidFill>
              <a:latin typeface="Arial"/>
            </a:endParaRPr>
          </a:p>
        </p:txBody>
      </p:sp>
      <p:sp>
        <p:nvSpPr>
          <p:cNvPr id="1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ogni passo dell’approccio SOA, è possibile sfruttare assets provenienti da esistenti Patterns per e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nizia con i Business Patterns, per definire i partecipanti al business e le loro relazioni, usando le aree funzionali e gli use cases identificati ne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abbiamo due modelli di Business da rappresenta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C tra il consumer e il business system del retailer</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B tra il warehouse del retailer e i manifacturer esterni</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Questo implica l’uso del Self-Service business pattern e dell’Extended Enterprise business pattern. </a:t>
            </a:r>
            <a:endParaRPr b="0" lang="it-IT" sz="1600" spc="-1" strike="noStrike">
              <a:solidFill>
                <a:srgbClr val="000000"/>
              </a:solidFill>
              <a:latin typeface="Arial"/>
            </a:endParaRPr>
          </a:p>
          <a:p>
            <a:pPr indent="0">
              <a:lnSpc>
                <a:spcPct val="100000"/>
              </a:lnSpc>
              <a:spcBef>
                <a:spcPts val="400"/>
              </a:spcBef>
              <a:buNone/>
              <a:tabLst>
                <a:tab algn="l" pos="0"/>
              </a:tabLst>
            </a:pPr>
            <a:endParaRPr b="0" lang="it-IT" sz="2000" spc="-1" strike="noStrike">
              <a:solidFill>
                <a:srgbClr val="000000"/>
              </a:solidFill>
              <a:latin typeface="Arial"/>
            </a:endParaRPr>
          </a:p>
        </p:txBody>
      </p:sp>
      <p:sp>
        <p:nvSpPr>
          <p:cNvPr id="149"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0"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anche usare l’Application Integration pattern per integrare i service consumers ed i service providers nella supply value ch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oltre possiamo usare l’Extended Business Pattern per i service consumers ed i service providers ai “confini” aziendali</a:t>
            </a:r>
            <a:endParaRPr b="0" lang="it-IT" sz="2000" spc="-1" strike="noStrike">
              <a:solidFill>
                <a:srgbClr val="000000"/>
              </a:solidFill>
              <a:latin typeface="Arial"/>
            </a:endParaRPr>
          </a:p>
        </p:txBody>
      </p:sp>
      <p:sp>
        <p:nvSpPr>
          <p:cNvPr id="153"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4"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6" name="PlaceHolder 2"/>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7" name="PlaceHolder 3"/>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1491840" y="1340640"/>
            <a:ext cx="7112160" cy="4821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8" name="PlaceHolder 2"/>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
        <p:nvSpPr>
          <p:cNvPr id="89"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SOA: Bridging IT e Business</a:t>
            </a:r>
            <a:endParaRPr b="0" lang="it-IT" sz="4000" spc="-1" strike="noStrike">
              <a:solidFill>
                <a:srgbClr val="000000"/>
              </a:solidFill>
              <a:latin typeface="Arial"/>
            </a:endParaRPr>
          </a:p>
        </p:txBody>
      </p:sp>
      <p:sp>
        <p:nvSpPr>
          <p:cNvPr id="90"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mportanza di SOA non è solo a livelli tecnologic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ssa fornisce un ponte tra tecnologia e business</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T fornisce interfacce ai business service e li combina in applicazioni che supportano i rapidi cambiamenti del business stess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dentificare l’insieme di servizi che un business richiede al proprio IT non è semplic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 necessaria un’attività specifica (Service Identification) che determini i servizi e le loro interdipendenze, così come i componenti a “grana grossa” che li supportano</a:t>
            </a:r>
            <a:endParaRPr b="0" lang="it-IT" sz="24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questo punto, possiamo descrivere i collegamenti tra i business use cases della supply chain management e le aree funzionali venute fuori da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use cases, specificheremo il pattern per l’e-business applicato</a:t>
            </a:r>
            <a:endParaRPr b="0" lang="it-IT" sz="2000" spc="-1" strike="noStrike">
              <a:solidFill>
                <a:srgbClr val="000000"/>
              </a:solidFill>
              <a:latin typeface="Arial"/>
            </a:endParaRPr>
          </a:p>
        </p:txBody>
      </p:sp>
      <p:sp>
        <p:nvSpPr>
          <p:cNvPr id="161"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2"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4" name="PlaceHolder 2"/>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5" name="PlaceHolder 3"/>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1140120" y="1652760"/>
            <a:ext cx="7752240" cy="4296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8" name="PlaceHolder 2"/>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3"/>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0" name="Picture 2" descr=""/>
          <p:cNvPicPr/>
          <p:nvPr/>
        </p:nvPicPr>
        <p:blipFill>
          <a:blip r:embed="rId1"/>
          <a:stretch/>
        </p:blipFill>
        <p:spPr>
          <a:xfrm>
            <a:off x="1334520" y="2277000"/>
            <a:ext cx="7221600" cy="208800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2-Goal-service model creation</a:t>
            </a:r>
            <a:endParaRPr b="0" lang="it-IT" sz="4400" spc="-1" strike="noStrike">
              <a:solidFill>
                <a:srgbClr val="000000"/>
              </a:solidFill>
              <a:latin typeface="Arial"/>
            </a:endParaRPr>
          </a:p>
        </p:txBody>
      </p:sp>
      <p:sp>
        <p:nvSpPr>
          <p:cNvPr id="17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dentificazione dei servizi permette di stabilire quali sono i servizi da esporre per 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nella domain decomposition sono buoni candidati come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mpletezza dei servizi candidati viene testata attraverso un modello goal-servi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modello si realizza intervistando i proprietari dell’azienda circa gli obiettivi dell’azienda stess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obiettivo viene poi partizionato in un insieme di sotto-obiettivi, e si continua così finchè non siano emersi i servizi candidati</a:t>
            </a:r>
            <a:endParaRPr b="0" lang="it-IT" sz="2000" spc="-1" strike="noStrike">
              <a:solidFill>
                <a:srgbClr val="000000"/>
              </a:solidFill>
              <a:latin typeface="Arial"/>
            </a:endParaRPr>
          </a:p>
        </p:txBody>
      </p:sp>
      <p:sp>
        <p:nvSpPr>
          <p:cNvPr id="173"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4"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goal-service model</a:t>
            </a:r>
            <a:endParaRPr b="0" lang="it-IT" sz="4400" spc="-1" strike="noStrike">
              <a:solidFill>
                <a:srgbClr val="000000"/>
              </a:solidFill>
              <a:latin typeface="Arial"/>
            </a:endParaRPr>
          </a:p>
        </p:txBody>
      </p:sp>
      <p:sp>
        <p:nvSpPr>
          <p:cNvPr id="176" name="PlaceHolder 2"/>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7" name="PlaceHolder 3"/>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8" name="Picture 2" descr=""/>
          <p:cNvPicPr/>
          <p:nvPr/>
        </p:nvPicPr>
        <p:blipFill>
          <a:blip r:embed="rId1"/>
          <a:stretch/>
        </p:blipFill>
        <p:spPr>
          <a:xfrm>
            <a:off x="1890720" y="1476000"/>
            <a:ext cx="5705280" cy="468900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completato i due step precedenti, abbiamo un’idea delle aree funzionali di cui si compone il nostro business dom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vogliamo muoverci verso decisioni di “design” e architettur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ub system analysis raffina i business use cases in system use cases che supportano un dato processo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urante questa analisi i componenti “business” e tecnici sono identificati come segue:</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1"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2"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analizza il flusso di processo del sottosistema (spesso una sequenza di use case) per scoprire/identificare dei componenti business “candi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utilizzano requisiti non funzionali per identificare componenti tecnich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dentificano le funzionalità richieste per ogni componente business, cioè gli use cases a livello di sistema che il componente deve support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scenario di esempio, i quattro sottosistemi identificati sono Retailer, Warehouce, Manifacturer e Logging Facilit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uno di questi sottosistemi espone un insieme di servizi busines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5"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6"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8" name="PlaceHolder 2"/>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9" name="PlaceHolder 3"/>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90" name="Picture 2" descr=""/>
          <p:cNvPicPr/>
          <p:nvPr/>
        </p:nvPicPr>
        <p:blipFill>
          <a:blip r:embed="rId1"/>
          <a:stretch/>
        </p:blipFill>
        <p:spPr>
          <a:xfrm>
            <a:off x="1337040" y="1340640"/>
            <a:ext cx="7313400" cy="37440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9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del sottosistema Retailer, dopo il pass del goal-service model, il business use case “Purchase Goods” è stato decomposto nei servizi “Get Catalog” e “Submit Or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sottosistema sfrutta componenti business e tecniche per realizzare lo use case associato e supportare i servizi business esposti, come ad esempio “Submit Order”</a:t>
            </a:r>
            <a:endParaRPr b="0" lang="it-IT" sz="2000" spc="-1" strike="noStrike">
              <a:solidFill>
                <a:srgbClr val="000000"/>
              </a:solidFill>
              <a:latin typeface="Arial"/>
            </a:endParaRPr>
          </a:p>
        </p:txBody>
      </p:sp>
      <p:sp>
        <p:nvSpPr>
          <p:cNvPr id="193"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4"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19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Dopo aver completato l’analisi, individuiamo le seguenti componenti a grana grossa che saranno implementate come servizi: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Retailer Service fornisce le funzionalità di accedere al catalogo prodotti e di emettere un ord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Service supporta la consegna dei prodotti ordinati e aggiorna l’iventario del magazzino. Quando l’inventario scende sotto una certa soglia, esso sottometterà un </a:t>
            </a:r>
            <a:r>
              <a:rPr b="0" lang="en-US" sz="2000" spc="-1" strike="noStrike">
                <a:solidFill>
                  <a:srgbClr val="000000"/>
                </a:solidFill>
                <a:latin typeface="Arial"/>
              </a:rPr>
              <a:t>Purchase Order (PO) </a:t>
            </a:r>
            <a:r>
              <a:rPr b="0" i="1" lang="en-US" sz="2000" spc="-1" strike="noStrike">
                <a:solidFill>
                  <a:srgbClr val="000000"/>
                </a:solidFill>
                <a:latin typeface="Arial"/>
              </a:rPr>
              <a:t>al Manufactur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Callback Service riceve una notifica dal manufacturer che il PO è stato processato</a:t>
            </a:r>
            <a:r>
              <a:rPr b="0" lang="en-US" sz="2000" spc="-1" strike="noStrike">
                <a:solidFill>
                  <a:srgbClr val="000000"/>
                </a:solidFill>
                <a:latin typeface="Arial"/>
              </a:rPr>
              <a:t>.</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197"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8"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2"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3"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4" name="Picture 2" descr=""/>
          <p:cNvPicPr/>
          <p:nvPr/>
        </p:nvPicPr>
        <p:blipFill>
          <a:blip r:embed="rId1"/>
          <a:stretch/>
        </p:blipFill>
        <p:spPr>
          <a:xfrm>
            <a:off x="1900080" y="1123920"/>
            <a:ext cx="5343120" cy="46098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2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Manufacturer Service accetta sottomissioni di PO e inizia il processo di manifatt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Logging Service registra gli eventi che accadono e supporta la ricerca di eventi nel registro degli event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E’ a questo punto che I servizi a grana grossa possono essere composti in un’orchestration. Tools di flow-modeling come IBM WebSphere Business Integration possono essere utilizzati a questo punto.</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01"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2"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pplication patterns aiutano a strutturare i servizi business e tecn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a soluzione semplificata, mostriamo i cinque servizi essenziali al business</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Retailer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callback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ogging facility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Manifacturer servic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Tra i servizi interni all’impresa, si userà un Direct Connection pattern, il più semplice tipo di interazione 1:1, che permette ad un consumer e ad un provider di comunicare direttamente. Per esempio, quando un customer sottomette un ordine, il Retailer Service manderà un messaggio al Warehouse Service per richiedere l’evazione dell’ordine</a:t>
            </a:r>
            <a:endParaRPr b="0" lang="it-IT" sz="1600" spc="-1" strike="noStrike">
              <a:solidFill>
                <a:srgbClr val="000000"/>
              </a:solidFill>
              <a:latin typeface="Arial"/>
            </a:endParaRPr>
          </a:p>
        </p:txBody>
      </p:sp>
      <p:sp>
        <p:nvSpPr>
          <p:cNvPr id="205"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6"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Router è applicato per la necessità del Warehouse di dover sottomettere un ordine al Manifacturer. Questo pattern si applica a soluzioni in cui un’applicazione source inizia un’interazione con una o più applicazioni target</a:t>
            </a:r>
            <a:endParaRPr b="0" lang="it-IT"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Direct Connection è utilizzato pedr il Warehouse Callback Service. Questo pattern in genere si utlizza per i servizi che possono essere invocati dall’esterno dell’impresa, da entità esterne come, in questo caso, il Manifacturer.</a:t>
            </a:r>
            <a:endParaRPr b="0" lang="it-IT" sz="1600" spc="-1" strike="noStrike">
              <a:solidFill>
                <a:srgbClr val="000000"/>
              </a:solidFill>
              <a:latin typeface="Arial"/>
            </a:endParaRPr>
          </a:p>
        </p:txBody>
      </p:sp>
      <p:sp>
        <p:nvSpPr>
          <p:cNvPr id="209"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12" name="PlaceHolder 2"/>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3" name="PlaceHolder 3"/>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14" name="Picture 2" descr=""/>
          <p:cNvPicPr/>
          <p:nvPr/>
        </p:nvPicPr>
        <p:blipFill>
          <a:blip r:embed="rId1"/>
          <a:stretch/>
        </p:blipFill>
        <p:spPr>
          <a:xfrm>
            <a:off x="1475640" y="1338840"/>
            <a:ext cx="7043040" cy="4753800"/>
          </a:xfrm>
          <a:prstGeom prst="rect">
            <a:avLst/>
          </a:prstGeom>
          <a:ln w="9525">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1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identificato i servizi tramite una combinazione di domain decomposition e goal-service modeling, adesso vogliamo assicurarci che ogni servizio abbia un corretto “posiziona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ervice allocation si chiede quali componenti forniranno un dato servizio ed il suo managemen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vogliono la flessibilità di poter rimpiazzare un’implementazione sulla base di nuovi requisiti funzionali, non funzionali o econom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altra parte i providers vogliono poter implementare le interfaccesulla base di componenti esistenti</a:t>
            </a:r>
            <a:endParaRPr b="0" lang="it-IT" sz="2000" spc="-1" strike="noStrike">
              <a:solidFill>
                <a:srgbClr val="000000"/>
              </a:solidFill>
              <a:latin typeface="Arial"/>
            </a:endParaRPr>
          </a:p>
        </p:txBody>
      </p:sp>
      <p:sp>
        <p:nvSpPr>
          <p:cNvPr id="217" name="PlaceHolder 3"/>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8" name="PlaceHolder 4"/>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20" name="PlaceHolder 2"/>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1" name="PlaceHolder 3"/>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22" name="Picture 2" descr=""/>
          <p:cNvPicPr/>
          <p:nvPr/>
        </p:nvPicPr>
        <p:blipFill>
          <a:blip r:embed="rId1"/>
          <a:stretch/>
        </p:blipFill>
        <p:spPr>
          <a:xfrm>
            <a:off x="1093680" y="1348560"/>
            <a:ext cx="7150320" cy="452844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nalisi di sottosistema, abbiamo identificato le interfacce dei sottosistemi, i system use cases ed i technical use case, le loro iterdipendenze e il loro fluss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service allocation abbiamo identificato quali componenti implementano ogni serviz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component specification per ogni componente occorre specificare le proprietà e le regole che devono soddisfare</a:t>
            </a:r>
            <a:endParaRPr b="0" lang="it-IT" sz="2000" spc="-1" strike="noStrike">
              <a:solidFill>
                <a:srgbClr val="000000"/>
              </a:solidFill>
              <a:latin typeface="Arial"/>
            </a:endParaRPr>
          </a:p>
        </p:txBody>
      </p:sp>
      <p:sp>
        <p:nvSpPr>
          <p:cNvPr id="225" name="PlaceHolder 3"/>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6" name="PlaceHolder 4"/>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8" name="PlaceHolder 2"/>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9" name="PlaceHolder 3"/>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0" name="Picture 2" descr=""/>
          <p:cNvPicPr/>
          <p:nvPr/>
        </p:nvPicPr>
        <p:blipFill>
          <a:blip r:embed="rId1"/>
          <a:stretch/>
        </p:blipFill>
        <p:spPr>
          <a:xfrm>
            <a:off x="1622520" y="1394640"/>
            <a:ext cx="6477840" cy="397800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per strutturare componenti e servizi</a:t>
            </a:r>
            <a:endParaRPr b="0" lang="it-IT" sz="4400" spc="-1" strike="noStrike">
              <a:solidFill>
                <a:srgbClr val="000000"/>
              </a:solidFill>
              <a:latin typeface="Arial"/>
            </a:endParaRPr>
          </a:p>
        </p:txBody>
      </p:sp>
      <p:sp>
        <p:nvSpPr>
          <p:cNvPr id="2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sare i runtime patterns per stabilire la struttura middleware necessaria a supportare i servizi identific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possiamo assegnare ogni servizio ad un nodo middleware</a:t>
            </a:r>
            <a:endParaRPr b="0" lang="it-IT" sz="2000" spc="-1" strike="noStrike">
              <a:solidFill>
                <a:srgbClr val="000000"/>
              </a:solidFill>
              <a:latin typeface="Arial"/>
            </a:endParaRPr>
          </a:p>
        </p:txBody>
      </p:sp>
      <p:sp>
        <p:nvSpPr>
          <p:cNvPr id="233"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4"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 runtime patterns</a:t>
            </a:r>
            <a:endParaRPr b="0" lang="it-IT" sz="4400" spc="-1" strike="noStrike">
              <a:solidFill>
                <a:srgbClr val="000000"/>
              </a:solidFill>
              <a:latin typeface="Arial"/>
            </a:endParaRPr>
          </a:p>
        </p:txBody>
      </p:sp>
      <p:sp>
        <p:nvSpPr>
          <p:cNvPr id="236" name="PlaceHolder 2"/>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7" name="PlaceHolder 3"/>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8" name="Picture 2" descr=""/>
          <p:cNvPicPr/>
          <p:nvPr/>
        </p:nvPicPr>
        <p:blipFill>
          <a:blip r:embed="rId1"/>
          <a:stretch/>
        </p:blipFill>
        <p:spPr>
          <a:xfrm>
            <a:off x="1619640" y="1293480"/>
            <a:ext cx="6552360" cy="48578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6" name="PlaceHolder 2"/>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7" name="PlaceHolder 3"/>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8" name="Picture 2" descr=""/>
          <p:cNvPicPr/>
          <p:nvPr/>
        </p:nvPicPr>
        <p:blipFill>
          <a:blip r:embed="rId1"/>
          <a:stretch/>
        </p:blipFill>
        <p:spPr>
          <a:xfrm>
            <a:off x="1619640" y="1340640"/>
            <a:ext cx="6562800" cy="4176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applicazione dei runtime patterns</a:t>
            </a:r>
            <a:endParaRPr b="0" lang="it-IT" sz="4400" spc="-1" strike="noStrike">
              <a:solidFill>
                <a:srgbClr val="000000"/>
              </a:solidFill>
              <a:latin typeface="Arial"/>
            </a:endParaRPr>
          </a:p>
        </p:txBody>
      </p:sp>
      <p:sp>
        <p:nvSpPr>
          <p:cNvPr id="2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re distinti runtime pattern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U2B, abbiamo la variazione 1 dello Stand Alone Single Channel runtime pattern. Questa variazione usa un Web Server redirector che contiene un Web server ed un Application server, che splitta le funzioni di application server su due macchine. L’application server risiede nella rete interna, per ragioni di sicurezza, e il suo nodo realizzerà sia la logica di presentazione che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er fornisce pagine statiche, ed un Web server redirector è usato per forwardare le richieste dal Web server all’application server</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1" name="PlaceHolder 3"/>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2" name="PlaceHolder 4"/>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runtime patterns</a:t>
            </a:r>
            <a:endParaRPr b="0" lang="it-IT" sz="4400" spc="-1" strike="noStrike">
              <a:solidFill>
                <a:srgbClr val="000000"/>
              </a:solidFill>
              <a:latin typeface="Arial"/>
            </a:endParaRPr>
          </a:p>
        </p:txBody>
      </p:sp>
      <p:sp>
        <p:nvSpPr>
          <p:cNvPr id="2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tra i servizi interni all’organizzazione, è utilizzato il Direct Connection runtime pattern. I connettori forniscono la connettività tra due compon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xposed Direct Connection runtime pattern fornisce la connettività per i servizi esterni al logging facilita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B2B, è utilizzata la variazione Router dell’Exposed Broker runtime pattern. Il router può operare il routing intelligente verso un servizio target alla volta.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e sono solo alcune tra le alternative possibili</a:t>
            </a:r>
            <a:endParaRPr b="0" lang="it-IT" sz="2000" spc="-1" strike="noStrike">
              <a:solidFill>
                <a:srgbClr val="000000"/>
              </a:solidFill>
              <a:latin typeface="Arial"/>
            </a:endParaRPr>
          </a:p>
        </p:txBody>
      </p:sp>
      <p:sp>
        <p:nvSpPr>
          <p:cNvPr id="245" name="PlaceHolder 3"/>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6" name="PlaceHolder 4"/>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echnology realization mapping</a:t>
            </a:r>
            <a:endParaRPr b="0" lang="it-IT" sz="4400" spc="-1" strike="noStrike">
              <a:solidFill>
                <a:srgbClr val="000000"/>
              </a:solidFill>
              <a:latin typeface="Arial"/>
            </a:endParaRPr>
          </a:p>
        </p:txBody>
      </p:sp>
      <p:sp>
        <p:nvSpPr>
          <p:cNvPr id="2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occorre specificare l’implementazione delle componenti de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tilizzare materiale già esistente, o acquistarne di nuo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generale, le alternative sono le segu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struire nuove funzionalità su softwar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Trasformare vecchi sistemi per riusarne le funzionalità in forma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ntegrare sistemi legac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mprare e integrare prodotti di terze par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Usare parzialmente risorse esterne, specialmente via Web services</a:t>
            </a:r>
            <a:endParaRPr b="0" lang="it-IT" sz="2000" spc="-1" strike="noStrike">
              <a:solidFill>
                <a:srgbClr val="000000"/>
              </a:solidFill>
              <a:latin typeface="Arial"/>
            </a:endParaRPr>
          </a:p>
        </p:txBody>
      </p:sp>
      <p:sp>
        <p:nvSpPr>
          <p:cNvPr id="249"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2" name="PlaceHolder 2"/>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3" name="PlaceHolder 3"/>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4" name="Picture 2" descr=""/>
          <p:cNvPicPr/>
          <p:nvPr/>
        </p:nvPicPr>
        <p:blipFill>
          <a:blip r:embed="rId1"/>
          <a:stretch/>
        </p:blipFill>
        <p:spPr>
          <a:xfrm>
            <a:off x="1475640" y="1282680"/>
            <a:ext cx="6480360" cy="4829040"/>
          </a:xfrm>
          <a:prstGeom prst="rect">
            <a:avLst/>
          </a:prstGeom>
          <a:ln w="9525">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6" name="PlaceHolder 2"/>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7" name="PlaceHolder 3"/>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8" name="Picture 2" descr=""/>
          <p:cNvPicPr/>
          <p:nvPr/>
        </p:nvPicPr>
        <p:blipFill>
          <a:blip r:embed="rId1"/>
          <a:stretch/>
        </p:blipFill>
        <p:spPr>
          <a:xfrm>
            <a:off x="1009800" y="1741680"/>
            <a:ext cx="7594200" cy="399132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1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Self-Service business pattern permette agli utenti di interagire con 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Collaboration pattern permette le collaborazioni tra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artners che in parte coinvolgono l’integrazione di servizi e in parte coinvolgono persone e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Extended Enterprise business pattern permette ad un business di interagire con altr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Questi Business patterns sono combinati al front-end usando Access Integration pattern e al back-end usando Application Integration pattern.</a:t>
            </a:r>
            <a:endParaRPr b="0" lang="it-IT" sz="2000" spc="-1" strike="noStrike">
              <a:solidFill>
                <a:srgbClr val="000000"/>
              </a:solidFill>
              <a:latin typeface="Arial"/>
            </a:endParaRPr>
          </a:p>
        </p:txBody>
      </p:sp>
      <p:sp>
        <p:nvSpPr>
          <p:cNvPr id="101" name="PlaceHolder 3"/>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2" name="PlaceHolder 4"/>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xample: Supply Chain Management</a:t>
            </a:r>
            <a:endParaRPr b="0" lang="it-IT" sz="4400" spc="-1" strike="noStrike">
              <a:solidFill>
                <a:srgbClr val="000000"/>
              </a:solidFill>
              <a:latin typeface="Arial"/>
            </a:endParaRPr>
          </a:p>
        </p:txBody>
      </p:sp>
      <p:sp>
        <p:nvSpPr>
          <p:cNvPr id="1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cenario di business: Supply Chain semplificata per un commerciante in elettronica (retail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possono accedere al sito Web, consultare il catalogo prodotti ed inserire ordini (TV, DVD players, video camere, ecc.): B2C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voce dell’ordine, il sistema verifica se c’è merce disponibile in magazzino. Altrimenti, viene ordinata la merce al fornitore esterno (Manifacturer):B2B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fornitore esterno non soddisfa immediatamente l’ordine, ma aspetta di raccogliere un certo numero di ordini</a:t>
            </a:r>
            <a:endParaRPr b="0" lang="it-IT" sz="2000" spc="-1" strike="noStrike">
              <a:solidFill>
                <a:srgbClr val="000000"/>
              </a:solidFill>
              <a:latin typeface="Arial"/>
            </a:endParaRPr>
          </a:p>
        </p:txBody>
      </p:sp>
      <p:sp>
        <p:nvSpPr>
          <p:cNvPr id="105"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6"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pply Chain Management</a:t>
            </a:r>
            <a:endParaRPr b="0" lang="it-IT" sz="4400" spc="-1" strike="noStrike">
              <a:solidFill>
                <a:srgbClr val="000000"/>
              </a:solidFill>
              <a:latin typeface="Arial"/>
            </a:endParaRPr>
          </a:p>
        </p:txBody>
      </p:sp>
      <p:sp>
        <p:nvSpPr>
          <p:cNvPr id="108" name="PlaceHolder 2"/>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9" name="PlaceHolder 3"/>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0" name="Picture 2" descr=""/>
          <p:cNvPicPr/>
          <p:nvPr/>
        </p:nvPicPr>
        <p:blipFill>
          <a:blip r:embed="rId1"/>
          <a:stretch/>
        </p:blipFill>
        <p:spPr>
          <a:xfrm>
            <a:off x="1360080" y="1700640"/>
            <a:ext cx="7134840" cy="3960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Metodo per scoprire servizi (top down) e per sfruttare servizi esistenti (bottom u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tte step princip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n sono step necessariamente sequenziali, ma spesso seguono un approccio iterativo ed esplor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può essere ottimizzato determinando quali step condurre in parallelo e quali sono invece dipendenti da altri step</a:t>
            </a:r>
            <a:endParaRPr b="0" lang="it-IT" sz="2000" spc="-1" strike="noStrike">
              <a:solidFill>
                <a:srgbClr val="000000"/>
              </a:solidFill>
              <a:latin typeface="Arial"/>
            </a:endParaRPr>
          </a:p>
        </p:txBody>
      </p:sp>
      <p:sp>
        <p:nvSpPr>
          <p:cNvPr id="113"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4"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6" name="PlaceHolder 2"/>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7" name="PlaceHolder 3"/>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8" name="Picture 2" descr=""/>
          <p:cNvPicPr/>
          <p:nvPr/>
        </p:nvPicPr>
        <p:blipFill>
          <a:blip r:embed="rId1"/>
          <a:stretch/>
        </p:blipFill>
        <p:spPr>
          <a:xfrm>
            <a:off x="1650240" y="1256760"/>
            <a:ext cx="6593760" cy="39002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Words>1985</Words>
  <Paragraphs>242</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01Z</dcterms:modified>
  <cp:revision>23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44</vt:r8>
  </property>
</Properties>
</file>