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163-B31C-41F5-B957-9A463F75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939-83FC-481B-BD15-6AAAAAAA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080-AD1F-454B-B129-B4D61B35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A02-F43F-497E-9784-1E0F4C6C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3EC-030D-4075-80C1-361FE1B4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A77-3ED6-4C91-BD71-712121C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781-E163-4439-9567-AE9CF5EE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840-618E-4C00-B145-967003EC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A5C-4F05-4548-95B5-86A0BCB5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B4B-3BCA-4401-A3E0-E4A6A91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AA6-141F-4A02-B47B-7E915793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AC8-C507-4C78-BE8E-4B54EF6D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FF015642-DA0C-4C34-BBD1-98AB0FED54B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147F1E-A50D-4705-9B29-AEC8CA6DD0F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A089230-E3C5-4F26-9139-CFC2ABC6CE7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Patterns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di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E-Business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volta definito il business pattern, occorre identificare le componenti logiche ad alto livello per realizzarlo: queste costituiscono l’application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istono più application pattern per realizzare un business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’application pattern può avere un presentation tier, un application tier ed un back-end application ti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: Directly Integrated Single Channe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575720" y="1845000"/>
            <a:ext cx="6945120" cy="367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: altro esemp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niamo che le polizze automobilistiche e le polizze sulla casa siano contenute in back end different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ora le richieste degli user, che possono riguardare dati differenti, devono essere decompos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tion pattern sarà diverso dal caso preceden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599120" y="1412640"/>
            <a:ext cx="6756120" cy="36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untime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pplication pattern può essere ulteriormente raffinato nelle funzioni che lo compongono. Ogni funzione costituisce un runtime nod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nodi possono coesistere sulla singola macchina, o essere distribuiti su più macchine (non è rilevante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:L’utente ha determinato che la sua soluzione si adatta ad un self-service business pattern realizzato con una Directly Integrated Single Channel application pattern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i runtime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3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051640" y="1266480"/>
            <a:ext cx="5616360" cy="481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uoli dei nodi di runtim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ion and application tier: implementati con un Web application server, che combina sia la funzione di HTTP server che quelle di application server: gestisce pagine Web statiche e dinamich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variante può essere data dallo split del Web application server in un HTTP server ed in un application server: altro runtime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o runtime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3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79640" y="1282320"/>
            <a:ext cx="5722560" cy="47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duct mapp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gni nodo di runtime, si individuano i prodotti adatti a realizzarlo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3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duct mapp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4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95560" y="1556640"/>
            <a:ext cx="7127640" cy="410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-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luzioni aziendali già esistenti, strutturate a lay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ntono il riuso di software concepito per risolvere una data tipologia di problem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livello di dettaglio è costruito sul livello preceden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sempio, la collezione di Pattern IBM comprende sette livell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est Practice Guidelin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attern fin qui mostrati servono a definire le specifiche del sistema e l’ambiente di rete. Nulla è detto sull’effettivo svilupp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guideline pattern definisce le tecniche idonee a sviluppare un application pattern, sulla base d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ign guideli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lop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 Manage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lop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4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 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atterns: identificano le interazioni tra utenti, business e dati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patterns: collegano più Business pattern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patterns: rappresentano combinazioni di Business ed Integration patterns di usale ricorrenza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atterns: Forniscono un layer concettuale che descrive come interagiscono le componenti applicative e I dati in un Business o Integration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patterns: definiscono la struttura logica middleware che supporta un Application pattern.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mappings: identifica implementazioni software provate e testate per og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untime pattern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practice guidelines: guidano nello sviluppo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 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02160" y="1182600"/>
            <a:ext cx="6388560" cy="4982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usiness patterns primar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91640" y="1237680"/>
            <a:ext cx="6336360" cy="4820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’uso di un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agnia assicurativa: si supponga che voglia ridurre i costi dei call centeer, permettendo ai clienti di accedere alle proprie polizze sul Web ed effettuando le modifiche volu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lf-service pattern si adatta perfettamente a questo cas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lf-service pattern è adatto quando è necessario consentire l’accesso diretto degli utenti alle applicazioni e ai dat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gr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21720" y="1845000"/>
            <a:ext cx="7286040" cy="309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116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binazione Business- Integration: Custom Desig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1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0280" y="1485360"/>
            <a:ext cx="6219720" cy="381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posite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2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90880" y="1192320"/>
            <a:ext cx="5289120" cy="511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  <Words>645</Words>
  <Paragraphs>90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3:35Z</dcterms:modified>
  <cp:revision>19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20</vt:r8>
  </property>
</Properties>
</file>