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6C0FC-91AA-4E1B-AB48-4798EC37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21946-3F6D-43A1-8A2A-9E1C09A0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D24AD-2317-4D93-B986-8040BDDC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EC1A9-3468-49C3-A0BB-22F41209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2BE91-E538-401C-A7E1-1C993348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9F515-C1CD-4B8D-B52E-D4A8813A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8E3F0-6276-4BA2-9363-C51ECA0A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76A79-94B4-4769-927C-914CF1C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5A223-4737-421F-8A95-191F7BB0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109F8-B12C-4A17-893D-5DAB6538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062CD-783C-4095-8632-8DCE014D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1E007-5471-4310-B550-648D0F60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0483E-886E-4800-94FA-10F3CDAD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5AEC7-74DC-4A69-8AD3-3C24F97E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68EAF-05AF-4531-BED5-CCB82113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7CAF9-5DC6-4CAC-855E-C8401BAD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9F1D7-D980-4A5E-9E0B-C201D551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979C9-6B7B-4FEF-B4E9-D7221418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A9373-192D-48D0-9F13-54030947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10AC7-6563-4551-A10C-61ED7A3C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504F5-099D-48CE-8B89-C37D0866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2ABA7-BD65-4F8A-A204-96B1EAC2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8269C-871C-4FCD-86CC-E030CB03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2EC6C-051F-4430-A90F-F8B37C33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4C20A-8491-4BEC-9841-7937FC85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94D0B-CA9F-4C3B-AEFA-335263AD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391D5-0F5B-47C4-9693-3962A93D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DEC460-1C4B-4220-A317-BF52D97A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E56AB-FAB0-47A4-A4F1-80349920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179EE-3B13-4DAC-95E9-813479D1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20AEF-F98F-48B8-B459-8D107469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83A45-E19C-46B1-9E0A-B011E649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37D96-458D-4E89-B480-1DC93952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3BA71-BCA3-48AD-8E7D-2BBEEF59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CB50A-CD14-4A4C-9FD5-27084C0A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D042B-3B4B-4F96-9E6E-27BFEC91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7DAE7-B728-445C-B600-98332B34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86922-98CB-4A59-A0AB-E136031A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77471-DC65-4595-B0CF-AB465D68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55CCC-66FE-4FD9-B978-82D9B121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5B023-1145-460E-AA4E-F643BFDD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3FB6E-2403-45F0-A9DB-0B8F49DD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3FB32-CA53-4B3A-A7E9-36F32B09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0DB56-E464-45EA-9D3F-79E38B8D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64BCC-B480-4C4A-AABE-F581C59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6946E-E330-446D-A991-824D4A8E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59AAB-08DC-4963-A777-10345086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3B518-E079-47C2-96B3-DB422225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B00C-EEAA-4479-BF7D-71CEDABF7F0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626D-5C2C-4FD0-BD4E-234DC01429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58DD-CFB7-4043-990D-EFB1CCF879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880A-89F0-44BC-A6F7-09D959FCA9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661E-CEA1-4AB2-8D21-5B431F4A1F9C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Sistemi Distribuit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 proces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26920" y="1413000"/>
            <a:ext cx="14472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di sleep() e join(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 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sleep(100) ;} catch(Iinterrupted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row new RuntimeException(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508720" y="1700280"/>
            <a:ext cx="302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metodo main() attende il completamento del thread prima di procedere con l’esecuzione: il programma si comporta adesso in modo determini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hread nei S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ntaggio: rendono più semplice la gestione di connessioni logiche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spetti specifici da consider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ient multi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rver multi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ent Multi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obiettivo dei sistemi distribuiti è quello di raggiungere un alto grado di trasparenza alla distrib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e reti globali, ciò comporta la necessità di nascondere i lunghi tempi di propagazione dei messaggi tra i processi (ordine delle centinai di millisec., o addirittura dei secon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odo per nascondere la latenza nella comunicazione: avviare la comunicazione stessa e immediatamente iniziare a fare qualcos’a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o: Browser Web: quando si carica una pagina Web, si prelevano dati spesso molto “pesanti” come immagini o oggetti multimediali. Per nascondere la latenza, il Browser spesso comincia a visualizzare i dati disponibili mentre ancora la comunicazione è in 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appena il file HTML è stato prelevato, si possono lanciare più thread indipendenti per prelevare i vari dati. Se un thread si blocca, gli altri non ne risent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o vantaggio: se il server è effettivamente replicato su più macchine per gestire flussi elevati di richieste, un client multi-thread può ottenere performance migliori perché è altamente probabile che i vari thread verrano eseguiti (in parallelo) da server differ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o principale del multithreading nei SD: lat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lifica notevolmente la scrittura del codice di u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consideri ad esempio un file server che occasionalmente deve bloccarsi in atte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file server attende la richiesta di un’operazione su un file, quindi la soddisfa ed invia la ri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ganizzazione possib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thread, il dispacher, legge le richieste in ingr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richieste sono inviate dai client al server ad una porta ben conosciu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er esamina la richiesta, sceglie un worker thread inattivo e gliela pa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worker va avanti eseguendo una lettura bloccante sul file system locale de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worker può rimanere bloccato in attesa dei dati da disco. Ma questo non blocca né il dispatcher ne gli altri worker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ta: senza il multithreading, il server rimarrebbe bloccato sulla singola richiesta, senza poter servire altre richies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o è un altro esempio di come i thread generalmente migliorino le prest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: Processo Server in JAV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ogliamo scrivere il codice di un programma server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farlo, dobbiamo introdurre due concetti base del linguaggio 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cke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 socket è una sorta di “terminazione” software di un collegamento bidirezionale tra un programma server ed uno o più programmi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 socket associa al programma server una specifica porta hardware sulla macchina su cui è eseguito, in modo tale che ogni programma client che sta in qualunque altro luogo nella rete con un socket associato a quella stessa porta può comunicare col programma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2538360" y="1703520"/>
          <a:ext cx="4554720" cy="28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1703520"/>
                    <a:ext cx="455472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SocketClient extends JFrame implements ActionListener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Label text, click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Button button;JPanel pan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TextField textFiel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socket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Client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 = new JLabel("Text to send over socket: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Field = new JTextField(20); button = new JButton("Click Me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 = new JPanel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Layout(new BorderLayout(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Background(Color.whit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North", tex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Center", textField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South", butto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//End Constru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actionPerformed(ActionEvent event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ject source = event.getSource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f(source == button){ //Send data over so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ing text = textField.getTex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.println(tex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Field.setText(new String(""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Receive text from 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String line = in.readLine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Text received :" + lin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Read failed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e di Proces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cesso: Programma in esec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Clas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nei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rt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Client e Processi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tra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86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listenSocket(){ //Create socket conn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= new Socket("kq6py", 4444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 = new PrintWriter(socket.getOutputStream(), 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= new Buffered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w InputStreamReader(socket.getInputStream()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UnknownHost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Unknown hos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No I/O"); 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86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Client frame = new SocketClien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Title("Client Program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windowClosing(WindowEvent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//fine della classe Socket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" name="Object 5"/>
          <p:cNvGraphicFramePr/>
          <p:nvPr/>
        </p:nvGraphicFramePr>
        <p:xfrm>
          <a:off x="2673360" y="1773360"/>
          <a:ext cx="4203720" cy="25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3360" y="1773360"/>
                    <a:ext cx="420372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Co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lass SocketServer extends JFrame implements ActionListener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Button butt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Label label = new JLabel("Text received over socket: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Panel pane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TextArea textArea = new JTextArea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erSocket server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 clien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ing line;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(){ //Begin Constru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 = new JButton("Click Me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 = new JPanel(); panel.setLayout(new BorderLayout()); panel.setBackground(Color.whit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Center", textArea); panel.add("South", butt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(){ //Begin Constru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 = new JButton("Click Me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 = new JPanel(); panel.setLayout(new BorderLayout()); panel.setBackground(Color.whit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Center", textArea); panel.add("South", butt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actionPerformed(ActionEvent event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ject source = event.getSourc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(source == button){ textArea.setText(line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blic void listenSocket(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rver = new ServerSocket(4444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Could not listen on port 4444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ent = server.accep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Accept failed: 4444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= new BufferedReader(new InputStreamReader(client.getInputStream())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 = new PrintWriter(client.getOutputStream(), tru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System.out.println("Accept failed: 4444"); System.exit(-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CONTINU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line = in.readLine(); //Send data back to cli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.println(lin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Read failed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//Fine funzione listen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tected void finalize(){ //Clean 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rver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catch (IOException e) { System.out.println("Could not close."); System.exit(-1)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 frame = new SocketServer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setTitle("Server Program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windowClosing(WindowEvent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//fine classe Socket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data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48836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permettere la connessione contemporanea di più client, il server deve usare più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411280" y="2766960"/>
          <a:ext cx="460872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766960"/>
                    <a:ext cx="460872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e di Proces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cesso: Programma in esec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Clas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nei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rt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Client e Processi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tra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Col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ClientWorker implements Runnable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ate Socket cli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ate JTextArea text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entWorker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client, JTextArea textArea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is.client = cli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is.textArea = text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run(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ing li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= new BufferedReader(new InputStreamReader(client.getInputStream(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ut = new PrintWriter(client.getOutputStream(), tru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out.println("in or out failed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line = in.readLine(); //Send data back to client out.println(line);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xtArea.append(line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System.out.println("Read failed"); System.exit(-1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} }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SocketThrdServer extends JFrame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Label label = new JLabel("Text received over socket: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Panel pan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TextArea textArea = new JTextArea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erSocket server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ThrdServer(){ //Begin Constru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 = new JPanel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Layout(new BorderLayout())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Background(Color.white)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Center", textAre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//End Constru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listenSocket(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er = new ServerSocket(444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System.out.println("Could not listen on port 4444"); System.exit(-1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lientWorker 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 = new ClientWorker(server.accept(), textArea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read t = new Thread(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out.println("Accept failed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4444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tected void finalize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server.close()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Could not close socke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ThrdServer frame = new SocketThrdServer(); frame.setTitle("Server Program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windowClosing(WindowEvent e) { System.exit(0); } 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cessi: Concetti di b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orso della sua attività il S.O. crea una serie di Processori Virtuali, ad ognuno dei quali è assegnato un processo (programma in esecuzi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.O. ha cura che i singoli processi non si disturbino a vicenda: è reso trasparente il fatto che i processi utilzzano la stessa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zzo della Trasparenza alla Concorren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processo deve avere uno spazio degli indirizzi in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devono gestire gli switch da un processo all’al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ai Processi ai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un processo, anche un thread esegue un suo pezzo di codice, indipendentemente dagli altri th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differenza dei processi, non c’è però un alto grado di trasparenza alla concorr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atti, un sistema a thread gestisce solo l’insieme minimo delle informazioni per permettere alla CPU di essere condivisa da più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ntesto di un thread è composto solo dal contesto della CPU e da qualche altra informazione sui thread in esecuzione (ad esempio un thread è bloccato e non può essere utilizz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il programmatore che deve proteggere i dati da accessi scorretti da parte dei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ntaggio rispetto ai processi: Prestazioni generalmente migliori, al prezzo di uno sforzo intellettuale da parte del programm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a come si usano i thread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usano per scomporre un processo in sotto parti elementari indipe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processi a singolo thread, quando si esegue una chiamata a sistema bloccante, si blocca tutto il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o: in un foglio elettronico, quando si inseriscono dati in una cella occorre poi eseguire computazioni che si ripercuotono su tutte le altre c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un solo thread, mentre si inseriscono i dati non si effettuano computazioni, e vice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più efficiente usare due thread, uno per gestire l’input della cella, l’altro per gestire le comput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altro grande vantaggio nel multi-threading si ha nei sistemi multiprocessore: ogni thread può essere assegnato ad un processore e ciò permette l’esecuzione parallela mentre i dati stanno su una memoria centrale condivisa (es. i server nelle applicazioni client-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mplice esempi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796000" y="15573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gramma crea cinque distinti thread, ognuno avente nome dato dalla variabile statica thr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thread ha il compito di contare da 100 a 1, a ritr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secuzione a video ha effetto imprevedibile, dovuto al fatto che i thread sono eseguiti indipendentemente, con una politica di assegnamento della CPU dipendente dalla J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indi un thread può essere interrotto mentre sta calcola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mplice esempi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796000" y="15573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gramma crea cinque distinti thread, ognuno avente nome dato dalla variabile statica thr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thread ha il compito di contare da 100 a 1, a ritr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secuzione a video ha effetto imprevedibile, dovuto al fatto che i thread sono eseguiti indipendentemente, con una politica di assegnamento della CPU dipendente dalla J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indi un thread può essere interrotto mentre sta calcola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di sleep(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 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sleep(100) ;} catch(Iinterrupted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row new RuntimeException(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508720" y="1700280"/>
            <a:ext cx="30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si ottiene molto: i thread continuano ad essere eseguiti indipend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0:57:15Z</dcterms:modified>
  <cp:revision>77</cp:revision>
  <dc:subject/>
  <dc:title>Diapositiva 1</dc:title>
</cp:coreProperties>
</file>