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838F-C2BC-4F70-ABEC-842559885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E3E5-F24B-4031-8417-DCFDE91E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E9F5-C581-4705-80B6-BEF04BB67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672D-3261-4EF8-8ECE-63E0BD2B9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16000" y="274680"/>
            <a:ext cx="7570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D49B-1692-4E4F-AC0A-9A487E1A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FC66-9651-4AE4-AD45-CEE286D1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C67E-AF50-4B18-9D7E-56EE530F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30CB-11C6-4F0E-B6FB-F35B7756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6000" y="274680"/>
            <a:ext cx="7570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D27C-48C6-41DD-B89F-76348DA9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DD4B-3D71-42FE-9217-635A21BC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C3DE-97FD-40B5-ADD3-1848FD8D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30B6-61D7-47F7-8B8B-907271B8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 hidden="1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64381582-3ACA-4210-AAAD-7CA4A2BC16FF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16E8368-63A3-4BAF-8DEE-CE0F70E9CEF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230106A4-764E-446F-AC1E-70DC629C383B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Fare clic per modificare stili del testo dello schema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condo livello</a:t>
            </a:r>
            <a:endParaRPr b="0" lang="it-IT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rzo livello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arto livello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into livello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1764720" y="119664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1" lang="it-IT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Corso di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               Ingegneria del Web e Applicazioni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A A. 2017-2018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Domenico Rosaci</a:t>
            </a:r>
            <a:br>
              <a:rPr sz="2400"/>
            </a:br>
            <a:br>
              <a:rPr sz="2400"/>
            </a:br>
            <a:r>
              <a:rPr b="1" lang="it-IT" sz="4800" spc="-1" strike="noStrike">
                <a:solidFill>
                  <a:srgbClr val="ffffff"/>
                </a:solidFill>
                <a:latin typeface="Tahoma"/>
              </a:rPr>
              <a:t>Patterns</a:t>
            </a:r>
            <a:br>
              <a:rPr sz="4800"/>
            </a:br>
            <a:r>
              <a:rPr b="1" lang="it-IT" sz="4800" spc="-1" strike="noStrike">
                <a:solidFill>
                  <a:srgbClr val="ffffff"/>
                </a:solidFill>
                <a:latin typeface="Tahoma"/>
              </a:rPr>
              <a:t>di</a:t>
            </a:r>
            <a:br>
              <a:rPr sz="4800"/>
            </a:br>
            <a:r>
              <a:rPr b="1" lang="it-IT" sz="4800" spc="-1" strike="noStrike">
                <a:solidFill>
                  <a:srgbClr val="ffffff"/>
                </a:solidFill>
                <a:latin typeface="Tahoma"/>
              </a:rPr>
              <a:t>E-Business</a:t>
            </a:r>
            <a:endParaRPr b="0" lang="it-IT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7812000" y="1413000"/>
            <a:ext cx="1331640" cy="502920"/>
          </a:xfrm>
          <a:prstGeom prst="rect">
            <a:avLst/>
          </a:prstGeom>
          <a:solidFill>
            <a:schemeClr val="tx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Application Pattern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a volta definito il business pattern, occorre identificare le componenti logiche ad alto livello per realizzarlo: queste costituiscono l’application pattern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sistono più application pattern per realizzare un business pattern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’application pattern può avere un presentation tier, un application tier ed un back-end application tier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22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23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Application Patterns: Directly Integrated Single Channel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2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2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1575720" y="1845000"/>
            <a:ext cx="6945120" cy="3672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Application patterns: altro esempio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upponiamo che le polizze automobilistiche e le polizze sulla casa siano contenute in back end different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lora le richieste degli user, che possono riguardare dati differenti, devono essere decomposte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’application pattern sarà diverso dal caso precedente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2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27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Application pattern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28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29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1599120" y="1412640"/>
            <a:ext cx="6756120" cy="3600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Runtime pattern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 application pattern può essere ulteriormente raffinato nelle funzioni che lo compongono. Ogni funzione costituisce un runtime node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esti nodi possono coesistere sulla singola macchina, o essere distribuiti su più macchine (non è rilevante)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s:L’utente ha determinato che la sua soluzione si adatta ad un self-service business pattern realizzato con una Directly Integrated Single Channel application pattern.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3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3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Esempio di runtime pattern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32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33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2051640" y="1266480"/>
            <a:ext cx="5616360" cy="4819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Ruoli dei nodi di runtime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sentation and application tier: implementati con un Web application server, che combina sia la funzione di HTTP server che quelle di application server: gestisce pagine Web statiche e dinamiche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a variante può essere data dallo split del Web application server in un HTTP server ed in un application server: altro runtime pattern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3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3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Altro runtime pattern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3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37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979640" y="1282320"/>
            <a:ext cx="5722560" cy="4738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Product mapping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ogni nodo di runtime, si individuano i prodotti adatti a realizzarlo.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38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39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Product mapping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4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ftr" idx="4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195560" y="1556640"/>
            <a:ext cx="7127640" cy="4104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Patterns per l’E-Busines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oluzioni aziendali già esistenti, strutturate a layer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sentono il riuso di software concepito per risolvere una data tipologia di problemi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gni livello di dettaglio è costruito sul livello precedente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esempio, la collezione di Pattern IBM comprende sette livelli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7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Best Practice Guideline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pattern fin qui mostrati servono a definire le specifiche del sistema e l’ambiente di rete. Nulla è detto sull’effettivo sviluppo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 guideline pattern definisce le tecniche idonee a sviluppare un application pattern, sulla base di: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sign guidelin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velopment guideline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ystem Management guideline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velopment guideline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42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43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Patterns per l’E Busines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patterns: identificano le interazioni tra utenti, business e dati.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ion patterns: collegano più Business patterns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site patterns: rappresentano combinazioni di Business ed Integration patterns di usale ricorrenza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patterns: Forniscono un layer concettuale che descrive come interagiscono le componenti applicative e I dati in un Business o Integration pattern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time patterns: definiscono la struttura logica middleware che supporta un Application pattern..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mappings: identifica implementazioni software provate e testate per ogn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Runtime pattern.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-practice guidelines: guidano nello sviluppo.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8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9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Patterns per l’E Busines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802160" y="1182600"/>
            <a:ext cx="6388560" cy="49824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Business patterns primar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12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13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691640" y="1237680"/>
            <a:ext cx="6336360" cy="48204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Esempio d’uso di un pattern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mpagnia assicurativa: si supponga che voglia ridurre i costi dei call centeer, permettendo ai clienti di accedere alle proprie polizze sul Web ed effettuando le modifiche volute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Self-service pattern si adatta perfettamente a questo caso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Self-service pattern è adatto quando è necessario consentire l’accesso diretto degli utenti alle applicazioni e ai dati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1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1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ntegration Pattern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17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521720" y="1845000"/>
            <a:ext cx="7286040" cy="3096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6000" y="11664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mbinazione Business- Integration: Custom Design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18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ftr" idx="19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520280" y="1485360"/>
            <a:ext cx="6219720" cy="3815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mposite Pattern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2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ftr" idx="2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2090880" y="1192320"/>
            <a:ext cx="5289120" cy="5116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2</TotalTime>
  <Application>LibreOffice/7.4.7.2$Linux_X86_64 LibreOffice_project/40$Build-2</Application>
  <AppVersion>15.0000</AppVersion>
  <Words>645</Words>
  <Paragraphs>90</Paragraphs>
  <Company>DIME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5:01:40Z</dcterms:created>
  <dc:creator>Domenico Rosaci</dc:creator>
  <dc:description/>
  <dc:language>en-US</dc:language>
  <cp:lastModifiedBy>Domenico Rosaci</cp:lastModifiedBy>
  <dcterms:modified xsi:type="dcterms:W3CDTF">2017-09-24T21:03:35Z</dcterms:modified>
  <cp:revision>190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Presentazione su schermo (4:3)</vt:lpwstr>
  </property>
  <property fmtid="{D5CDD505-2E9C-101B-9397-08002B2CF9AE}" pid="3" name="Slides">
    <vt:r8>20</vt:r8>
  </property>
</Properties>
</file>