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1FCC8D-ADDA-4248-8E8B-B2C52C9E5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CAA51-3B9A-4FDD-A661-67D4E5A8C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1E4DB-81F7-4EA0-9DE2-500B1BB67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42FB3-8856-4FC1-900E-8A7041F2C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C5654-7225-41F1-9F05-4AF05EA42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42C34-BA1B-4BA9-9198-3B72E5E3E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762DA-4A02-44C7-A8A2-AAD1F2986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17940-C90E-4CDE-B380-C5D055374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A90C4-6122-4854-854C-8622E3F00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C5B1D-8C2C-4AA3-9522-DDBCD9E43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B60A24-39C5-4546-8C22-8FEFC2E14F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C65238-C822-490F-8679-B7F7E7E757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257FC3-56F4-40C7-9759-5317BEDB87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0AB53B-2824-4F03-9686-14A70BF702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4084AE-3424-4687-AA74-8E0FAAF861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95114E-C793-4A1F-9FE6-6A2B3BBFA7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198F0C-E2A2-49D6-8A90-AE4A684251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4D94C8-B502-481C-99BF-499C39D757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CAB613-E733-4618-9D71-BDA2956A50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992AA0-FE80-40EC-AFB5-9FFE5D757F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76CABF-C582-4977-A1E6-9F6884A282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07731B-88C2-4BB9-A52C-B8CC61D31B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905212-FCC8-4B9C-A97F-6D8BA7063A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D08407-6408-4330-9284-E149C2CD2F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670B50-33E5-4E95-AFAA-338A950CA7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E6D8EB-5FE1-47DF-84FF-F8C265C368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DC1D5A-7C30-4451-9138-6D99F429CD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48B1B0-7B1D-43E4-82EA-6CD8BED7AE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969F49-82F4-4B67-B848-7A50404CDD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1C28E2-41E3-4A48-BF6D-C1FA2677A1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014B17-9B3D-46D7-A699-7ADD696C18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92A7F-882A-4076-969D-BC36B3A2E9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521D6E-F70D-4E89-AB17-B3D7C7A571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1076CE-E3FF-455A-9DB2-D84CF7AD5E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AA70CD-C048-45ED-AC63-5202D7FAE9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1401F4-68BF-48EC-9FAD-CAEC06CF34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3F6DDD-7EA9-47A6-97C8-0974E65DA6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5D23EE-479F-4ECC-8E76-B0074EB5C4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8D51E8-63D7-470D-ABE4-AB9FB185E1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7CCCE5-B799-41C4-B6D0-3B82477711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2DC1F3-EF0C-4171-81F3-9F3914AD4B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68E179-4317-49ED-8896-55A6536705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9F12EA-E238-4C82-869F-44E4C8BA71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7982CB-B918-42A2-AF97-0C26DD48BE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0044CB-A4E1-4BF8-B472-C40EA6F648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AEC464-05B0-4531-9FD0-CF08BC54AF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714F6C-8A7E-4E5D-9E2C-50F91ACDAC7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1F16DB5-0565-423C-9A72-0C1BCF299E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8EDC-F39F-4C19-B434-91E1CE2DD08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0D3E-3B66-4CB4-B10E-F2198E2D8F1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836B-9ECE-42DB-896B-5F395FC5AC9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D828-A44A-44BE-8FE9-1085F357E0E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3369-E461-4657-877E-72E025F0A329}"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tp://ftp.cs.vu.nl/" TargetMode="External"/><Relationship Id="rId2" Type="http://schemas.openxmlformats.org/officeDocument/2006/relationships/hyperlink" Target="ftp://ftp.cs.vu.n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Naming</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emplic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i sistemi i nomi sono stringhe di bit casuali, non struttur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ingu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uzioni sempl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rocci home-b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sh Table distrib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o per localizzare un’entità su reti loc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un messaggio contenente l’identificatore del mittente è messo in rete, ed è richiesto ad ogni macchina di controllare se possiede l’identificat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io usato nel protocollo di risoluzione degli indirizzi ARP per trovare l’indirizzo a livello data-link di una macchina dato il solo indirizzo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RP, una macchina mette in rete un messaggio chiedendo chi sia il proprietario di un certo indirizzo IP. Il destinatario risponde col suo indirizzo data-link (l’indirizzo Eth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broadcasting diventa inefficiente man mano che la rete cres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ernativa: Multicasting. Solo un numero ristretto di macchine riceve il messagg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 un impiegato di un’azienda, quando entra in rete, riceve oltre all’IP un’assegnazione ad un gruppo multicast. Se qualcuno lo cerca, manda la richiesta al gruppo multicast, specificando 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ltra soluzione semplice sono 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entità si sposta da A a B, lascia su A un forward alla sua nuova posizione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indi un client può rintracciare l’entità seguendo la catena d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convenient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tene possono diventare molto lungh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punto intermedio deve mantenere le informazioni di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a vulnerabile all’interruzione della cat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llustriamo tramite il sistema Ch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ord usa uno spazio degli identificatori a m bit per assegnare identificatori casuali ai nodi e chiavi a specifiche entit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mero di bit è di solito 128 o 160, a seconda di quale funzione di hash viene us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con chiave k cade sotto la giurisdizione del nodo con il più piccolo identificatore id maggiore o uguale a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o nodo è chiamato suc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one fondamentale: come risolvere la chiave k nell’indirizzo di suc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roccio ovvio (e non scalabile): ogni nodo p tiene traccia del suo predecessore pred(p) e del suo successore succ(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quando un nodo p riceve una richiesta con chiave k, vede se pred(p)&lt;k&lt;=p. In caso positivo, restituisce il suo stesso indirizzo come risposta alla richiesta. In caso negativo, inoltra la richiesta al suo predecessore o al suo successore, a seconda del valore di 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di questa ricerca è line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rd non usa l’approccio lineare, ma un approccio finger-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di Chord mantiene una tabella (finger table) di al massimo m ele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finger table F</a:t>
            </a:r>
            <a:r>
              <a:rPr b="0" lang="it-IT" sz="2000" spc="-1" strike="noStrike" baseline="-25000">
                <a:solidFill>
                  <a:srgbClr val="000000"/>
                </a:solidFill>
                <a:latin typeface="Arial"/>
              </a:rPr>
              <a:t>p </a:t>
            </a:r>
            <a:r>
              <a:rPr b="0" lang="it-IT" sz="2000" spc="-1" strike="noStrike">
                <a:solidFill>
                  <a:srgbClr val="000000"/>
                </a:solidFill>
                <a:latin typeface="Arial"/>
              </a:rPr>
              <a:t>del nodo p ci sono memorizzati gli indirizzi  di alcuni nodi successivi a p, dove la distanza tra i nodi cresce esponenzi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
            </a:r>
            <a:r>
              <a:rPr b="0" lang="it-IT" sz="2000" spc="-1" strike="noStrike" baseline="-25000">
                <a:solidFill>
                  <a:srgbClr val="000000"/>
                </a:solidFill>
                <a:latin typeface="Arial"/>
              </a:rPr>
              <a:t>p</a:t>
            </a:r>
            <a:r>
              <a:rPr b="0" lang="it-IT" sz="2000" spc="-1" strike="noStrike">
                <a:solidFill>
                  <a:srgbClr val="000000"/>
                </a:solidFill>
                <a:latin typeface="Arial"/>
              </a:rPr>
              <a:t>[i]=succ(p+2</a:t>
            </a:r>
            <a:r>
              <a:rPr b="0" lang="it-IT" sz="2000" spc="-1" strike="noStrike" baseline="30000">
                <a:solidFill>
                  <a:srgbClr val="000000"/>
                </a:solidFill>
                <a:latin typeface="Arial"/>
              </a:rPr>
              <a:t>i-1</a:t>
            </a:r>
            <a:r>
              <a:rPr b="0" lang="it-IT" sz="2000" spc="-1" strike="noStrike">
                <a:solidFill>
                  <a:srgbClr val="000000"/>
                </a:solidFill>
                <a:latin typeface="Arial"/>
              </a:rPr>
              <a:t>), i=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l’i-esimo elemento punta al nodo successivo a p di almeno 2</a:t>
            </a:r>
            <a:r>
              <a:rPr b="0" lang="it-IT" sz="2000" spc="-1" strike="noStrike" baseline="30000">
                <a:solidFill>
                  <a:srgbClr val="000000"/>
                </a:solidFill>
                <a:latin typeface="Arial"/>
              </a:rPr>
              <a:t>i-1 </a:t>
            </a:r>
            <a:r>
              <a:rPr b="0" lang="it-IT" sz="2000" spc="-1" strike="noStrike">
                <a:solidFill>
                  <a:srgbClr val="000000"/>
                </a:solidFill>
                <a:latin typeface="Arial"/>
              </a:rPr>
              <a:t>posiz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dividuare una chiave k, il nodo p stabilisce se è lui stesso a gestire k, altrimenti vede se k ricade tra p e F</a:t>
            </a:r>
            <a:r>
              <a:rPr b="0" lang="it-IT" sz="2000" spc="-1" strike="noStrike" baseline="-25000">
                <a:solidFill>
                  <a:srgbClr val="000000"/>
                </a:solidFill>
                <a:latin typeface="Arial"/>
              </a:rPr>
              <a:t>p</a:t>
            </a:r>
            <a:r>
              <a:rPr b="0" lang="it-IT" sz="2000" spc="-1" strike="noStrike">
                <a:solidFill>
                  <a:srgbClr val="000000"/>
                </a:solidFill>
                <a:latin typeface="Arial"/>
              </a:rPr>
              <a:t>[1] e in tal caso gira la richiesta a F</a:t>
            </a:r>
            <a:r>
              <a:rPr b="0" lang="it-IT" sz="2000" spc="-1" strike="noStrike" baseline="-25000">
                <a:solidFill>
                  <a:srgbClr val="000000"/>
                </a:solidFill>
                <a:latin typeface="Arial"/>
              </a:rPr>
              <a:t>p</a:t>
            </a:r>
            <a:r>
              <a:rPr b="0" lang="it-IT" sz="2000" spc="-1" strike="noStrike">
                <a:solidFill>
                  <a:srgbClr val="000000"/>
                </a:solidFill>
                <a:latin typeface="Arial"/>
              </a:rPr>
              <a:t>[1], altrimenti inoltra una richiesta al nodo q con indice j nella finger table tale ch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F</a:t>
            </a:r>
            <a:r>
              <a:rPr b="0" lang="it-IT" sz="2000" spc="-1" strike="noStrike" baseline="-25000">
                <a:solidFill>
                  <a:srgbClr val="000000"/>
                </a:solidFill>
                <a:latin typeface="Arial"/>
              </a:rPr>
              <a:t>p</a:t>
            </a:r>
            <a:r>
              <a:rPr b="0" lang="it-IT" sz="2000" spc="-1" strike="noStrike">
                <a:solidFill>
                  <a:srgbClr val="000000"/>
                </a:solidFill>
                <a:latin typeface="Arial"/>
              </a:rPr>
              <a:t>[j-1]&lt;k&lt;=F</a:t>
            </a:r>
            <a:r>
              <a:rPr b="0" lang="it-IT" sz="2000" spc="-1" strike="noStrike" baseline="-25000">
                <a:solidFill>
                  <a:srgbClr val="000000"/>
                </a:solidFill>
                <a:latin typeface="Arial"/>
              </a:rPr>
              <a:t>p</a:t>
            </a:r>
            <a:r>
              <a:rPr b="0" lang="it-IT" sz="2000" spc="-1" strike="noStrike">
                <a:solidFill>
                  <a:srgbClr val="000000"/>
                </a:solidFill>
                <a:latin typeface="Arial"/>
              </a:rPr>
              <a:t>[j]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7"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rca in Chord richiede solo log(N) passi, dove N è il numero di nodi nel siste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grande sistema distribuito i nodi generalmente entrano ed escono dal sistema continua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rata di un nodo in Chord è semplice. Quando p vuole unirsi al sistema, esso contatta un nodo arbitrario nel sistema e chiede la ricerca di succ(p+1). Una volta che questo nodo è stato identificato, p si inserisce nell’anello. Anche l’uscita ha analoga semplicit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sta nel tenere aggiornate le finger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71"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che ogni nodo q controlli la correttezza di F</a:t>
            </a:r>
            <a:r>
              <a:rPr b="0" lang="it-IT" sz="2400" spc="-1" strike="noStrike" baseline="-25000">
                <a:solidFill>
                  <a:srgbClr val="000000"/>
                </a:solidFill>
                <a:latin typeface="Arial"/>
              </a:rPr>
              <a:t>q</a:t>
            </a:r>
            <a:r>
              <a:rPr b="0" lang="it-IT" sz="2400" spc="-1" strike="noStrike">
                <a:solidFill>
                  <a:srgbClr val="000000"/>
                </a:solidFill>
                <a:latin typeface="Arial"/>
              </a:rPr>
              <a:t>[1], in quanto questo elemento si riferisce al nodo successivo a q nell’anello, ovvero a succ(q+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 deve periodicamente contattare succ(q+1) ed eseguire una ricerca di pred(succ(q+1)). Se q=pred(succ(q+1)) si ha consistenza, altrimenti vuol dire che un nuovo nodo p è entrato nell’anello, e quindi q deve aggiornare F</a:t>
            </a:r>
            <a:r>
              <a:rPr b="0" lang="it-IT" sz="2400" spc="-1" strike="noStrike" baseline="-25000">
                <a:solidFill>
                  <a:srgbClr val="000000"/>
                </a:solidFill>
                <a:latin typeface="Arial"/>
              </a:rPr>
              <a:t>q</a:t>
            </a:r>
            <a:r>
              <a:rPr b="0" lang="it-IT" sz="2400" spc="-1" strike="noStrike">
                <a:solidFill>
                  <a:srgbClr val="000000"/>
                </a:solidFill>
                <a:latin typeface="Arial"/>
              </a:rPr>
              <a:t>[1]= a 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questo punto occorre controllare che a anche p abbia aggiornato il proprio predecessore a q.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olli simili dovranno poi essere effettuati per tutti gli altri nodi della hash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trutturato</a:t>
            </a:r>
            <a:endParaRPr b="0" lang="en-US" sz="4400" spc="-1" strike="noStrike">
              <a:solidFill>
                <a:srgbClr val="ffffff"/>
              </a:solidFill>
              <a:latin typeface="Arial"/>
            </a:endParaRPr>
          </a:p>
        </p:txBody>
      </p:sp>
      <p:sp>
        <p:nvSpPr>
          <p:cNvPr id="275"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omi semplici si adattano bene alle macchine, ma non all’uomo che deve usarli con facilità e quindi memorizzar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naming strutturato, i nomi sono organizzati nel cosiddetto spazio dei no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può essere rappresentato con un grafo orientato e etichettato con due tipi di nod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fogl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direc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foglia</a:t>
            </a:r>
            <a:endParaRPr b="0" lang="en-US" sz="4000" spc="-1" strike="noStrike">
              <a:solidFill>
                <a:srgbClr val="ffffff"/>
              </a:solidFill>
              <a:latin typeface="Arial"/>
            </a:endParaRPr>
          </a:p>
        </p:txBody>
      </p:sp>
      <p:sp>
        <p:nvSpPr>
          <p:cNvPr id="279"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nodo foglia rappresenta una data entità e non ha archi in usc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genere contiene informazioni sull’entità (ad esempio il suo indirizzo) da fornire ai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ò contenere anche lo stato dell’entità, come nel caso dei file system dove i nodi foglia contengono i file veri e prop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ruolo dei nomi n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nomi sono usati per condividere le risorse, identificare univocamente le entità e far riferimento alla loro 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risovere i nomi è necessario implementare un sistema di na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aming nei SD si differenzia da quello per sistemi non distribuiti per l’implement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directory</a:t>
            </a:r>
            <a:endParaRPr b="0" lang="en-US" sz="4000" spc="-1" strike="noStrike">
              <a:solidFill>
                <a:srgbClr val="ffffff"/>
              </a:solidFill>
              <a:latin typeface="Arial"/>
            </a:endParaRPr>
          </a:p>
        </p:txBody>
      </p:sp>
      <p:sp>
        <p:nvSpPr>
          <p:cNvPr id="28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directory ha vari archi in uscita, ognuno etichettato con un n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odo directory contiene quindi una directory table, in cui ogni elemento rappresenta il nodo finale di un arco in uscita e l’etichetta dell’ar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che ha solo archi in uscita e nessuno in entrata è chiamato nodo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naming strutturato</a:t>
            </a:r>
            <a:endParaRPr b="0" lang="en-US" sz="4000" spc="-1" strike="noStrike">
              <a:solidFill>
                <a:srgbClr val="ffffff"/>
              </a:solidFill>
              <a:latin typeface="Arial"/>
            </a:endParaRPr>
          </a:p>
        </p:txBody>
      </p:sp>
      <p:pic>
        <p:nvPicPr>
          <p:cNvPr id="287" name="Picture 3" descr=""/>
          <p:cNvPicPr/>
          <p:nvPr/>
        </p:nvPicPr>
        <p:blipFill>
          <a:blip r:embed="rId1"/>
          <a:stretch/>
        </p:blipFill>
        <p:spPr>
          <a:xfrm>
            <a:off x="111600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orsi di naming</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percorso N in un grafo dei nomi può essere chiamato con la sequenza delle etichette degli archi corrispondenti a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N è il primo nodo de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rimo nodo in un pathname è il nodo root il percorso è detto percorso assoluto, altrimenti è detto percorso rela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lti spazi dei nomi sono organizzati come un albero, con un unico nodo radice e ammettendo un solo arco in entrata per ogni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i spazi, ogni nodo ha un unico pathname assol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spazi, è consentito che un nodo abbia più archi in entrata, ma non vengono ammessi cicli (grafi orientati acicl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dei nomi</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o un pathn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ccorre recuperare tutte le informazioni associate al nodo a cui il pathname pun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 dal nodo N del grafo dei nodi, dove si cerca nella directory table l’etichetta label-1 e che restituisce l’identificatore del nodo n1 a cui si riferisce label-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oluzione quindi continua col nodo n1, cercando nella table di n1 l’etichetta label-2 e restituendo il nodo assoc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arriva alla fine a restituire l’ultimo nodo del path, che è quello cercato, insieme alle informazioni ad esso assoc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hiusura</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meccanismo di chiusura specifica come e dove iniziare la risoluzione di un n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esempio, la risoluzione di un nome nel file system di UNIX fa uso del fatto che la posizione del nodo root nel disco logico che rappresenta il file system è implicitamente conosci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i uno spazio dei nomi</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costituisce il cuore di un naming serv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un servizio che consente agli utenti di aggiungere, eliminare e cercare no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implementato attraverso uno o più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rete è locale, basta un solo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il servizio è per reti geografiche, occorre distribuirlo su più name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opportuno suddividere lo spazio dei nomi in livelli logic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lobale</a:t>
            </a:r>
            <a:r>
              <a:rPr b="0" lang="it-IT" sz="2400" spc="-1" strike="noStrike">
                <a:solidFill>
                  <a:srgbClr val="000000"/>
                </a:solidFill>
                <a:latin typeface="Arial"/>
              </a:rPr>
              <a:t> è costituito dal nodo root e dai nodi immediatamente vicini alla root, caratterizzati da un alto livello di stabilità della directory table. Tali nodi rappresentano in genere istituzioni, aziende o gruppi di azien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amministrativo</a:t>
            </a:r>
            <a:r>
              <a:rPr b="0" lang="it-IT" sz="2400" spc="-1" strike="noStrike">
                <a:solidFill>
                  <a:srgbClr val="000000"/>
                </a:solidFill>
                <a:latin typeface="Arial"/>
              </a:rPr>
              <a:t> è costituito dai nodi che rappresentano singole entità (es. dipartimenti) che appartengono alla stessa unità amministr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estionale</a:t>
            </a:r>
            <a:r>
              <a:rPr b="0" lang="it-IT" sz="2400" spc="-1" strike="noStrike">
                <a:solidFill>
                  <a:srgbClr val="000000"/>
                </a:solidFill>
                <a:latin typeface="Arial"/>
              </a:rPr>
              <a:t> è costituito dai nodi che cambiano più frequentemente, ad es. associati agli host di una rete loc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spazio dei nomi nel DNS</a:t>
            </a:r>
            <a:endParaRPr b="0" lang="en-US" sz="4400" spc="-1" strike="noStrike">
              <a:solidFill>
                <a:srgbClr val="ffffff"/>
              </a:solidFill>
              <a:latin typeface="Arial"/>
            </a:endParaRPr>
          </a:p>
        </p:txBody>
      </p:sp>
      <p:sp>
        <p:nvSpPr>
          <p:cNvPr id="311" name="PlaceHolder 2"/>
          <p:cNvSpPr>
            <a:spLocks noGrp="1"/>
          </p:cNvSpPr>
          <p:nvPr>
            <p:ph/>
          </p:nvPr>
        </p:nvSpPr>
        <p:spPr>
          <a:xfrm>
            <a:off x="1116000" y="1599840"/>
            <a:ext cx="7570800" cy="4708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pazio dei nomi è suddiviso in parti non sovrapponibili, chiamate zone del D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 name="Picture 4" descr=""/>
          <p:cNvPicPr/>
          <p:nvPr/>
        </p:nvPicPr>
        <p:blipFill>
          <a:blip r:embed="rId1"/>
          <a:stretch/>
        </p:blipFill>
        <p:spPr>
          <a:xfrm>
            <a:off x="2124000" y="2282760"/>
            <a:ext cx="604836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lobale</a:t>
            </a:r>
            <a:endParaRPr b="0" lang="en-US" sz="4000" spc="-1" strike="noStrike">
              <a:solidFill>
                <a:srgbClr val="ffffff"/>
              </a:solidFill>
              <a:latin typeface="Arial"/>
            </a:endParaRPr>
          </a:p>
        </p:txBody>
      </p:sp>
      <p:sp>
        <p:nvSpPr>
          <p:cNvPr id="31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zona è implementata in un name server separ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i ogni livello devono soddisfare requisiti diver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el livello globale devono essere altamente disponibili (se uno di questi name server si guasta un’ampia parte dello spazio dei nomi diventa irragiungi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sto che le directory table del livello globale non cambiano spesso, i client possono memorizzare in memorie cache i risultati delle ricerche. I name server possono quindi non rispondere in tempi molto veloci alle richieste. E’ invece necessario avere un alto through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globale, disponibilità e prestazioni possono essere ottenute combinando meccanismi di caching con politiche di replicazione dei server (entrano qui in gioco problematiche di consistenza dei d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amministrativo</a:t>
            </a:r>
            <a:endParaRPr b="0" lang="en-US" sz="4000" spc="-1" strike="noStrike">
              <a:solidFill>
                <a:srgbClr val="ffffff"/>
              </a:solidFill>
              <a:latin typeface="Arial"/>
            </a:endParaRPr>
          </a:p>
        </p:txBody>
      </p:sp>
      <p:sp>
        <p:nvSpPr>
          <p:cNvPr id="32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nibilità di un name server a livello amministrativo è importante per i client della stessa azienda, ma non ha ripercussioni per gli utenti al di fuori dell’azien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merito alle prestazioni, si può fare un discorso simili a quello fatto per i name server del livello glob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a livello amministrativo le risposte alle ricerche devono essere più rapidi, così come gli aggiornamenti. E’ inaccettabile ad es. che un account per un nuovo utente richieda delle ore prima di essere attiv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a livello amministrativo si usano macchine ad alte prest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ome è una stringa di bit o caratteri utilizzati per riferirsi a un’ent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è una qualsiasi risorsa: un host, una stampante, un file, un ogget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operare su un’entità in genere occorre accedervi attraverso un access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ome del punto d’accesso di un’entità è chiamato </a:t>
            </a:r>
            <a:r>
              <a:rPr b="1" lang="it-IT" sz="2800" spc="-1" strike="noStrike">
                <a:solidFill>
                  <a:srgbClr val="000000"/>
                </a:solidFill>
                <a:latin typeface="Arial"/>
              </a:rPr>
              <a:t>indirizzo dell’entit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estionale</a:t>
            </a:r>
            <a:endParaRPr b="0" lang="en-US" sz="4000" spc="-1" strike="noStrike">
              <a:solidFill>
                <a:srgbClr val="ffffff"/>
              </a:solidFill>
              <a:latin typeface="Arial"/>
            </a:endParaRPr>
          </a:p>
        </p:txBody>
      </p:sp>
      <p:sp>
        <p:nvSpPr>
          <p:cNvPr id="32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estionale, i requisiti relativi alla disponibilità sono in genere meno impegnativ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spesso sufficiente usare una singola macchina dedicata come name server, correndo il rischio di temporanee indisponibilit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restazioni a questo livello sono invece un punto cruciale, e a causa dei continui aggiornamenti delle directory table, le politiche di caching sono spesso ineffic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riepilogo</a:t>
            </a:r>
            <a:endParaRPr b="0" lang="en-US" sz="4000" spc="-1" strike="noStrike">
              <a:solidFill>
                <a:srgbClr val="ffffff"/>
              </a:solidFill>
              <a:latin typeface="Arial"/>
            </a:endParaRPr>
          </a:p>
        </p:txBody>
      </p:sp>
      <p:graphicFrame>
        <p:nvGraphicFramePr>
          <p:cNvPr id="328" name=""/>
          <p:cNvGraphicFramePr/>
          <p:nvPr/>
        </p:nvGraphicFramePr>
        <p:xfrm>
          <a:off x="1249200" y="1816200"/>
          <a:ext cx="7570800" cy="3700440"/>
        </p:xfrm>
        <a:graphic>
          <a:graphicData uri="http://schemas.openxmlformats.org/drawingml/2006/table">
            <a:tbl>
              <a:tblPr/>
              <a:tblGrid>
                <a:gridCol w="1892520"/>
                <a:gridCol w="1893960"/>
                <a:gridCol w="1892160"/>
                <a:gridCol w="189216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le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mminist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stion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l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e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parti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nod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c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ssim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mpi di risposta alle ricer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lli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pagazione aggiornamen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di repli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 o poch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zione caching lato cli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ol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pponiamo per semplicità che non vi sia replicazione dei name server né uso di caching la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client ha accesso ad un name resolver locale, responsabile di avviare il processo di risol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di path da risolv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ot:&lt;nl,vu,cs,ftp,pub,globe,index.html&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corrispondente: ftp://ftp.cs.vu.nl/pub/globe/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meccanismi di risoluzione possibil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iterati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ricor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iterativa</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lver passa al root name server (di cui conosce l’indirizzo) il nome comple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nostro esempio, il root name server risolve l’indirizzo del nome nl e restituisce questo indirizzo al name resolv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ane resolver passa il resto del pathname, cioè nl:&lt;vu,cs,ftp,pub,globe,index.html&gt; a quel name server n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l può risolvere solo l’indirizzo di vu, e restituisce al name resolver il nome del name server di v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ver contatterà il name server di vu, che risolverà sia l’etichetta cs sia successivamente quella ftp, e quindi restituirà l’indirizzo del name server f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questo punto il name resolver contatterà il name server ftp, che risolverà le etichette pub,globe e index.html, e restituendo al name resolver l’indirizzo della risorsa (un file html) che potrà venire trasferita dal client mediante protocollo FT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ricorsiva</a:t>
            </a: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vece di restituire ogni risultato intermedio al name resolver del client, il name server contattato restituisce il risultato direttamente al name server succes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onveniente di questa risoluzione è che viene richiesto a ciascun name server un grado di prestazioni superi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solito questo carico è pesante, ed a livello globale i name server supportano solo la risoluzione iterati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oluzione ricorsiva: vantaggi</a:t>
            </a:r>
            <a:endParaRPr b="0" lang="en-US" sz="4000" spc="-1" strike="noStrike">
              <a:solidFill>
                <a:srgbClr val="ffffff"/>
              </a:solidFill>
              <a:latin typeface="Arial"/>
            </a:endParaRPr>
          </a:p>
        </p:txBody>
      </p:sp>
      <p:sp>
        <p:nvSpPr>
          <p:cNvPr id="3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ame server può gradualmente imparare, e salvare nella sua cache, gli indirizzi dei name server di livello più ba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lobale e a livello amministrativo gli indirizzi cambiano poco spesso, quindi il caching è molto effic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la comunicazione con la risoluzione ricorsiva è in genere più veloce, perché il name server contattato non deve restituire il risultato al name resol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in Name System (DNS)</a:t>
            </a: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NS di Internet è uno dei più diffusi servizi di naming distribuiti oggi in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sato per ricercare gli indirizzi IP degli host e dei mail 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organizzato gerarchicamente come un albero con ra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etichetta è una stringa case insensitive, alfanumerica, della lunghezza massima di 63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nghezza di un pathname completo è limitata a 255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ppresentazione in forma di stringa di un nome è costituita dall’elenco delle sue stringhe, da sinistra verso destra. La root è rappresentata da un pu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flits.cs.vu.nl. (il punto per semplicità si ome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o che un nodo ha esattamente un arco in entrata, l’etichetta di questo arco viene usata come nome del no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ottoalbero è chiamato dominio. Il path del nodo radice del sottoalbero è chiamato nome del domin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enuto di un nodo è costituito da un insieme di resouc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ipi di resource record</a:t>
            </a:r>
            <a:endParaRPr b="0" lang="en-US" sz="4000" spc="-1" strike="noStrike">
              <a:solidFill>
                <a:srgbClr val="ffffff"/>
              </a:solidFill>
              <a:latin typeface="Arial"/>
            </a:endParaRPr>
          </a:p>
        </p:txBody>
      </p:sp>
      <p:graphicFrame>
        <p:nvGraphicFramePr>
          <p:cNvPr id="356" name=""/>
          <p:cNvGraphicFramePr/>
          <p:nvPr/>
        </p:nvGraphicFramePr>
        <p:xfrm>
          <a:off x="1116000" y="1600200"/>
          <a:ext cx="7777080" cy="4673520"/>
        </p:xfrm>
        <a:graphic>
          <a:graphicData uri="http://schemas.openxmlformats.org/drawingml/2006/table">
            <a:tbl>
              <a:tblPr/>
              <a:tblGrid>
                <a:gridCol w="1008000"/>
                <a:gridCol w="1656000"/>
                <a:gridCol w="5113080"/>
              </a:tblGrid>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Tip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ntità assoc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scrizi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O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a zona rappresentata (es. indirizzo email dell’amministra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l’indirizzo IP dell’host (se l’host ha più IP, avremo un record per ogni 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l mail server associato al nodo (tutte le email indirizzate a questo nodo verranno recapitate al mail server specific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RV</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server che gestisce uno specifico servizio (es. Web serv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name server che implementa la zona rappresent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NA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o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nk simbolico con il nome primario del nodo rappresentato (un host può avere anche molti alias, che vengono implementati memorizzando in CNAME il nome primar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T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il nome canonico dell’host. E’ usato dal DNS in nodi creati per permettere di rintracciare il nome canonico di un host a partire dall’IP. Questi nodi si creano aggiungeno all’IP il suffisso in-addr.arp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INF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host associ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Qualun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qualunque informazione uti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c168c"/>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l DNS</a:t>
            </a:r>
            <a:endParaRPr b="0" lang="en-US" sz="4400" spc="-1" strike="noStrike">
              <a:solidFill>
                <a:srgbClr val="ffffff"/>
              </a:solidFill>
              <a:latin typeface="Arial"/>
            </a:endParaRPr>
          </a:p>
        </p:txBody>
      </p:sp>
      <p:sp>
        <p:nvSpPr>
          <p:cNvPr id="3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S è suddiviso solo in livello globale e livello amministrativo. Il livello gestionale è costituito dai file system locali e quindi non fa parte del D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zona è gestita da un name server primario, di solito replicato, che gestisce gli aggiornamenti, modificando la base di dati locale al DNS prima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ame server secondari di una zona non possono accedere alla base di dati, ma chiedono il trasferimento del contenuto al name server primario (trasferimento di zo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se di dati del name server è implementata come un insieme di file, il più importante dei quali contiene i resource records di tutti i nodi della zon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entità può avere più punti di accesso, quindi più indirizz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entità può cambiare indirizzo nel t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un’entità che cambia punto di accesso nel tempo, come viene identif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ono entità (ad esempio servizi Web) che sono associate a punti di accesso variabili nel tempo (ad esempio cambia la locazione della macchina server che li osp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omi di queste entità dovrebbero essere indipendenti dagli indirizzi (variabili) dei punti di accesso di volta in volta associa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base di dati DNS</a:t>
            </a:r>
            <a:endParaRPr b="0" lang="en-US" sz="4400" spc="-1" strike="noStrike">
              <a:solidFill>
                <a:srgbClr val="ffffff"/>
              </a:solidFill>
              <a:latin typeface="Arial"/>
            </a:endParaRPr>
          </a:p>
        </p:txBody>
      </p:sp>
      <p:pic>
        <p:nvPicPr>
          <p:cNvPr id="364" name="Picture 4" descr=""/>
          <p:cNvPicPr/>
          <p:nvPr/>
        </p:nvPicPr>
        <p:blipFill>
          <a:blip r:embed="rId1"/>
          <a:stretch/>
        </p:blipFill>
        <p:spPr>
          <a:xfrm>
            <a:off x="2075040" y="1184400"/>
            <a:ext cx="5521320" cy="505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ottodomini implementati in zone diverse</a:t>
            </a:r>
            <a:endParaRPr b="0" lang="en-US" sz="4000" spc="-1" strike="noStrike">
              <a:solidFill>
                <a:srgbClr val="ffffff"/>
              </a:solidFill>
              <a:latin typeface="Arial"/>
            </a:endParaRPr>
          </a:p>
        </p:txBody>
      </p:sp>
      <p:pic>
        <p:nvPicPr>
          <p:cNvPr id="368" name="Picture 4" descr=""/>
          <p:cNvPicPr/>
          <p:nvPr/>
        </p:nvPicPr>
        <p:blipFill>
          <a:blip r:embed="rId1"/>
          <a:stretch/>
        </p:blipFill>
        <p:spPr>
          <a:xfrm>
            <a:off x="1690560" y="1844640"/>
            <a:ext cx="6697800" cy="20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atiche sul naming</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un’entità ha più punti d’accesso, quale nome associare all’ent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un Web service di un’azienda è distribuito su più Web server, con differenti indirizzi. Quale indirizzo è il migli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ccorre un nome (nell’esempio, un nome per il Web service) </a:t>
            </a:r>
            <a:r>
              <a:rPr b="1" lang="it-IT" sz="3200" spc="-1" strike="noStrike">
                <a:solidFill>
                  <a:srgbClr val="000000"/>
                </a:solidFill>
                <a:latin typeface="Arial"/>
              </a:rPr>
              <a:t>indipendente dalla posizion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dentificator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nomi aventi particolari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al massimo ad una entità</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entità è referenziata al massimo da un identificat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sempre alla stessa entità (cioè non è mai riu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dirizzi e identificatori</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un indirizzo può essere assegnato a più entità, non è un nome adatto per fungere da identifica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i nomi sono particolarmente adatti per essere ricordati, e quindi usati facilmente, dalle persone: nomi </a:t>
            </a:r>
            <a:r>
              <a:rPr b="1" lang="it-IT" sz="2800" spc="-1" strike="noStrike">
                <a:solidFill>
                  <a:srgbClr val="000000"/>
                </a:solidFill>
                <a:latin typeface="Arial"/>
              </a:rPr>
              <a:t>human-friend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i nomi sono in genere rappresentati da stringhe di caratteri (es. nomi D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egame identificatore-indirizzo</a:t>
            </a:r>
            <a:endParaRPr b="0" lang="en-US" sz="40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è uno stretto legame tra la risoluzione dei nomi nei SD ed il routing de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istema di naming mantiene un collegamento nome-indirizzo per le entità</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tabella di coppie (nome,indirizzo)  non è però adatta a realizzare il naming dei sistemi distribuiti, che spesso si espandono in grandi reti di calcolato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ò che succede è che invece un nome viene scomposto in molte parti, come </a:t>
            </a:r>
            <a:r>
              <a:rPr b="0" lang="it-IT" sz="1800" spc="-1" strike="noStrike" u="sng">
                <a:solidFill>
                  <a:srgbClr val="009999"/>
                </a:solidFill>
                <a:uFillTx/>
                <a:latin typeface="Arial"/>
                <a:hlinkClick r:id="rId1"/>
              </a:rPr>
              <a:t>ftp.c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lient che ha bisogno di conoscere l’indirizzo del punto di accesso di </a:t>
            </a:r>
            <a:r>
              <a:rPr b="0" lang="it-IT" sz="1800" spc="-1" strike="noStrike" u="sng">
                <a:solidFill>
                  <a:srgbClr val="009999"/>
                </a:solidFill>
                <a:uFillTx/>
                <a:latin typeface="Arial"/>
                <a:hlinkClick r:id="rId2"/>
              </a:rPr>
              <a:t>ftp.cs.vu.nl</a:t>
            </a:r>
            <a:r>
              <a:rPr b="0" lang="it-IT" sz="1800" spc="-1" strike="noStrike">
                <a:solidFill>
                  <a:srgbClr val="000000"/>
                </a:solidFill>
                <a:latin typeface="Arial"/>
              </a:rPr>
              <a:t> risolverà prima nl per trovare il server NS(nl) responsabile dei nomi relativi a nl, quindi passerà il resto del nome a NS(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o risolverà il nome vu identificando il server NS(vu.nl) responsabile dei nomi che terminano con vu.nl, e passerà il resto del nome a N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continua così a procedere come sop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e tipologie di naming</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Semp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Gerarch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basato sugli attribu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18Z</dcterms:modified>
  <cp:revision>91</cp:revision>
  <dc:subject/>
  <dc:title>Diapositiva 1</dc:title>
</cp:coreProperties>
</file>