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62CF36-BCBB-4DAF-8A8C-EB7581589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DF21BA-708A-4D39-BC8B-9DFF766E6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44D3F1-C1DD-4073-B601-F4D5E7A2D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CB1A79-6DCD-45C5-BBE6-4D57D3AAA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FCF8D1-24C5-4EBE-8647-04EBC866A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557142-658E-4298-B1E5-7A19C62FE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6714B-14BA-45A2-A135-8257ED743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EA37C-659E-4DE2-A34A-A74ECC9C5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44CA7-FC89-4BC8-9353-0F1DC372C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AF535-9483-4EBD-BBC7-8BCF812CD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8FF8E9-E886-4375-9A3F-43E12172C8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11A831-45CC-40F3-B6C5-BA7417A85A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78906F5-B87B-4F77-B395-942F777D31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F290CD-2651-4AA7-A56E-04698F9205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5D4543-27DD-4A5B-A6DE-DE52249834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CFE060-E174-4CC9-882D-E5968CB6A1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21694F-4474-4F68-B411-22C9A6CD77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0E09B3-562B-4EA2-BB91-11CDDE5839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D52F46-C6D7-42CA-84DC-23E9BF0C46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ADE422-5E88-4AFC-BB9D-BF445C9F7D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08184E-3DB8-47E6-9042-4B84847DDA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A0151A-3723-4AD4-99EF-D778E92DA1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383D1B-6CAF-4F25-8159-55BD6BDF59F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679B6D1-90BF-403E-B63E-687AF2846D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0C39C09-7D7F-4F0C-BB74-C5FA4AA1AB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D4CA24-EE4B-4A08-89C3-D3AA652AD6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7F31D3-9615-4BD5-B2B6-350CD77690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7B4C84-985B-4E48-A7EE-555BE7C277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AD144B-0F66-492E-92C4-C4E569CA9A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19E92A-8416-4D00-AE48-8C61BB6D59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D5EC02-83B4-40CE-93A1-07FA7FADC1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632994-02DF-4A16-BB70-BA57B1E7DF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29C8FC-798D-475C-A53F-CE91A3476C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DDCF5F-7F11-465B-916A-ABF52B77A6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36E5E57-F712-4A8F-B4C3-E586F4C764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EB09C26-2789-4301-8ACC-1BC1BEEAC6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18D5322-2053-4E1C-B6E5-4062756C2CB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D14DAC-14E1-4B2A-B8F3-CD3A2D44DB9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368DDE-7AEC-4ECC-9DF7-4C9A5454274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38F59B-67D0-4125-981E-0B0E917D353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CF19C1-D237-466E-AE84-FB76AFFB40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188857-DDC5-4775-9DFD-B8EB8121035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2B7875-5941-4584-A77D-3D8F7B96724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2F5C1A-B44E-433F-A65F-58F8657549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910CEC-A2BA-4DC8-BF99-5F76281BCC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970E33-8874-410E-8D7E-A1B14D54CC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8C775F9-5D53-4652-9B2B-C31B15E1AF7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7FC7928-4A52-4276-82CF-4D1CF3A5FA1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AFD3-6965-41E6-9EED-608E2F1912A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Architettur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E73F-2231-470F-8643-D8B6488877E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A8D3-4945-46D9-9978-6322C91D991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8E74-67AF-4D2A-B06A-28092F1FE50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5F48-9C7D-4186-AA23-3C6352CE9589}"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 </a:t>
            </a:r>
            <a:br>
              <a:rPr sz="2400"/>
            </a:br>
            <a:r>
              <a:rPr b="1" lang="it-IT" sz="2400" spc="-1" strike="noStrike">
                <a:solidFill>
                  <a:srgbClr val="ffffff"/>
                </a:solidFill>
                <a:latin typeface="Tahoma"/>
              </a:rPr>
              <a:t>Architettur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lizzat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odello client-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erver è un processo che implementa uno specifico servizio (es. File System, Base di D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client è un processo che richiede un servizio a un server attendendone la risposta (comportamento domanda-rispo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senza Connessione</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client-server può essere implementata mediante un protocollo senza connessione, nel caso di reti affidabili (LAN). In questo caso, il client confeziona un messaggio identificando il servizio richiesto ed i dati necessari, mentre il server resta in attesa di messaggi, li processa, e confeziona la risposta per il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antaggio: efficienz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vantaggio: in caso di malfunzionamenti, il client è costretto a reinviare la richieste. Ma se l’originale risposta si era solo persa, allora il server dovrà effettuare più volte la stessa operazione (es. trasferire 10000 $ dal proprio co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con Connessione</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ssibilità alternativa: protocollo affidabile, orientato 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ntaggio: i messaggi non si per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vantaggio: Il costo è elev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datto su rete globale, es. TCP/IP su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i Logici del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ll’interfaccia u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applicativ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i dati</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due ultimi livelli possono essere psoizionati sul client, sul server, o su entramb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noti che i livelli fisici sono invece solo due: il client ed il ser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1</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tore di ricerca sul We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faccia (front-end):l’utente digita delle keyword e gli viene ritornata una lista di collega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dei dati (back-end) è costituito da una vasta base di dati di pagine Web prelevate e indicizz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applicativo (cuore del sistema) è un programma che accetta in ingresso le keywords e genera interrogazioni per la base di dati del back-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2</a:t>
            </a:r>
            <a:endParaRPr b="0" lang="en-US" sz="40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a di Supporto alle Decisioni per una mediazione di merc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ront-End: Interfaccia U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ack-End: Base di Dati con dati finanzia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 delle Applicazioni: Programmi di Analisi Finanzi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1</a:t>
            </a:r>
            <a:endParaRPr b="0" lang="en-US" sz="40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ul cl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grammi che implementano il livello applicativo e il livello dati sul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aspetto è quindi gestito dal server, mentre il client è solo uno “stupido” termi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2</a:t>
            </a:r>
            <a:endParaRPr b="0" lang="en-US" sz="40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olo parzialmente sul client. Sono presenti sul client solo gli aspetti dipendenti dal termin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pplicazioni (che stanno sul server insieme ai dati) hanno il controllo (remoto) sulla presentazione dei loro da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3</a:t>
            </a:r>
            <a:endParaRPr b="0" lang="en-US" sz="40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grafica e parte dell’applicazione sono posizionate sul client. Esempio: l’applicazione fa uso di una form che deve essere compilata prima di essere processata. La compilazione potrebbe avvenire sul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l server stanno le restanti applicazioni e i dat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4</a:t>
            </a:r>
            <a:endParaRPr b="0" lang="en-US" sz="40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e tutte le applicazioni stanno sul client. Esempio: la macchina client è un PC connesso con una base di dati remota. E’ il caso delle applicazioni bancarie, che spesso vengono eseguite sulla macchina dell’utente finale, mentre il server della banca serve solo da base di d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o importante d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parazione delle applicazioni dalle piattaforme sottostanti (strato di middle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arantire la trasparenza alla distribuzione: il middleware deve essere adattab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rie tecniche per ottenere l’adattabil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5</a:t>
            </a:r>
            <a:endParaRPr b="0" lang="en-US" sz="40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tutte le applicazioni e parte dei dati stanno sul client. Esempio: la macchina client è un PC connesso con una base di dati remota. Ad esempio, navigando sul Web un client può gradatamente costruire una vasta cache sul disco locale delle pagine visitate più di rec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la parte restante de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Tendenze Attuali</a:t>
            </a:r>
            <a:endParaRPr b="0" lang="en-US" sz="40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cerca di evitare l’uso delle alternative 4 e 5 (Fat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fat client rende il software lato client più soggetto ad errori e più dipendente dalla piattaforma del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iù usate le alternative 1,2 e 3 (Thin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otrebbe pensare che questo significhi che non vogliamo distribuire le risorse. In realtà, non vogliamo distribuire le risorse sui client, e preferiamo distribuire le risorse su più server. Per far questo però il server deve poter agire anche da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tal modo passiamo da architetture a due livelli fisici ad architetture a tre livelli fisic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Architettura a 3 livelli fisici</a:t>
            </a:r>
            <a:endParaRPr b="0" lang="en-US" sz="40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ganizzazione di un Sito Web di E-Comm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erver Web opera come punto d’ingresso al sito. Può contenere applicazioni come ad esempio l’elaborazione di una richiesta di un prodotto proveniente dal client (Application Ser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pplication Server a sua volta interagisce con un server di una base di dati (Database Ser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ecentralizzate</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rchitetture a tre livelli fisici prima introdotto sono un esempio di </a:t>
            </a:r>
            <a:r>
              <a:rPr b="1" lang="it-IT" sz="2800" spc="-1" strike="noStrike">
                <a:solidFill>
                  <a:srgbClr val="000000"/>
                </a:solidFill>
                <a:latin typeface="Arial"/>
              </a:rPr>
              <a:t>distribuzione verticale</a:t>
            </a:r>
            <a:r>
              <a:rPr b="0" lang="it-IT" sz="2800" spc="-1" strike="noStrike">
                <a:solidFill>
                  <a:srgbClr val="000000"/>
                </a:solidFill>
                <a:latin typeface="Arial"/>
              </a:rPr>
              <a:t>: componenti logicamente diversi vengono posizionati su macchine diver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distribuzione verticale è solo un modo di organizzare le applicazioni client-serv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architetture moderne si è invece più interessati a come sono distribuiti i client ed i server: </a:t>
            </a:r>
            <a:r>
              <a:rPr b="1" lang="it-IT" sz="2800" spc="-1" strike="noStrike">
                <a:solidFill>
                  <a:srgbClr val="000000"/>
                </a:solidFill>
                <a:latin typeface="Arial"/>
              </a:rPr>
              <a:t>distribuzione orizzont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ortante classe di sistemi che supportano la distribuzione orizzontale: </a:t>
            </a:r>
            <a:r>
              <a:rPr b="1" lang="it-IT" sz="2800" spc="-1" strike="noStrike">
                <a:solidFill>
                  <a:srgbClr val="000000"/>
                </a:solidFill>
                <a:latin typeface="Arial"/>
              </a:rPr>
              <a:t>sistemi peer-to pe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peer-to-peer</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unità agisce sia come client che come server (unità </a:t>
            </a:r>
            <a:r>
              <a:rPr b="1" lang="it-IT" sz="3200" spc="-1" strike="noStrike">
                <a:solidFill>
                  <a:srgbClr val="000000"/>
                </a:solidFill>
                <a:latin typeface="Arial"/>
              </a:rPr>
              <a:t>servent</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fondamentale: organizzare i processi in una rete i cui nodi sono i processi stessi e gli archi sono i canali di comunicazione (reti overl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tipi di reti overla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ruttur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struttu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strutturate </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ete overlay è costruita usando una procedura determinis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cessi sono organizzati attraverso una Hash Table Distribuita (D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i dati viene assegnata una chiave casuale in uno spazio di identificatori grande (es. 128 b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ai nodi della rete è assegnato un numero causale preso dallo stesso spazio di identifcator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istema basato su DHT usa un qualche schema efficiente e deterministico per mappare la chiave di un dato nell’identificatore di un nodo, basandosi su qualche metrica di distanz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si cerca un dato, il sistema è in grado di restituire l’inidirizzo di rete del nodo associato al d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strutturato: il sistema CHORD </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di logicamente organizzati in un anello, tale per cui un dato con chiave k è mappato in un nodo con il più piccolo identificatore id</a:t>
            </a:r>
            <a:r>
              <a:rPr b="0" lang="it-IT" sz="2800" spc="-1" strike="noStrike">
                <a:solidFill>
                  <a:srgbClr val="000000"/>
                </a:solidFill>
                <a:latin typeface="Arial"/>
                <a:ea typeface="Arial"/>
              </a:rPr>
              <a:t>≥k. Questo nodo è chiamato successore di k, suc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Un applicazione in esecuzione su un nodo arbitrario e che sta cercando il dato k, chiamerà la funzione lookup(k) che restituirà l’indirizzo di rete del nodo succ(k) in cui risiede il dato k. Questo nodo sarà poi contattato per ottenere una copia del d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11" name="Text Box 5"/>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12" name="Oval 6"/>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7"/>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14" name="Text Box 8"/>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15" name="Text Box 9"/>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16" name="Oval 10"/>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11"/>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18" name="Text Box 12"/>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19" name="Text Box 13"/>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20" name="Oval 14"/>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5"/>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22" name="Text Box 16"/>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23" name="Text Box 17"/>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24" name="Text Box 18"/>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25" name="Text Box 19"/>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26" name="Oval 20"/>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21"/>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28" name="Text Box 22"/>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29" name="Oval 23"/>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24"/>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31" name="Text Box 25"/>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32" name="Text Box 26"/>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33" name="Text Box 27"/>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34" name="Text Box 28"/>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35" name="Text Box 29"/>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36" name="Text Box 30"/>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rata di un nodo in CHORD</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un nodo vuole entrare nel sistema, genera causalmente un identificatore id (la probabilità di generare un id già esistente è tendente a 0, se lo spazio degli id. è gran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do fa una ricerca dell’id, che restituisce succ(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ene contattato succ(id), e il nuovo nodo si unisce adesso. Poiché ogni nodo memorizza inoltre il suo predecessore, viene contattato anche il predecessore di succ(id) che diventa predecessore del nuovo n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dati associati al nuovo nodo id sono ora trasferiti dal vecchio nodo succ(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44" name="Text Box 3"/>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45" name="Oval 4"/>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5"/>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47" name="Text Box 6"/>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48" name="Text Box 7"/>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49" name="Oval 8"/>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9"/>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51" name="Text Box 10"/>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52" name="Text Box 11"/>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53" name="Oval 12"/>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3"/>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55" name="Text Box 14"/>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56" name="Text Box 15"/>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57" name="Text Box 16"/>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58" name="Text Box 17"/>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59" name="Oval 18"/>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19"/>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61" name="Text Box 20"/>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62" name="Oval 21"/>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2"/>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64" name="Text Box 23"/>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65" name="Text Box 24"/>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66" name="Text Box 25"/>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67" name="Text Box 26"/>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68" name="Text Box 27"/>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69" name="Text Box 28"/>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
        <p:nvSpPr>
          <p:cNvPr id="370" name="Oval 29"/>
          <p:cNvSpPr/>
          <p:nvPr/>
        </p:nvSpPr>
        <p:spPr>
          <a:xfrm>
            <a:off x="3276720" y="55166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30"/>
          <p:cNvSpPr/>
          <p:nvPr/>
        </p:nvSpPr>
        <p:spPr>
          <a:xfrm>
            <a:off x="3203640" y="5516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72" name="Text Box 31"/>
          <p:cNvSpPr/>
          <p:nvPr/>
        </p:nvSpPr>
        <p:spPr>
          <a:xfrm>
            <a:off x="3562200" y="1971720"/>
            <a:ext cx="2665440" cy="25491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 nodo vuole entrar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genere random l’id 10</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succ(10) cioè 12</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prec(12) cioè 7</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spostano sul nodo 10 i dati 8,9,10</a:t>
            </a:r>
            <a:endParaRPr b="0" lang="en-US" sz="1600" spc="-1" strike="noStrike">
              <a:solidFill>
                <a:srgbClr val="000000"/>
              </a:solidFill>
              <a:latin typeface="Arial"/>
            </a:endParaRPr>
          </a:p>
        </p:txBody>
      </p:sp>
      <p:sp>
        <p:nvSpPr>
          <p:cNvPr id="373" name="Line 33"/>
          <p:cNvSpPr/>
          <p:nvPr/>
        </p:nvSpPr>
        <p:spPr>
          <a:xfrm flipV="1">
            <a:off x="3708360" y="5229360"/>
            <a:ext cx="1871640" cy="504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4"/>
          <p:cNvSpPr/>
          <p:nvPr/>
        </p:nvSpPr>
        <p:spPr>
          <a:xfrm flipH="1" flipV="1">
            <a:off x="2916000" y="3573000"/>
            <a:ext cx="431640" cy="201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ili Architettura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esprimono in termini d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nessione de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i scambiati tra 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à di cofigurazione dei componenti</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mponente è un’unità modulare con interfacce ben definite e sostituibile nel suo ambi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nnettore è un meccanismo che media la comunicazione tra due compon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ttro principali architettu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a livelli (laye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ogget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centrate sui da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eve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cita di un nodo in CHORD</a:t>
            </a: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odo uscente informa della sua dipartita il suo successore e il suo success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i i dati del nodo uscente vengono trasferiti al success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non strutturate</a:t>
            </a:r>
            <a:endParaRPr b="0" lang="en-US" sz="4000" spc="-1" strike="noStrike">
              <a:solidFill>
                <a:srgbClr val="ffffff"/>
              </a:solidFill>
              <a:latin typeface="Arial"/>
            </a:endParaRPr>
          </a:p>
        </p:txBody>
      </p:sp>
      <p:sp>
        <p:nvSpPr>
          <p:cNvPr id="3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p2p non strutturati si basano su algoritmi casuali per la costruzione di reti overlay: ogni nodo mantiene una lista dei vicini, costruita in maniera più o meno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che i dati sono posizionati sui nodi in maniera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indi, quando un nodo ha bisogno di trovare un dato, non può che inondare la rete con un’interrogazione per la ricer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nodo mantiene una lista dei vicini, scelta in maniera casuale, chiamata </a:t>
            </a:r>
            <a:r>
              <a:rPr b="1" lang="it-IT" sz="2400" spc="-1" strike="noStrike">
                <a:solidFill>
                  <a:srgbClr val="000000"/>
                </a:solidFill>
                <a:latin typeface="Arial"/>
              </a:rPr>
              <a:t>vista parzial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vari framework esistenti differiscono per il modo in cui si costruisce la lista parzi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non strutturato (Jelasity et al., 2005)</a:t>
            </a:r>
            <a:endParaRPr b="0" lang="en-US" sz="4000" spc="-1" strike="noStrike">
              <a:solidFill>
                <a:srgbClr val="ffffff"/>
              </a:solidFill>
              <a:latin typeface="Arial"/>
            </a:endParaRPr>
          </a:p>
        </p:txBody>
      </p:sp>
      <p:sp>
        <p:nvSpPr>
          <p:cNvPr id="3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o framework si suppone che i nodi si scambino periodicamente gli elementi delle loro viste parzia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cordiamo che ogni elemento della vista parziale è un nodo della rete, ed ha un’età associata che indica da quanto tempo esiste un riferimento a quel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usa due thread distinti: un </a:t>
            </a:r>
            <a:r>
              <a:rPr b="1" lang="it-IT" sz="2000" spc="-1" strike="noStrike">
                <a:solidFill>
                  <a:srgbClr val="000000"/>
                </a:solidFill>
                <a:latin typeface="Arial"/>
              </a:rPr>
              <a:t>thread attivo</a:t>
            </a:r>
            <a:r>
              <a:rPr b="0" lang="it-IT" sz="2000" spc="-1" strike="noStrike">
                <a:solidFill>
                  <a:srgbClr val="000000"/>
                </a:solidFill>
                <a:latin typeface="Arial"/>
              </a:rPr>
              <a:t> e un </a:t>
            </a:r>
            <a:r>
              <a:rPr b="1" lang="it-IT" sz="2000" spc="-1" strike="noStrike">
                <a:solidFill>
                  <a:srgbClr val="000000"/>
                </a:solidFill>
                <a:latin typeface="Arial"/>
              </a:rPr>
              <a:t>thread </a:t>
            </a:r>
            <a:r>
              <a:rPr b="0" lang="it-IT" sz="2000" spc="-1" strike="noStrike">
                <a:solidFill>
                  <a:srgbClr val="000000"/>
                </a:solidFill>
                <a:latin typeface="Arial"/>
              </a:rPr>
              <a:t>pass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può assumere, in entrambi i thread, due stati distinti: MODALITA_PUSH e MODALITA_P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entra in modalità PULL quando ha ricevuto un buffer da un altro nodo, entra in modalità PUSH quando decide di costruire un buffer per un altro no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Jelasity et al.)-Thread Attivo</a:t>
            </a:r>
            <a:endParaRPr b="0" lang="en-US" sz="4400" spc="-1" strike="noStrike">
              <a:solidFill>
                <a:srgbClr val="ffffff"/>
              </a:solidFill>
              <a:latin typeface="Arial"/>
            </a:endParaRPr>
          </a:p>
        </p:txBody>
      </p:sp>
      <p:sp>
        <p:nvSpPr>
          <p:cNvPr id="3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leziona un nodo P dalla vista parziale attua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SH</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obuffer=[(mioindirizzo,0)]</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muta vista parzial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osta gli H elementi più vecchi alla fin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endi i primi C/2 elementi a miobuffer</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a miobuffer a P</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trimenti invia un trigger a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LL ricevi i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truisci una vista parziale a partire dalla attuale e da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menta l’età di ogni elemento nella nuova lista parziale</a:t>
            </a:r>
            <a:endParaRPr b="0" lang="en-US" sz="24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Jelasity et al.)-Thread Passivo</a:t>
            </a:r>
            <a:endParaRPr b="0" lang="en-US" sz="4000" spc="-1" strike="noStrike">
              <a:solidFill>
                <a:srgbClr val="ffffff"/>
              </a:solidFill>
              <a:latin typeface="Arial"/>
            </a:endParaRPr>
          </a:p>
        </p:txBody>
      </p:sp>
      <p:sp>
        <p:nvSpPr>
          <p:cNvPr id="3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cevi il buffer da qualunque nodo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MODALITA_PULL</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obuffer=[(mioindirizzo,0)]</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uta vista parzial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osta gli H elementi più vecchi alla fin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i i primi C/2 elementi a miobuffer</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ia miobuffer a Q</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ruisci una vista parziale a partire dalla attuale e dal buffer di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umenta l’età di ogni elemento nella nuova lista parziale</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livell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componenti sono organizzati a strati, e ogni componente a livello </a:t>
            </a:r>
            <a:r>
              <a:rPr b="0" i="1" lang="it-IT" sz="3200" spc="-1" strike="noStrike">
                <a:solidFill>
                  <a:srgbClr val="000000"/>
                </a:solidFill>
                <a:latin typeface="Arial"/>
              </a:rPr>
              <a:t>i </a:t>
            </a:r>
            <a:r>
              <a:rPr b="0" lang="it-IT" sz="3200" spc="-1" strike="noStrike">
                <a:solidFill>
                  <a:srgbClr val="000000"/>
                </a:solidFill>
                <a:latin typeface="Arial"/>
              </a:rPr>
              <a:t>può richiamare i componenti del livello sottostante </a:t>
            </a:r>
            <a:r>
              <a:rPr b="0" i="1" lang="it-IT" sz="3200" spc="-1" strike="noStrike">
                <a:solidFill>
                  <a:srgbClr val="000000"/>
                </a:solidFill>
                <a:latin typeface="Arial"/>
              </a:rPr>
              <a:t>i-1</a:t>
            </a:r>
            <a:r>
              <a:rPr b="0" lang="it-IT" sz="3200" spc="-1" strike="noStrike">
                <a:solidFill>
                  <a:srgbClr val="000000"/>
                </a:solidFill>
                <a:latin typeface="Arial"/>
              </a:rPr>
              <a:t>. Le richieste scendono lungo la gerarchia, mentre le risposte risalgon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rgamente adottato dalla comunità della Rete (es. Architetture di Rete, ISO-OSI,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oggetti</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componente è un oggetto e gli oggetti sono connessi attraverso un meccanismo di chiamata a procedura remo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rrisponde all’architettura client-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grandi sistemi software sono oggigiorno organizzati principalmente a livelli e ad ogget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te sui dat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dea di base: i processi comunicano attraverso un </a:t>
            </a:r>
            <a:r>
              <a:rPr b="0" i="1" lang="it-IT" sz="3200" spc="-1" strike="noStrike">
                <a:solidFill>
                  <a:srgbClr val="000000"/>
                </a:solidFill>
                <a:latin typeface="Arial"/>
              </a:rPr>
              <a:t>repository </a:t>
            </a:r>
            <a:r>
              <a:rPr b="0" lang="it-IT" sz="3200" spc="-1" strike="noStrike">
                <a:solidFill>
                  <a:srgbClr val="000000"/>
                </a:solidFill>
                <a:latin typeface="Arial"/>
              </a:rPr>
              <a:t>comu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state sviluppate un gran numero di applicazioni in rete che si basano su un file system distribuito condiviso, e tutta la comunicazione ha luogo attraverso dei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sistemi distribuiti basati sul Web sono spesso centrati sui d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basate sugli eventi</a:t>
            </a:r>
            <a:endParaRPr b="0" lang="en-US" sz="40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comunicano attraverso la propagazione di eventi, che facoltativamente trasportano anche dei da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litica PUBLISH/SUBSCRI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possono pubblicare degli eventi, dopodichè il middleware assicura che solo quei processi che si sono iscritti a quei determinati eventi li riceva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i blandamente accoppiati, disaccoppiati nello spazio, o disaccoppiati referenzialmente (referentially decoupl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rchitetture basate sugli eventi possono essere combinate con quelle centrate sui dati, generando i cosiddetti </a:t>
            </a:r>
            <a:r>
              <a:rPr b="1" lang="it-IT" sz="1800" spc="-1" strike="noStrike">
                <a:solidFill>
                  <a:srgbClr val="000000"/>
                </a:solidFill>
                <a:latin typeface="Arial"/>
              </a:rPr>
              <a:t>spazi di dati condivi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spazi di dati condivisi, i processi sono anche disaccoppiati nel tempo: non è necessario che siano entrambi attivi quando la comunicazione ha luog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lti spazi di dati condivisi utilizzano un’interfaccia tipo SQL per il repository condiviso, rendendo così i dati accessibili attraverso una descrizione anziché attraverso un riferimento esplic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7:31Z</dcterms:modified>
  <cp:revision>71</cp:revision>
  <dc:subject/>
  <dc:title>Diapositiva 1</dc:title>
</cp:coreProperties>
</file>