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78981-97C0-4EC9-8F97-A34A0F63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6FBA0-53F7-4720-9BFB-1C2BA37E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F8DAF-3132-457A-9081-5E982184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61734-798D-4724-8EBC-7A8623CF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6961A-2CA3-4B49-9903-83EE6104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7FE4F-4854-44D1-AC4B-98272B06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138AB-0057-4D10-8AC6-EC1540A2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F0EF2-7B28-4BE3-A766-86528B1D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6A881-9AA1-4EDD-9F3C-025993FB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12FA6-20D7-4605-AE8A-489880E0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9DD3C-2E71-43D1-986B-C28FF22C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3D167-B0DD-4732-8387-C9A03264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B8F2B-2B52-4720-875C-161BC7FF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41EE9-31E3-442A-B861-3034B8E3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E0EF8-40FC-49D3-8CFC-BE520A9D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83652-0EDC-4050-B656-802E8645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5186B-CEB5-4E16-A5D8-7CBA27D5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F7FDB-2D34-46BE-B200-66519556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94E931-17A8-476B-AE42-F97CE795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4F63B-2F30-4DA5-AC27-E1903BEB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BB184-AE38-42D8-B19A-093D5BCF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F221E-EC28-496F-8406-935C066F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960F3-230B-49E2-B688-1EE19321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92FA4-36DD-45B2-B64E-7AD4E3C8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297E61-9238-4D4E-B8CB-2566A88E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FEC923-B6D7-4683-9525-856164D0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DE362-1C76-43E5-AFC6-D526834E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904BA9-7A90-46DA-94EB-4350E51B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BB63E7-DA6B-45E1-8329-266D1D72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6B1CF6-9B4A-4216-BAFD-0CC68B28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67642-AC33-48C1-BFA7-A7192BBD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4D8AB7-F30B-467E-9922-A2E47EEA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6C027F-AF92-4B3A-9A4C-7D618593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B6C5E3-3F95-415B-A567-9CC47CE5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D0A99F-54E8-4C00-BA8F-976899AC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F158F2-D473-4D5E-804D-BEFC5A5A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ACA25-E575-4951-B8A2-256097A9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E173F1-AFD3-432E-B43D-F05623C1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67F11-CC37-4DC2-B811-FF59326D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5FDC0F-67E3-4F28-A8C9-3C6C50D7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C7F2CD-9E8D-4AA3-8F58-0BA4FFDD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42EC0B-EFBF-4594-B14D-C5CC4189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91C7E7-BDE3-4019-A22E-8B2EFED5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A8106F-DF52-4FCF-83A3-53A37164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89D836-FF3D-4087-8CAC-669E8746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673370-154F-4C99-A7F4-51BEA575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EE6F3C-FCE4-46EB-A2A3-97759EC3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13C5C7-280A-47F3-9506-565EFC82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6A0F-94CD-4283-AB51-3400C0845B5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stemi Distribu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47DB-F575-4557-BCDE-F0129DFE1DF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4408-3546-44AD-8F69-C9098481C8A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652E-0046-4774-A9BF-236F651020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23CD-CB3F-4C63-9503-EEE3E23104EF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544760" y="2103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Ingegneria del Web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 Applicazion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Sistemi Distribuit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 proces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26920" y="1413000"/>
            <a:ext cx="144720" cy="544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7812000" y="1413000"/>
            <a:ext cx="13320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so di sleep() e join(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75708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Thread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untDown=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""+ ++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tring toString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"#"+getName()+":"+countD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un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println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- -countDown==0)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sleep(100) ;} catch(IinterruptedException 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hrow new RuntimeException(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=0;i&lt;100;i++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().joi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508720" y="1700280"/>
            <a:ext cx="302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metodo main() attende il completamento del thread prima di procedere con l’esecuzione: il programma si comporta adesso in modo determinis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hread nei S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antaggio: rendono più semplice la gestione di connessioni logiche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ue aspetti specifici da consider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lient multi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rver multi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ent Multithrea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obiettivo dei sistemi distribuiti è quello di raggiungere un alto grado di trasparenza alla distrib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e reti globali, ciò comporta la necessità di nascondere i lunghi tempi di propagazione dei messaggi tra i processi (ordine delle centinai di millisec., o addirittura dei second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todo per nascondere la latenza nella comunicazione: avviare la comunicazione stessa e immediatamente iniziare a fare qualcos’a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mpio: Browser Web: quando si carica una pagina Web, si prelevano dati spesso molto “pesanti” come immagini o oggetti multimediali. Per nascondere la latenza, il Browser spesso comincia a visualizzare i dati disponibili mentre ancora la comunicazione è in c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appena il file HTML è stato prelevato, si possono lanciare più thread indipendenti per prelevare i vari dati. Se un thread si blocca, gli altri non ne risent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tro vantaggio: se il server è effettivamente replicato su più macchine per gestire flussi elevati di richieste, un client multi-thread può ottenere performance migliori perché è altamente probabile che i vari thread verrano eseguiti (in parallelo) da server differ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tilizzo principale del multithreading nei SD: lato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mplifica notevolmente la scrittura del codice di un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consideri ad esempio un file server che occasionalmente deve bloccarsi in atte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file server attende la richiesta di un’operazione su un file, quindi la soddisfa ed invia la ris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rganizzazione possib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thread, il dispacher, legge le richieste in ingre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richieste sono inviate dai client al server ad una porta ben conosciu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server esamina la richiesta, sceglie un worker thread inattivo e gliela pa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worker va avanti eseguendo una lettura bloccante sul file system locale de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worker può rimanere bloccato in attesa dei dati da disco. Ma questo non blocca né il dispatcher ne gli altri worker 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ta: senza il multithreading, il server rimarrebbe bloccato sulla singola richiesta, senza poter servire altre richies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esto è un altro esempio di come i thread generalmente migliorino le presta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Esempio: Processo Server in JAV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ogliamo scrivere il codice di un programma server in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farlo, dobbiamo introdurre due concetti base del linguaggio Ja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ocke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n socket è una sorta di “terminazione” software di un collegamento bidirezionale tra un programma server ed uno o più programmi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n socket associa al programma server una specifica porta hardware sulla macchina su cui è eseguito, in modo tale che ogni programma client che sta in qualunque altro luogo nella rete con un socket associato a quella stessa porta può comunicare col programma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en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2538360" y="1703520"/>
          <a:ext cx="4554720" cy="28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8360" y="1703520"/>
                    <a:ext cx="4554720" cy="28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570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BorderLayou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event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x.swing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ass SocketClient extends JFrame implements ActionListener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Label text, click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Button button;JPanel pane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TextField textFiel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 socket =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ntWriter out =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ufferedReader in =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570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Client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xt = new JLabel("Text to send over socket: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xtField = new JTextField(20); button = new JButton("Click Me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utton.addActionListener(this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 = new JPanel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setLayout(new BorderLayout(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setBackground(Color.whit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tContentPane().add(pane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North", tex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Center", textField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South", butto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//End Constru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570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void actionPerformed(ActionEvent event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bject source = event.getSource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f(source == button){ //Send data over sock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ring text = textField.getTex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ut.println(tex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xtField.setText(new String(""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//Receive text from 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y{ String line = in.readLine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Text received :" + lin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ch (IOException e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Read failed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exit(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zione di Proces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cesso: Programma in esec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blematiche Class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blematiche nei 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lti-th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rtu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cessi Client e Processi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bilità tra pro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6000" y="1197000"/>
            <a:ext cx="7786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void listenSocket(){ //Create socket conn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 = new Socket("kq6py", 4444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ut = new PrintWriter(socket.getOutputStream(), tru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= new BufferedRead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w InputStreamReader(socket.getInputStream()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ch (UnknownHostException 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Unknown host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exit(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No I/O"); System.exit(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16000" y="1197000"/>
            <a:ext cx="7786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static void main(String[] args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Client frame = new SocketClien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setTitle("Client Program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indowListener l = new WindowAdapter(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void windowClosing(WindowEvent 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exit(0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addWindowListener(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pa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setVisible(tru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listenSocke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//fine della classe Socket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6" name="Object 5"/>
          <p:cNvGraphicFramePr/>
          <p:nvPr/>
        </p:nvGraphicFramePr>
        <p:xfrm>
          <a:off x="2673360" y="1773360"/>
          <a:ext cx="4203720" cy="25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3360" y="1773360"/>
                    <a:ext cx="4203720" cy="25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awt.Col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awt.BorderLayou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awt.event.*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x.swing.*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lass SocketServer extends JFrame implements ActionListener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Button button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Label label = new JLabel("Text received over socket: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Panel pane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TextArea textArea = new JTextArea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rverSocket server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cket client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fferedReader in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tWriter out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tring line;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cketServer(){ //Begin Constru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tton = new JButton("Click Me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tton.addActionListener(this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 = new JPanel(); panel.setLayout(new BorderLayout()); panel.setBackground(Color.whit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etContentPane().add(pane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.add("North", labe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.add("Center", textArea); panel.add("South", butt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cketServer(){ //Begin Constru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tton = new JButton("Click Me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tton.addActionListener(this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 = new JPanel(); panel.setLayout(new BorderLayout()); panel.setBackground(Color.whit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etContentPane().add(pane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.add("North", labe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.add("Center", textArea); panel.add("South", butt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void actionPerformed(ActionEvent event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bject source = event.getSource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f(source == button){ textArea.setText(line)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blic void listenSocket()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erver = new ServerSocket(4444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out.println("Could not listen on port 4444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exit(-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lient = server.accep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out.println("Accept failed: 4444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exit(-1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 = new BufferedReader(new InputStreamReader(client.getInputStream())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ut = new PrintWriter(client.getOutputStream(), true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ch (IOException e) { System.out.println("Accept failed: 4444"); System.exit(-1)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CONTINU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hile(true)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line = in.readLine(); //Send data back to cli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ut.println(line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out.println("Read failed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exit(-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//Fine funzione listen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tected void finalize(){ //Clean 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.close(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ut.close(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erver.close(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catch (IOException e) { System.out.println("Could not close."); System.exit(-1); 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static void main(String[] args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cketServer frame = new SocketServer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setTitle("Server Program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indowListener l = new WindowAdapter(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void windowClosing(WindowEvent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exit(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addWindowListener(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pack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setVisible(tru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listenSocket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//fine classe Socket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egnaposto data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egnaposto piè di pagina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488360" cy="10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permettere la connessione contemporanea di più client, il server deve usare più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2411280" y="2766960"/>
          <a:ext cx="4608720" cy="35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766960"/>
                    <a:ext cx="460872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zione di Proces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cesso: Programma in esec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blematiche Class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blematiche nei 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lti-th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rtu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cessi Client e Processi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bilità tra pro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Colo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BorderLayou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event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x.swing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ass ClientWorker implements Runnable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vate Socket clien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vate JTextArea textAre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ientWorker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 client, JTextArea textArea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is.client = clien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is.textArea = textAre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void run(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tring lin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fferedReader in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tWriter out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 = new BufferedReader(new InputStreamReader(client.getInputStream()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ut = new PrintWriter(client.getOutputStream(), tru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out.println("in or out failed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exit(-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hile(true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y{ line = in.readLine(); //Send data back to client out.println(line);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extArea.append(line)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tch (IOException e) { System.out.println("Read failed"); System.exit(-1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} }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ass SocketThrdServer extends JFrame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Label label = new JLabel("Text received over socket: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Panel pane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TextArea textArea = new JTextArea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rverSocket server =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ThrdServer(){ //Begin Constru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 = new JPanel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setLayout(new BorderLayout());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setBackground(Color.white);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tContentPane().add(pane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North", labe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Center", textAre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//End Construct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void listenSocket(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rver = new ServerSocket(4444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tch (IOException e) { System.out.println("Could not listen on port 4444"); System.exit(-1)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hile(true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lientWorker w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 = new ClientWorker(server.accept(), textArea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hread t = new Thread(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out.println("Accept failed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4444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exit(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tected void finalize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y{ server.close();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Could not close socket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exit(-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static void main(String[] args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ThrdServer frame = new SocketThrdServer(); frame.setTitle("Server Program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indowListener l = new WindowAdapter(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void windowClosing(WindowEvent e) { System.exit(0); } 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addWindowListener(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pa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setVisible(tru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listenSocke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rocessi: Concetti di b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l corso della sua attività il S.O. crea una serie di Processori Virtuali, ad ognuno dei quali è assegnato un processo (programma in esecuzi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S.O. ha cura che i singoli processi non si disturbino a vicenda: è reso trasparente il fatto che i processi utilzzano la stessa CP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ezzo della Trasparenza alla Concorren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processo deve avere uno spazio degli indirizzi indip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devono gestire gli switch da un processo all’al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ai Processi ai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un processo, anche un thread esegue un suo pezzo di codice, indipendentemente dagli altri thr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differenza dei processi, non c’è però un alto grado di trasparenza alla concorr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atti, un sistema a thread gestisce solo l’insieme minimo delle informazioni per permettere alla CPU di essere condivisa da più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contesto di un thread è composto solo dal contesto della CPU e da qualche altra informazione sui thread in esecuzione (ad esempio un thread è bloccato e non può essere utilizza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il programmatore che deve proteggere i dati da accessi scorretti da parte dei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antaggio rispetto ai processi: Prestazioni generalmente migliori, al prezzo di uno sforzo intellettuale da parte del programma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a come si usano i thread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usano per scomporre un processo in sotto parti elementari indipen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i processi a singolo thread, quando si esegue una chiamata a sistema bloccante, si blocca tutto il pro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empio: in un foglio elettronico, quando si inseriscono dati in una cella occorre poi eseguire computazioni che si ripercuotono su tutte le altre c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un solo thread, mentre si inseriscono i dati non si effettuano computazioni, e vice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più efficiente usare due thread, uno per gestire l’input della cella, l’altro per gestire le comput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altro grande vantaggio nel multi-threading si ha nei sistemi multiprocessore: ogni thread può essere assegnato ad un processore e ciò permette l’esecuzione parallela mentre i dati stanno su una memoria centrale condivisa (es. i server nelle applicazioni client-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mplice esempi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Thread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untDown=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""+ ++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tring toString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"#"+getName()+":"+countD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un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println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--countDown==0)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=0;i&lt;100;i++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796000" y="1557360"/>
            <a:ext cx="302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programma crea cinque distinti thread, ognuno avente nome dato dalla variabile statica thread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gni thread ha il compito di contare da 100 a 1, a ritr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esecuzione a video ha effetto imprevedibile, dovuto al fatto che i thread sono eseguiti indipendentemente, con una politica di assegnamento della CPU dipendente dalla J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indi un thread può essere interrotto mentre sta calcoland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mplice esempi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Thread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untDown=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""+ ++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tring toString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"#"+getName()+":"+countD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un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println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--countDown==0)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=0;i&lt;100;i++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796000" y="1557360"/>
            <a:ext cx="302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programma crea cinque distinti thread, ognuno avente nome dato dalla variabile statica thread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gni thread ha il compito di contare da 100 a 1, a ritr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esecuzione a video ha effetto imprevedibile, dovuto al fatto che i thread sono eseguiti indipendentemente, con una politica di assegnamento della CPU dipendente dalla J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indi un thread può essere interrotto mentre sta calcoland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so di sleep(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75708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Thread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untDown=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""+ ++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tring toString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"#"+getName()+":"+countD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un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println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- -countDown==0)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sleep(100) ;} catch(IinterruptedException 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hrow new RuntimeException(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=0;i&lt;100;i++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508720" y="1700280"/>
            <a:ext cx="30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n si ottiene molto: i thread continuano ad essere eseguiti indipendente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0:57:15Z</dcterms:modified>
  <cp:revision>77</cp:revision>
  <dc:subject/>
  <dc:title>Diapositiva 1</dc:title>
</cp:coreProperties>
</file>