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wmf" ContentType="image/x-wmf"/>
  <Override PartName="/ppt/media/image7.wmf" ContentType="image/x-wmf"/>
  <Override PartName="/ppt/media/image8.wmf" ContentType="image/x-wmf"/>
  <Override PartName="/ppt/media/image9.wmf" ContentType="image/x-wmf"/>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1041A9-C77E-4E9E-AB68-C374B701F8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595793-9B24-4195-839B-F9A0AF0E7D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C34896-6BE9-4850-ACF5-E310B503FE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BB05AD-2639-4595-B9FB-CDC4635D0E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498BCD-5FFB-4B56-99F5-0271A1A9D0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F1DA4C-4DFB-481D-BDA3-3354E99942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9FBFDC-0DCD-4A89-BE83-E4D85CF97F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0E60CC-79E0-4A0A-81C1-03CB764EBC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20126A-EE5D-42E6-BCB8-A0AFC84AED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35ECF1-63CE-4599-84D0-19BDA5281C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A97B22-B3C2-4310-B78B-922228F31C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46B8B0-8A96-4EBD-A351-8C6850AF75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D382682-DDC6-4325-9AD8-F47683C6846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AEA6727-6398-4698-A218-1F112478BAA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AAAFD83-84F0-4A0C-B3FA-04682F2CF4B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14E322F-02FE-44F7-88F0-5EE34F99AF8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2B7AFD0-0983-4039-AED2-6EBA182E9D1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7A9B6CF-9299-4259-AA10-2C8BF7764ED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B86731C-1E9D-4814-BFC6-6748BDE937D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CADDAA3-0A7F-48B8-A3CE-C1226E953AC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DD5CAA2-EC3A-4029-9853-60856624922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66D1BAB-3F5D-4AD8-9284-1E35EB281D9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61F51E9-47F6-438C-902D-A75FFB19FE9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ABBB5EA-88C6-480F-8388-ECCAF596BE4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F68090B-BA78-488F-B4C2-CF0311693A4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C48C5C8-0681-44AE-817B-A9733D77BE1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E7ABCCC-4FC4-449B-9D8A-C348AFC6E0A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0615488-C0D6-4675-8083-CE976131E87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0747332-967D-454A-B496-7CA4144A3E0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07D65E2-0781-4C3E-A02F-94C629BB332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1E931D6-220B-495B-ACDF-A721765C17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8582508-B258-4E8F-B5FC-705526FC63E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B037266-2C03-493A-A846-57C241E8DE1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3E5C368-9E37-4DB5-A444-A981C76010B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7E998B9-EF23-4B3E-8B0A-1312A4FADE9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8AA1954-F4BE-4D09-9DC7-CBF82A16C4E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E25128F-9A67-4F3F-8456-581E0BE5107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0186B7B-E2D8-4FC4-867E-4FD7A14EB0D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60B454E-858C-4D3E-84EB-68DD69D2D9A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913A624-4805-485F-8FE7-CFB9E7F6F00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68F6CBF-A51E-4270-A1DB-DF5B782C510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85FC0E1-68D8-4C4D-A84E-D604DEE5229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BCB8BBE-BA21-4177-9343-2A762182225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E8444EE-5CA2-4CFB-990C-763918585C5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71F645F-E1FB-4FCE-B5C6-8539A1DC60E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267E0A9-B981-4DC8-B2C4-D5D52639E66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7BC092E-698F-4BCB-9718-EDAA265B114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663622E-6824-47FA-8190-A9F1A4A5C36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31766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6FD03-3625-4098-9B58-AC0D7016CC5D}"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F41C8-AA47-4252-AE6B-7050575EB77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71BCE-3F5B-4FAF-8D00-3DCA86871DAF}"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29447-CEF7-4B5D-BE1A-7F4051073084}"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34D2C-E3B9-4CD0-A498-311EA4D701FC}"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Ingegneria del Web</a:t>
            </a:r>
            <a:br>
              <a:rPr sz="2400"/>
            </a:br>
            <a:br>
              <a:rPr sz="2400"/>
            </a:br>
            <a:r>
              <a:rPr b="1" lang="it-IT" sz="2400" spc="-1" strike="noStrike">
                <a:solidFill>
                  <a:srgbClr val="ffffff"/>
                </a:solidFill>
                <a:latin typeface="Tahoma"/>
              </a:rPr>
              <a:t>A A. 2013 2014</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Sistemi Distribuiti:</a:t>
            </a:r>
            <a:br>
              <a:rPr sz="2400"/>
            </a:br>
            <a:r>
              <a:rPr b="1" lang="it-IT" sz="2400" spc="-1" strike="noStrike">
                <a:solidFill>
                  <a:srgbClr val="ffffff"/>
                </a:solidFill>
                <a:latin typeface="Tahoma"/>
              </a:rPr>
              <a:t>Comunicazione</a:t>
            </a:r>
            <a:endParaRPr b="0" lang="en-US" sz="2400" spc="-1" strike="noStrike">
              <a:solidFill>
                <a:srgbClr val="ffffff"/>
              </a:solidFill>
              <a:latin typeface="Arial"/>
            </a:endParaRPr>
          </a:p>
        </p:txBody>
      </p:sp>
      <p:sp>
        <p:nvSpPr>
          <p:cNvPr id="206"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5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comunicazione su rete a 5 livelli - 2</a:t>
            </a:r>
            <a:endParaRPr b="0" lang="en-US" sz="4000" spc="-1" strike="noStrike">
              <a:solidFill>
                <a:srgbClr val="ffffff"/>
              </a:solidFill>
              <a:latin typeface="Arial"/>
            </a:endParaRPr>
          </a:p>
        </p:txBody>
      </p:sp>
      <p:sp>
        <p:nvSpPr>
          <p:cNvPr id="25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messaggio M viene prodotto da un processo a livello 5 e passato al livello 4 per essere trasmess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livello 4 inserisce un’intestazione H4 e passa il messaggio al livello 3</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livello 3 spezza il messaggio in due pacchetti M1 e M2, aggiungendo ad ognuno un’ntestazione H3, e li passa al livello 2</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livello 2 inserisce in ogni pacchetto un’intestazione H2 ed un cammino T2 e passa i pacchetti al livello 1 (fisico) per l’effettiva trasmissio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ulla macchina destinatario, i pacchetti passano attraverso i livelli in senso ascendente, fino a ricostruire il messaggio 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5"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5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nsiderazioni sulla pila dei protocolli</a:t>
            </a:r>
            <a:endParaRPr b="0" lang="en-US" sz="4000" spc="-1" strike="noStrike">
              <a:solidFill>
                <a:srgbClr val="ffffff"/>
              </a:solidFill>
              <a:latin typeface="Arial"/>
            </a:endParaRPr>
          </a:p>
        </p:txBody>
      </p:sp>
      <p:sp>
        <p:nvSpPr>
          <p:cNvPr id="25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strazione dei processi pari è cruciale a tutti i livel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ssa permette di spezzare la progettazione dell’intera rete in progetti più semplici: la progettazione dei singoli livel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sualmente, i livelli più bassi sono progettati in hardware o in firmw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6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Servizi</a:t>
            </a:r>
            <a:endParaRPr b="0" lang="en-US" sz="4400" spc="-1" strike="noStrike">
              <a:solidFill>
                <a:srgbClr val="ffffff"/>
              </a:solidFill>
              <a:latin typeface="Arial"/>
            </a:endParaRPr>
          </a:p>
        </p:txBody>
      </p:sp>
      <p:sp>
        <p:nvSpPr>
          <p:cNvPr id="26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funzione di ogni livello è di offrire servizi al livello superiore. Il livello inferiore è il </a:t>
            </a:r>
            <a:r>
              <a:rPr b="1" i="1" lang="it-IT" sz="2000" spc="-1" strike="noStrike">
                <a:solidFill>
                  <a:srgbClr val="000000"/>
                </a:solidFill>
                <a:latin typeface="Arial"/>
              </a:rPr>
              <a:t>service provider</a:t>
            </a:r>
            <a:r>
              <a:rPr b="0" lang="it-IT" sz="2000" spc="-1" strike="noStrike">
                <a:solidFill>
                  <a:srgbClr val="000000"/>
                </a:solidFill>
                <a:latin typeface="Arial"/>
              </a:rPr>
              <a:t>, quello superiore è il </a:t>
            </a:r>
            <a:r>
              <a:rPr b="1" i="1" lang="it-IT" sz="2000" spc="-1" strike="noStrike">
                <a:solidFill>
                  <a:srgbClr val="000000"/>
                </a:solidFill>
                <a:latin typeface="Arial"/>
              </a:rPr>
              <a:t>service user</a:t>
            </a:r>
            <a:r>
              <a:rPr b="0" lang="it-IT"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livello n che usufruisce dei servizi di livello (n-1) può, per mezzo di questi, a sua volta offrire al livello (n+1) i propri serviz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servizi sono disponibili ai </a:t>
            </a:r>
            <a:r>
              <a:rPr b="1" i="1" lang="it-IT" sz="2000" spc="-1" strike="noStrike">
                <a:solidFill>
                  <a:srgbClr val="000000"/>
                </a:solidFill>
                <a:latin typeface="Arial"/>
              </a:rPr>
              <a:t>SAP (Service Access Point)</a:t>
            </a:r>
            <a:r>
              <a:rPr b="0" lang="it-IT" sz="2000" spc="-1" strike="noStrike">
                <a:solidFill>
                  <a:srgbClr val="000000"/>
                </a:solidFill>
                <a:latin typeface="Arial"/>
              </a:rPr>
              <a:t>. I SAP del livello n, o </a:t>
            </a:r>
            <a:r>
              <a:rPr b="1" i="1" lang="it-IT" sz="2000" spc="-1" strike="noStrike">
                <a:solidFill>
                  <a:srgbClr val="000000"/>
                </a:solidFill>
                <a:latin typeface="Arial"/>
              </a:rPr>
              <a:t>n-SAP</a:t>
            </a:r>
            <a:r>
              <a:rPr b="0" lang="it-IT" sz="2000" spc="-1" strike="noStrike">
                <a:solidFill>
                  <a:srgbClr val="000000"/>
                </a:solidFill>
                <a:latin typeface="Arial"/>
              </a:rPr>
              <a:t>, sono i punti di accesso nei quali il livello (n+1) può accedere ai servizi del livello n. Ogni n-SAP ha un </a:t>
            </a:r>
            <a:r>
              <a:rPr b="1" i="1" lang="it-IT" sz="2000" spc="-1" strike="noStrike">
                <a:solidFill>
                  <a:srgbClr val="000000"/>
                </a:solidFill>
                <a:latin typeface="Arial"/>
              </a:rPr>
              <a:t>indirizzo</a:t>
            </a:r>
            <a:r>
              <a:rPr b="0" lang="it-IT" sz="2000" spc="-1" strike="noStrike">
                <a:solidFill>
                  <a:srgbClr val="000000"/>
                </a:solidFill>
                <a:latin typeface="Arial"/>
              </a:rPr>
              <a:t> che lo identifica univocam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alogia col telefo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AP: presa a muro del telefo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AP address: numero telefonico che identifica quella pre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6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ivelli adiacenti e SAP</a:t>
            </a:r>
            <a:endParaRPr b="0" lang="en-US" sz="4400" spc="-1" strike="noStrike">
              <a:solidFill>
                <a:srgbClr val="ffffff"/>
              </a:solidFill>
              <a:latin typeface="Arial"/>
            </a:endParaRPr>
          </a:p>
        </p:txBody>
      </p:sp>
      <p:pic>
        <p:nvPicPr>
          <p:cNvPr id="265" name="Picture 3" descr=""/>
          <p:cNvPicPr/>
          <p:nvPr/>
        </p:nvPicPr>
        <p:blipFill>
          <a:blip r:embed="rId1"/>
          <a:stretch/>
        </p:blipFill>
        <p:spPr>
          <a:xfrm>
            <a:off x="1317600" y="2197080"/>
            <a:ext cx="6310440" cy="3075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DU, SDU, PCI</a:t>
            </a:r>
            <a:endParaRPr b="0" lang="en-US" sz="4400" spc="-1" strike="noStrike">
              <a:solidFill>
                <a:srgbClr val="ffffff"/>
              </a:solidFill>
              <a:latin typeface="Arial"/>
            </a:endParaRPr>
          </a:p>
        </p:txBody>
      </p:sp>
      <p:sp>
        <p:nvSpPr>
          <p:cNvPr id="26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informazione passata dal livello n al livello (n-1), attraverso il (n-1)-SAP, si dice </a:t>
            </a:r>
            <a:r>
              <a:rPr b="1" i="1" lang="it-IT" sz="2400" spc="-1" strike="noStrike">
                <a:solidFill>
                  <a:srgbClr val="000000"/>
                </a:solidFill>
                <a:latin typeface="Arial"/>
              </a:rPr>
              <a:t>PDU (Protocol Data Unit) di livello n</a:t>
            </a:r>
            <a:r>
              <a:rPr b="0" lang="it-IT" sz="2400" spc="-1" strike="noStrike">
                <a:solidFill>
                  <a:srgbClr val="000000"/>
                </a:solidFill>
                <a:latin typeface="Arial"/>
              </a:rPr>
              <a:t>, o </a:t>
            </a:r>
            <a:r>
              <a:rPr b="1" i="1" lang="it-IT" sz="2400" spc="-1" strike="noStrike">
                <a:solidFill>
                  <a:srgbClr val="000000"/>
                </a:solidFill>
                <a:latin typeface="Arial"/>
              </a:rPr>
              <a:t>n-PDU</a:t>
            </a:r>
            <a:r>
              <a:rPr b="0" lang="it-IT"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sa, entrando nel livello (n-1), diventa una </a:t>
            </a:r>
            <a:r>
              <a:rPr b="1" i="1" lang="it-IT" sz="2400" spc="-1" strike="noStrike">
                <a:solidFill>
                  <a:srgbClr val="000000"/>
                </a:solidFill>
                <a:latin typeface="Arial"/>
              </a:rPr>
              <a:t>SDU (Service Data Unit) di livello (n-1)</a:t>
            </a:r>
            <a:r>
              <a:rPr b="0" lang="it-IT" sz="2400" spc="-1" strike="noStrike">
                <a:solidFill>
                  <a:srgbClr val="000000"/>
                </a:solidFill>
                <a:latin typeface="Arial"/>
              </a:rPr>
              <a:t>, o </a:t>
            </a:r>
            <a:r>
              <a:rPr b="1" i="1" lang="it-IT" sz="2400" spc="-1" strike="noStrike">
                <a:solidFill>
                  <a:srgbClr val="000000"/>
                </a:solidFill>
                <a:latin typeface="Arial"/>
              </a:rPr>
              <a:t>(n-1)-SDU</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ntro il livello (n-1) viene aggiunta alla (n-1)-SDU una </a:t>
            </a:r>
            <a:r>
              <a:rPr b="1" i="1" lang="it-IT" sz="2400" spc="-1" strike="noStrike">
                <a:solidFill>
                  <a:srgbClr val="000000"/>
                </a:solidFill>
                <a:latin typeface="Arial"/>
              </a:rPr>
              <a:t>PCI (Protocol Control Information) di livello (n-1)</a:t>
            </a:r>
            <a:r>
              <a:rPr b="0" lang="it-IT"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tutto diventa una (n-1)-PDU, che verrà passata al livello (n-2) attraverso un (n-2)-S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7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ssaggio dell’informazione fra livelli</a:t>
            </a:r>
            <a:endParaRPr b="0" lang="en-US" sz="4000" spc="-1" strike="noStrike">
              <a:solidFill>
                <a:srgbClr val="ffffff"/>
              </a:solidFill>
              <a:latin typeface="Arial"/>
            </a:endParaRPr>
          </a:p>
        </p:txBody>
      </p:sp>
      <p:pic>
        <p:nvPicPr>
          <p:cNvPr id="273" name="Picture 3" descr=""/>
          <p:cNvPicPr/>
          <p:nvPr/>
        </p:nvPicPr>
        <p:blipFill>
          <a:blip r:embed="rId1"/>
          <a:stretch/>
        </p:blipFill>
        <p:spPr>
          <a:xfrm>
            <a:off x="2168640" y="1957320"/>
            <a:ext cx="3614760" cy="3092400"/>
          </a:xfrm>
          <a:prstGeom prst="rect">
            <a:avLst/>
          </a:prstGeom>
          <a:ln w="0">
            <a:noFill/>
          </a:ln>
        </p:spPr>
      </p:pic>
      <p:sp>
        <p:nvSpPr>
          <p:cNvPr id="274" name="Text Box 4"/>
          <p:cNvSpPr/>
          <p:nvPr/>
        </p:nvSpPr>
        <p:spPr>
          <a:xfrm>
            <a:off x="5580000" y="2421000"/>
            <a:ext cx="2664000" cy="3111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mi spesso usati per i PDU:</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segmento</a:t>
            </a:r>
            <a:r>
              <a:rPr b="0" lang="it-IT" sz="1800" spc="-1" strike="noStrike">
                <a:solidFill>
                  <a:srgbClr val="000000"/>
                </a:solidFill>
                <a:latin typeface="Arial"/>
              </a:rPr>
              <a:t> (o</a:t>
            </a:r>
            <a:r>
              <a:rPr b="1" i="1" lang="it-IT" sz="1800" spc="-1" strike="noStrike">
                <a:solidFill>
                  <a:srgbClr val="000000"/>
                </a:solidFill>
                <a:latin typeface="Arial"/>
              </a:rPr>
              <a:t>TPDU, Transport PDU</a:t>
            </a:r>
            <a:r>
              <a:rPr b="0" lang="it-IT" sz="1800" spc="-1" strike="noStrike">
                <a:solidFill>
                  <a:srgbClr val="000000"/>
                </a:solidFill>
                <a:latin typeface="Arial"/>
              </a:rPr>
              <a:t>) a livello transpor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pacchetto</a:t>
            </a:r>
            <a:r>
              <a:rPr b="0" lang="it-IT" sz="1800" spc="-1" strike="noStrike">
                <a:solidFill>
                  <a:srgbClr val="000000"/>
                </a:solidFill>
                <a:latin typeface="Arial"/>
              </a:rPr>
              <a:t> (</a:t>
            </a:r>
            <a:r>
              <a:rPr b="1" i="1" lang="it-IT" sz="1800" spc="-1" strike="noStrike">
                <a:solidFill>
                  <a:srgbClr val="000000"/>
                </a:solidFill>
                <a:latin typeface="Arial"/>
              </a:rPr>
              <a:t>packet</a:t>
            </a:r>
            <a:r>
              <a:rPr b="0" lang="it-IT" sz="1800" spc="-1" strike="noStrike">
                <a:solidFill>
                  <a:srgbClr val="000000"/>
                </a:solidFill>
                <a:latin typeface="Arial"/>
              </a:rPr>
              <a:t>) a livello network</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trama</a:t>
            </a:r>
            <a:r>
              <a:rPr b="0" lang="it-IT" sz="1800" spc="-1" strike="noStrike">
                <a:solidFill>
                  <a:srgbClr val="000000"/>
                </a:solidFill>
                <a:latin typeface="Arial"/>
              </a:rPr>
              <a:t> (</a:t>
            </a:r>
            <a:r>
              <a:rPr b="1" i="1" lang="it-IT" sz="1800" spc="-1" strike="noStrike">
                <a:solidFill>
                  <a:srgbClr val="000000"/>
                </a:solidFill>
                <a:latin typeface="Arial"/>
              </a:rPr>
              <a:t>frame</a:t>
            </a:r>
            <a:r>
              <a:rPr b="0" lang="it-IT" sz="1800" spc="-1" strike="noStrike">
                <a:solidFill>
                  <a:srgbClr val="000000"/>
                </a:solidFill>
                <a:latin typeface="Arial"/>
              </a:rPr>
              <a:t>) a livello data link</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me per il PCI: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bus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ervizi connection-oriented e connectionless</a:t>
            </a:r>
            <a:endParaRPr b="0" lang="en-US" sz="4000" spc="-1" strike="noStrike">
              <a:solidFill>
                <a:srgbClr val="ffffff"/>
              </a:solidFill>
              <a:latin typeface="Arial"/>
            </a:endParaRPr>
          </a:p>
        </p:txBody>
      </p:sp>
      <p:sp>
        <p:nvSpPr>
          <p:cNvPr id="27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i sono due principali classi di servizi offerti da un livello a quello superi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Arial"/>
              </a:rPr>
              <a:t>servizi connection-oriented</a:t>
            </a:r>
            <a:r>
              <a:rPr b="0" lang="it-IT"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Arial"/>
              </a:rPr>
              <a:t>servizi connectionless</a:t>
            </a:r>
            <a:r>
              <a:rPr b="0" lang="it-IT"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8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zi connection-oriented</a:t>
            </a:r>
            <a:endParaRPr b="0" lang="en-US" sz="4400" spc="-1" strike="noStrike">
              <a:solidFill>
                <a:srgbClr val="ffffff"/>
              </a:solidFill>
              <a:latin typeface="Arial"/>
            </a:endParaRPr>
          </a:p>
        </p:txBody>
      </p:sp>
      <p:sp>
        <p:nvSpPr>
          <p:cNvPr id="28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servizi connection-oriented sono modellati secondo il sistema telefonico, dove per parlare con qualcuno si alza il telefono, si chiama, si parla e poi si riattacca. Ovver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stabilisce una connessio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scambiano informazion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rilascia la connessio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nalogamente, un servizio connection-oriented si sviluppa in 3 fas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stabilisce una connessione, cioé si crea con opportuni mezzi un "canale di comunicazione" fra la sorgente e la destinazione. La relativa attività tipicamente coinvolge un certo numero di elaboratori nel cammino fra sorgente e destinazio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nnessione, una volta stabilita, agisce come un tubo digitale lungo il quale scorrono tutti i dati trasmessi, che arrivano nello steso ordine in cui sono partit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rilascia la connessione (attività che coinvolge di nuovo tutti gli elaboratori sul cammi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4"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8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zi connectionless</a:t>
            </a:r>
            <a:endParaRPr b="0" lang="en-US" sz="4400" spc="-1" strike="noStrike">
              <a:solidFill>
                <a:srgbClr val="ffffff"/>
              </a:solidFill>
              <a:latin typeface="Arial"/>
            </a:endParaRPr>
          </a:p>
        </p:txBody>
      </p:sp>
      <p:sp>
        <p:nvSpPr>
          <p:cNvPr id="28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servizi connectionless sono modellati secondo il sistema postale: ogni lettera viaggia indipendentemente dalle altre; arriva quando arriva, e forse non arriva. Inoltre, due lettere con uguale mittente e destinatario possono viaggiare per strade divers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alogamente, in un servizio connectionless, i pacchetti (PDU) viaggiano indipendentemente gli uni dagli altri, possono prendere strade diverse ed arrivare in ordine diverso da quello di partenza o non arrivare affatto.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fase è una sol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vio del pacchetto (corrisponde all'immissione della lettera nella bu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8"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8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zi affidabili e non affidabili</a:t>
            </a:r>
            <a:endParaRPr b="0" lang="en-US" sz="4400" spc="-1" strike="noStrike">
              <a:solidFill>
                <a:srgbClr val="ffffff"/>
              </a:solidFill>
              <a:latin typeface="Arial"/>
            </a:endParaRPr>
          </a:p>
        </p:txBody>
      </p:sp>
      <p:sp>
        <p:nvSpPr>
          <p:cNvPr id="29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servizio è generalmente caratterizzato dall'essere o no </a:t>
            </a:r>
            <a:r>
              <a:rPr b="1" i="1" lang="it-IT" sz="2000" spc="-1" strike="noStrike">
                <a:solidFill>
                  <a:srgbClr val="000000"/>
                </a:solidFill>
                <a:latin typeface="Arial"/>
              </a:rPr>
              <a:t>affidabile</a:t>
            </a:r>
            <a:r>
              <a:rPr b="0" lang="it-IT" sz="2000" spc="-1" strike="noStrike">
                <a:solidFill>
                  <a:srgbClr val="000000"/>
                </a:solidFill>
                <a:latin typeface="Arial"/>
              </a:rPr>
              <a:t> (</a:t>
            </a:r>
            <a:r>
              <a:rPr b="1" i="1" lang="it-IT" sz="2000" spc="-1" strike="noStrike">
                <a:solidFill>
                  <a:srgbClr val="000000"/>
                </a:solidFill>
                <a:latin typeface="Arial"/>
              </a:rPr>
              <a:t>reliable</a:t>
            </a:r>
            <a:r>
              <a:rPr b="0" lang="it-IT"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a:t>
            </a:r>
            <a:r>
              <a:rPr b="1" i="1" lang="it-IT" sz="2000" spc="-1" strike="noStrike">
                <a:solidFill>
                  <a:srgbClr val="000000"/>
                </a:solidFill>
                <a:latin typeface="Arial"/>
              </a:rPr>
              <a:t>servizio affidabile</a:t>
            </a:r>
            <a:r>
              <a:rPr b="0" lang="it-IT" sz="2000" spc="-1" strike="noStrike">
                <a:solidFill>
                  <a:srgbClr val="000000"/>
                </a:solidFill>
                <a:latin typeface="Arial"/>
              </a:rPr>
              <a:t> non perde mai dati, cioé assicura che tutti i dati spediti verranno consegnati al destinatario. Ciò generalmente richiede che il ricevente invii un </a:t>
            </a:r>
            <a:r>
              <a:rPr b="1" i="1" lang="it-IT" sz="2000" spc="-1" strike="noStrike">
                <a:solidFill>
                  <a:srgbClr val="000000"/>
                </a:solidFill>
                <a:latin typeface="Arial"/>
              </a:rPr>
              <a:t>acknowledgement (conferma)</a:t>
            </a:r>
            <a:r>
              <a:rPr b="0" lang="it-IT" sz="2000" spc="-1" strike="noStrike">
                <a:solidFill>
                  <a:srgbClr val="000000"/>
                </a:solidFill>
                <a:latin typeface="Arial"/>
              </a:rPr>
              <a:t> alla sorgente per ogni pacchetto ricevuto. Si introduce ovviamente overhead, che in certe situazioni può non essere desiderab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iceversa, un </a:t>
            </a:r>
            <a:r>
              <a:rPr b="1" i="1" lang="it-IT" sz="2000" spc="-1" strike="noStrike">
                <a:solidFill>
                  <a:srgbClr val="000000"/>
                </a:solidFill>
                <a:latin typeface="Arial"/>
              </a:rPr>
              <a:t>servizio non affidabile</a:t>
            </a:r>
            <a:r>
              <a:rPr b="0" lang="it-IT" sz="2000" spc="-1" strike="noStrike">
                <a:solidFill>
                  <a:srgbClr val="000000"/>
                </a:solidFill>
                <a:latin typeface="Arial"/>
              </a:rPr>
              <a:t> non offre la certezza che i dati spediti arrivino effettivamente a destinazi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noti che se un certo livello non offre nessun servizio affidabile, qualora tale funzionalità sia desiderata dovrà essere fornita da almeno uno dei livelli superiori (vedremo che ciò accade spess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0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municazione fra processi</a:t>
            </a:r>
            <a:endParaRPr b="0" lang="en-US" sz="4400" spc="-1" strike="noStrike">
              <a:solidFill>
                <a:srgbClr val="ffffff"/>
              </a:solidFill>
              <a:latin typeface="Arial"/>
            </a:endParaRPr>
          </a:p>
        </p:txBody>
      </p:sp>
      <p:sp>
        <p:nvSpPr>
          <p:cNvPr id="2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E’ il cuore dei sistemi distribuit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amineremo i modi in cui processi su macchine diverse possono scambiarsi informazio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municazione si basa sempre sullo scambio di messaggi a basso livello come fornito dalla rete sottostan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le piattaforme non distribuite si usano invece primitive basate sull’uso della memoria condivisa: più sempli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istemi distribuiti consistono spesso di migliaia o milioni di processi sparsi su macchine diverse, collegati da una rete inaffidabile come Internet: occorre sostituire le funzionalità di comunicazione a basso livello con qualcos’alt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2"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9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 di servizi</a:t>
            </a:r>
            <a:endParaRPr b="0" lang="en-US" sz="4400" spc="-1" strike="noStrike">
              <a:solidFill>
                <a:srgbClr val="ffffff"/>
              </a:solidFill>
              <a:latin typeface="Arial"/>
            </a:endParaRPr>
          </a:p>
        </p:txBody>
      </p:sp>
      <p:sp>
        <p:nvSpPr>
          <p:cNvPr id="29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reliable connection oriented</a:t>
            </a:r>
            <a:r>
              <a:rPr b="0" lang="it-IT" sz="2000" spc="-1" strike="noStrike">
                <a:solidFill>
                  <a:srgbClr val="000000"/>
                </a:solidFill>
                <a:latin typeface="Arial"/>
              </a:rPr>
              <a:t>: trasferimento di file (non devono mancare pezzi e il file non deve essere "rimescolato");</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non reliable connection oriented</a:t>
            </a:r>
            <a:r>
              <a:rPr b="0" lang="it-IT" sz="2000" spc="-1" strike="noStrike">
                <a:solidFill>
                  <a:srgbClr val="000000"/>
                </a:solidFill>
                <a:latin typeface="Arial"/>
              </a:rPr>
              <a:t>: nelle trasmissioni isocrone (quali voce e video) le relazioni temporali fra i bit del flusso devono essere mantenute. E' meglio qualche disturbo ogni tanto, piuttosto che interruzioni momentanee, ma avvertibili, del flusso di dati;</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non reliable connectionless</a:t>
            </a:r>
            <a:r>
              <a:rPr b="0" lang="it-IT" sz="2000" spc="-1" strike="noStrike">
                <a:solidFill>
                  <a:srgbClr val="000000"/>
                </a:solidFill>
                <a:latin typeface="Arial"/>
              </a:rPr>
              <a:t> (detto anche </a:t>
            </a:r>
            <a:r>
              <a:rPr b="1" i="1" lang="it-IT" sz="2000" spc="-1" strike="noStrike">
                <a:solidFill>
                  <a:srgbClr val="000000"/>
                </a:solidFill>
                <a:latin typeface="Arial"/>
              </a:rPr>
              <a:t>datagram service</a:t>
            </a:r>
            <a:r>
              <a:rPr b="0" lang="it-IT" sz="2000" spc="-1" strike="noStrike">
                <a:solidFill>
                  <a:srgbClr val="000000"/>
                </a:solidFill>
                <a:latin typeface="Arial"/>
              </a:rPr>
              <a:t>, da telegram): distribuzione di posta elettronica pubblicitaria, non importa se qualche messaggio si perd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reliable connectionless</a:t>
            </a:r>
            <a:r>
              <a:rPr b="0" lang="it-IT" sz="2000" spc="-1" strike="noStrike">
                <a:solidFill>
                  <a:srgbClr val="000000"/>
                </a:solidFill>
                <a:latin typeface="Arial"/>
              </a:rPr>
              <a:t> (detto anche </a:t>
            </a:r>
            <a:r>
              <a:rPr b="1" i="1" lang="it-IT" sz="2000" spc="-1" strike="noStrike">
                <a:solidFill>
                  <a:srgbClr val="000000"/>
                </a:solidFill>
                <a:latin typeface="Arial"/>
              </a:rPr>
              <a:t>acknowledged datagram service</a:t>
            </a:r>
            <a:r>
              <a:rPr b="0" lang="it-IT" sz="2000" spc="-1" strike="noStrike">
                <a:solidFill>
                  <a:srgbClr val="000000"/>
                </a:solidFill>
                <a:latin typeface="Arial"/>
              </a:rPr>
              <a:t>): si invia un breve messaggio e si vuole essere assolutamente sicuri che è arriva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9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rimitive di definizione del servizio</a:t>
            </a:r>
            <a:endParaRPr b="0" lang="en-US" sz="4400" spc="-1" strike="noStrike">
              <a:solidFill>
                <a:srgbClr val="ffffff"/>
              </a:solidFill>
              <a:latin typeface="Arial"/>
            </a:endParaRPr>
          </a:p>
        </p:txBody>
      </p:sp>
      <p:sp>
        <p:nvSpPr>
          <p:cNvPr id="29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servizio di livello n è formalmente specificato da un insieme di </a:t>
            </a:r>
            <a:r>
              <a:rPr b="1" i="1" lang="it-IT" sz="2400" spc="-1" strike="noStrike">
                <a:solidFill>
                  <a:srgbClr val="000000"/>
                </a:solidFill>
                <a:latin typeface="Arial"/>
              </a:rPr>
              <a:t>primitive</a:t>
            </a:r>
            <a:r>
              <a:rPr b="0" lang="it-IT" sz="2400" spc="-1" strike="noStrike">
                <a:solidFill>
                  <a:srgbClr val="000000"/>
                </a:solidFill>
                <a:latin typeface="Arial"/>
              </a:rPr>
              <a:t> (cioé operazioni) che un'entità di livello (n+1) può adoperare per accedere al servizio. Esse possono indicare al servizi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zione da compiere (l'informazione viagga da livello n al livello (n-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sa riportare in merito ad una azione effettuata dalla peer entity di livello n (l'informazione viagga dal livello (n-1) al livello 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0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 di primitive</a:t>
            </a:r>
            <a:endParaRPr b="0" lang="en-US" sz="4400" spc="-1" strike="noStrike">
              <a:solidFill>
                <a:srgbClr val="ffffff"/>
              </a:solidFill>
              <a:latin typeface="Arial"/>
            </a:endParaRPr>
          </a:p>
        </p:txBody>
      </p:sp>
      <p:sp>
        <p:nvSpPr>
          <p:cNvPr id="302" name="Rectangle 3"/>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3" name=""/>
          <p:cNvGraphicFramePr/>
          <p:nvPr/>
        </p:nvGraphicFramePr>
        <p:xfrm>
          <a:off x="1657440" y="2514600"/>
          <a:ext cx="5829120" cy="2255760"/>
        </p:xfrm>
        <a:graphic>
          <a:graphicData uri="http://schemas.openxmlformats.org/drawingml/2006/table">
            <a:tbl>
              <a:tblPr/>
              <a:tblGrid>
                <a:gridCol w="1574640"/>
                <a:gridCol w="425448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Palatino"/>
                          <a:ea typeface="Times New Roman"/>
                        </a:rPr>
                        <a:t>Primitiv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Palatino"/>
                          <a:ea typeface="Times New Roman"/>
                        </a:rPr>
                        <a:t>Signific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urier New"/>
                          <a:ea typeface="Times New Roman"/>
                        </a:rPr>
                        <a:t>reque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si chiede al servizio di fare qualcos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urier New"/>
                          <a:ea typeface="Times New Roman"/>
                        </a:rPr>
                        <a:t>indic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si viene avvertiti, dal servizio, di qualche even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urier New"/>
                          <a:ea typeface="Times New Roman"/>
                        </a:rPr>
                        <a:t>respon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si vuole rispondere ad un even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urier New"/>
                          <a:ea typeface="Times New Roman"/>
                        </a:rPr>
                        <a:t>confir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la risposta che si attendeva è arriv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4" name="Rectangle 27"/>
          <p:cNvSpPr/>
          <p:nvPr/>
        </p:nvSpPr>
        <p:spPr>
          <a:xfrm>
            <a:off x="0" y="4343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0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nnessione tra peer </a:t>
            </a:r>
            <a:endParaRPr b="0" lang="en-US" sz="4400" spc="-1" strike="noStrike">
              <a:solidFill>
                <a:srgbClr val="ffffff"/>
              </a:solidFill>
              <a:latin typeface="Arial"/>
            </a:endParaRPr>
          </a:p>
        </p:txBody>
      </p:sp>
      <p:sp>
        <p:nvSpPr>
          <p:cNvPr id="308" name="PlaceHolder 2"/>
          <p:cNvSpPr>
            <a:spLocks noGrp="1"/>
          </p:cNvSpPr>
          <p:nvPr>
            <p:ph/>
          </p:nvPr>
        </p:nvSpPr>
        <p:spPr>
          <a:xfrm>
            <a:off x="1116000" y="1600200"/>
            <a:ext cx="7570800" cy="59688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stabilire una connessione fra le peer entity A a B si avrà che:</a:t>
            </a:r>
            <a:endParaRPr b="0" lang="en-US" sz="2000" spc="-1" strike="noStrike">
              <a:solidFill>
                <a:srgbClr val="000000"/>
              </a:solidFill>
              <a:latin typeface="Arial"/>
            </a:endParaRPr>
          </a:p>
        </p:txBody>
      </p:sp>
      <p:sp>
        <p:nvSpPr>
          <p:cNvPr id="309" name="Rectangle 4"/>
          <p:cNvSpPr/>
          <p:nvPr/>
        </p:nvSpPr>
        <p:spPr>
          <a:xfrm>
            <a:off x="0" y="214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0" name=""/>
          <p:cNvGraphicFramePr/>
          <p:nvPr/>
        </p:nvGraphicFramePr>
        <p:xfrm>
          <a:off x="1420920" y="3213000"/>
          <a:ext cx="6823080" cy="2895840"/>
        </p:xfrm>
        <a:graphic>
          <a:graphicData uri="http://schemas.openxmlformats.org/drawingml/2006/table">
            <a:tbl>
              <a:tblPr/>
              <a:tblGrid>
                <a:gridCol w="731880"/>
                <a:gridCol w="2082600"/>
                <a:gridCol w="2005200"/>
                <a:gridCol w="200340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Palatino"/>
                          <a:ea typeface="Times New Roman"/>
                        </a:rPr>
                        <a:t>Ent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Palatino"/>
                          <a:ea typeface="Times New Roman"/>
                        </a:rPr>
                        <a:t>Azio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Palatino"/>
                          <a:ea typeface="Times New Roman"/>
                        </a:rPr>
                        <a:t>Flusso informazio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Palatino"/>
                          <a:ea typeface="Times New Roman"/>
                        </a:rPr>
                        <a:t>Signific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invia u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urier New"/>
                          <a:ea typeface="Times New Roman"/>
                        </a:rPr>
                        <a:t>connect.reque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da livello 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 livello (n-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 desidera connetter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riceve u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urier New"/>
                          <a:ea typeface="Times New Roman"/>
                        </a:rPr>
                        <a:t>connect.indic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da livello (n-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 livello 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qualcuno vuole connetter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invia u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urier New"/>
                          <a:ea typeface="Times New Roman"/>
                        </a:rPr>
                        <a:t>connect.respon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da livello 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 livello (n-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B accetta (oppure 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riceve u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urier New"/>
                          <a:ea typeface="Times New Roman"/>
                        </a:rPr>
                        <a:t>connect.confir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da livello (n-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 livello 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B ha accettato (o 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1" name="Rectangle 42"/>
          <p:cNvSpPr/>
          <p:nvPr/>
        </p:nvSpPr>
        <p:spPr>
          <a:xfrm>
            <a:off x="0" y="4708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ervizi confermati e non confermati</a:t>
            </a:r>
            <a:endParaRPr b="0" lang="en-US" sz="4000" spc="-1" strike="noStrike">
              <a:solidFill>
                <a:srgbClr val="ffffff"/>
              </a:solidFill>
              <a:latin typeface="Arial"/>
            </a:endParaRPr>
          </a:p>
        </p:txBody>
      </p:sp>
      <p:sp>
        <p:nvSpPr>
          <p:cNvPr id="31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er il servizio confermato avremo:</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que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dic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spon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firm().</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ntre per il servizio non confermato:</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que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dica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nect è sempre confermato (ovviamente), ma altri servizi 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servizio connect-oriented</a:t>
            </a:r>
            <a:endParaRPr b="0" lang="en-US" sz="4000" spc="-1" strike="noStrike">
              <a:solidFill>
                <a:srgbClr val="ffffff"/>
              </a:solidFill>
              <a:latin typeface="Arial"/>
            </a:endParaRPr>
          </a:p>
        </p:txBody>
      </p:sp>
      <p:sp>
        <p:nvSpPr>
          <p:cNvPr id="3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fontScale="99000"/>
          </a:bodyPr>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nect.request();</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nect.indication();</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nect.response();</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nect.confirm();</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ata.request(): si cerca di inviare dati;</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ata.indication(): sono arrivati dei dati;</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sconnect.request(): si vuole terminare la connessione;</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sconnect.indication(): l'altra entity vuole termin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 realtà nel mondo delle Reti</a:t>
            </a:r>
            <a:endParaRPr b="0" lang="en-US" sz="4400" spc="-1" strike="noStrike">
              <a:solidFill>
                <a:srgbClr val="ffffff"/>
              </a:solidFill>
              <a:latin typeface="Arial"/>
            </a:endParaRPr>
          </a:p>
        </p:txBody>
      </p:sp>
      <p:sp>
        <p:nvSpPr>
          <p:cNvPr id="323" name="Rectangle 3"/>
          <p:cNvSpPr/>
          <p:nvPr/>
        </p:nvSpPr>
        <p:spPr>
          <a:xfrm>
            <a:off x="641520" y="2278080"/>
            <a:ext cx="7497360" cy="2014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a:ea typeface="Times New Roman"/>
              </a:rPr>
              <a:t>Iniziamo ad esaminare due importanti realtà nel mondo delle reti:</a:t>
            </a:r>
            <a:endParaRPr b="0" lang="en-US" sz="1800" spc="-1" strike="noStrike">
              <a:solidFill>
                <a:srgbClr val="000000"/>
              </a:solidFill>
              <a:latin typeface="Arial"/>
            </a:endParaRPr>
          </a:p>
          <a:p>
            <a:pPr>
              <a:lnSpc>
                <a:spcPct val="100000"/>
              </a:lnSpc>
              <a:buClr>
                <a:srgbClr val="000000"/>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a:ea typeface="Times New Roman"/>
              </a:rPr>
              <a:t>OSI Reference Model</a:t>
            </a:r>
            <a:r>
              <a:rPr b="0" lang="it-IT" sz="1800" spc="-1" strike="noStrike">
                <a:solidFill>
                  <a:srgbClr val="000000"/>
                </a:solidFill>
                <a:latin typeface="Palatino"/>
                <a:ea typeface="Times New Roman"/>
              </a:rPr>
              <a:t>;</a:t>
            </a:r>
            <a:endParaRPr b="0" lang="en-US" sz="1800" spc="-1" strike="noStrike">
              <a:solidFill>
                <a:srgbClr val="000000"/>
              </a:solidFill>
              <a:latin typeface="Arial"/>
            </a:endParaRPr>
          </a:p>
          <a:p>
            <a:pPr>
              <a:lnSpc>
                <a:spcPct val="100000"/>
              </a:lnSpc>
              <a:buClr>
                <a:srgbClr val="000000"/>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a:ea typeface="Times New Roman"/>
              </a:rPr>
              <a:t>Internet Protocol Suite</a:t>
            </a:r>
            <a:r>
              <a:rPr b="0" lang="it-IT" sz="1800" spc="-1" strike="noStrike">
                <a:solidFill>
                  <a:srgbClr val="000000"/>
                </a:solidFill>
                <a:latin typeface="Palatino"/>
                <a:ea typeface="Times New Roman"/>
              </a:rPr>
              <a:t> (detta anche </a:t>
            </a:r>
            <a:r>
              <a:rPr b="1" i="1" lang="it-IT" sz="1800" spc="-1" strike="noStrike">
                <a:solidFill>
                  <a:srgbClr val="000000"/>
                </a:solidFill>
                <a:latin typeface="Palatino"/>
                <a:ea typeface="Times New Roman"/>
              </a:rPr>
              <a:t>architettura TCP/IP</a:t>
            </a:r>
            <a:r>
              <a:rPr b="0" lang="it-IT" sz="1800" spc="-1" strike="noStrike">
                <a:solidFill>
                  <a:srgbClr val="000000"/>
                </a:solidFill>
                <a:latin typeface="Palatino"/>
                <a:ea typeface="Times New Roman"/>
              </a:rPr>
              <a:t> 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a:ea typeface="Times New Roman"/>
              </a:rPr>
              <a:t>piuttosto impropriamente, </a:t>
            </a:r>
            <a:r>
              <a:rPr b="1" i="1" lang="it-IT" sz="1800" spc="-1" strike="noStrike">
                <a:solidFill>
                  <a:srgbClr val="000000"/>
                </a:solidFill>
                <a:latin typeface="Palatino"/>
                <a:ea typeface="Times New Roman"/>
              </a:rPr>
              <a:t>TCP/IP reference model</a:t>
            </a:r>
            <a:r>
              <a:rPr b="0" lang="it-IT" sz="1800" spc="-1" strike="noStrike">
                <a:solidFill>
                  <a:srgbClr val="000000"/>
                </a:solidFill>
                <a:latin typeface="Palatino"/>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a:ea typeface="Times New Roman"/>
              </a:rPr>
              <a:t>Un modello di riferimento è cosa diversa da un'architettura di re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4" name=""/>
          <p:cNvGraphicFramePr/>
          <p:nvPr/>
        </p:nvGraphicFramePr>
        <p:xfrm>
          <a:off x="1187280" y="4011480"/>
          <a:ext cx="5829480" cy="2621160"/>
        </p:xfrm>
        <a:graphic>
          <a:graphicData uri="http://schemas.openxmlformats.org/drawingml/2006/table">
            <a:tbl>
              <a:tblPr/>
              <a:tblGrid>
                <a:gridCol w="1845000"/>
                <a:gridCol w="3984480"/>
              </a:tblGrid>
              <a:tr h="1616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Palatino"/>
                          <a:ea typeface="Times New Roman"/>
                        </a:rPr>
                        <a:t>Modello di riferiment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a:ea typeface="Times New Roman"/>
                        </a:rPr>
                        <a:t>definisce il numero, le relazioni e le caratteristiche funzionali dei livelli, ma non definisce i protocolli effettiv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5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Palatino"/>
                          <a:ea typeface="Times New Roman"/>
                        </a:rPr>
                        <a:t>Architettura di re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a:ea typeface="Times New Roman"/>
                        </a:rPr>
                        <a:t>definisce, livello per livello, i protocolli effettiv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5" name="Rectangle 15"/>
          <p:cNvSpPr/>
          <p:nvPr/>
        </p:nvSpPr>
        <p:spPr>
          <a:xfrm>
            <a:off x="0" y="4387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2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modello ISO-OSI</a:t>
            </a:r>
            <a:endParaRPr b="0" lang="en-US" sz="4400" spc="-1" strike="noStrike">
              <a:solidFill>
                <a:srgbClr val="ffffff"/>
              </a:solidFill>
              <a:latin typeface="Arial"/>
            </a:endParaRPr>
          </a:p>
        </p:txBody>
      </p:sp>
      <p:sp>
        <p:nvSpPr>
          <p:cNvPr id="32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SI (Open Systems Interconnection) Reference Model è il frutto del lavoro della ISO (International Standard Organization), ed ha lo scopo d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ornire uno standard per la connessione di sistemi aperti, cioé in grado di colloquiare gli uni con gli altr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ornire una base comune per lo sviluppo di standard per l'interconnessione di sistem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ornire un modello rispetto a cui confrontare le varie architetture di re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3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rincipi di progetto del modello OSI</a:t>
            </a:r>
            <a:endParaRPr b="0" lang="en-US" sz="4000" spc="-1" strike="noStrike">
              <a:solidFill>
                <a:srgbClr val="ffffff"/>
              </a:solidFill>
              <a:latin typeface="Arial"/>
            </a:endParaRPr>
          </a:p>
        </p:txBody>
      </p:sp>
      <p:sp>
        <p:nvSpPr>
          <p:cNvPr id="333" name="PlaceHolder 2"/>
          <p:cNvSpPr>
            <a:spLocks noGrp="1"/>
          </p:cNvSpPr>
          <p:nvPr>
            <p:ph/>
          </p:nvPr>
        </p:nvSpPr>
        <p:spPr>
          <a:xfrm>
            <a:off x="1126800" y="1700280"/>
            <a:ext cx="7692840" cy="416232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so non include di per se la definizione di protocolli specifici (che sono stati definiti successivamente, in documenti separat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incipi di progetto seguiti durante lo sviluppo del modello OS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livello deve avere un diverso livello di astrazion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livello deve avere una funzione ben definit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celta dei livelli deve: </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inimizzare il passaggio delle informazioni fra livelli;</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vitare:</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oppe funzioni in un livello;</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oppi livel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egnaposto dat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5" name="Segnaposto piè di pagina 5"/>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3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livelli del modello OSI</a:t>
            </a:r>
            <a:endParaRPr b="0" lang="en-US" sz="4400" spc="-1" strike="noStrike">
              <a:solidFill>
                <a:srgbClr val="ffffff"/>
              </a:solidFill>
              <a:latin typeface="Arial"/>
            </a:endParaRPr>
          </a:p>
        </p:txBody>
      </p:sp>
      <p:sp>
        <p:nvSpPr>
          <p:cNvPr id="337" name="PlaceHolder 2"/>
          <p:cNvSpPr>
            <a:spLocks noGrp="1"/>
          </p:cNvSpPr>
          <p:nvPr>
            <p:ph/>
          </p:nvPr>
        </p:nvSpPr>
        <p:spPr>
          <a:xfrm>
            <a:off x="1116000" y="1600200"/>
            <a:ext cx="2682720" cy="452592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modello OSI consiste di 7 livelli (i maligni dicono che ciò fu dettato dal desiderio di rendere il modello compatibile con l'architettura SNA dell'IBM).</a:t>
            </a:r>
            <a:endParaRPr b="0" lang="en-US" sz="2000" spc="-1" strike="noStrike">
              <a:solidFill>
                <a:srgbClr val="000000"/>
              </a:solidFill>
              <a:latin typeface="Arial"/>
            </a:endParaRPr>
          </a:p>
        </p:txBody>
      </p:sp>
      <p:pic>
        <p:nvPicPr>
          <p:cNvPr id="338" name="Picture 4" descr=""/>
          <p:cNvPicPr/>
          <p:nvPr/>
        </p:nvPicPr>
        <p:blipFill>
          <a:blip r:embed="rId1"/>
          <a:stretch/>
        </p:blipFill>
        <p:spPr>
          <a:xfrm>
            <a:off x="3924360" y="1295280"/>
            <a:ext cx="4578120" cy="479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protocolli</a:t>
            </a:r>
            <a:endParaRPr b="0" lang="en-US" sz="4400" spc="-1" strike="noStrike">
              <a:solidFill>
                <a:srgbClr val="ffffff"/>
              </a:solidFill>
              <a:latin typeface="Arial"/>
            </a:endParaRPr>
          </a:p>
        </p:txBody>
      </p:sp>
      <p:sp>
        <p:nvSpPr>
          <p:cNvPr id="21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d ogni livello, su una macchina, esistono delle entità software (processi) che intendono comunicare con entità software di pari livello su un’altra macchi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ntità di pari livello si chiamano </a:t>
            </a:r>
            <a:r>
              <a:rPr b="1" lang="it-IT" sz="2400" spc="-1" strike="noStrike">
                <a:solidFill>
                  <a:srgbClr val="000000"/>
                </a:solidFill>
                <a:latin typeface="Arial"/>
              </a:rPr>
              <a:t>pe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municazione fra due peer ad un certo livello avviene per mezzo di un insieme di regole e convenzioni chiamate </a:t>
            </a:r>
            <a:r>
              <a:rPr b="1" lang="it-IT" sz="2400" spc="-1" strike="noStrike">
                <a:solidFill>
                  <a:srgbClr val="000000"/>
                </a:solidFill>
                <a:latin typeface="Arial"/>
              </a:rPr>
              <a:t>protocollo del livel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4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1 – Il livello fisico</a:t>
            </a:r>
            <a:endParaRPr b="0" lang="en-US" sz="4400" spc="-1" strike="noStrike">
              <a:solidFill>
                <a:srgbClr val="ffffff"/>
              </a:solidFill>
              <a:latin typeface="Arial"/>
            </a:endParaRPr>
          </a:p>
        </p:txBody>
      </p:sp>
      <p:sp>
        <p:nvSpPr>
          <p:cNvPr id="34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ivello fisic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a a che fare con la trasmissione di bit "grezzi" su un canale di comunicazi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aspetti di progetto son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olti a garantire che se parte un 1, arrivi effettivamente un 1 e non uno zer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rgamente riguardanti le caratteristiche meccaniche, elettriche e procedurali delle </a:t>
            </a:r>
            <a:r>
              <a:rPr b="1" i="1" lang="it-IT" sz="1800" spc="-1" strike="noStrike">
                <a:solidFill>
                  <a:srgbClr val="000000"/>
                </a:solidFill>
                <a:latin typeface="Arial"/>
              </a:rPr>
              <a:t>interfacce  di rete</a:t>
            </a:r>
            <a:r>
              <a:rPr b="0" lang="it-IT" sz="1800" spc="-1" strike="noStrike">
                <a:solidFill>
                  <a:srgbClr val="000000"/>
                </a:solidFill>
                <a:latin typeface="Arial"/>
              </a:rPr>
              <a:t> (componenti che connettono l'elaboratore al mezzo fisico) e le caratteristiche del mezzo fisico.</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caratterizzano, tra gli altri:</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ensioni scelte per rappresentare 0 ed 1;</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urata (in microsecondi) di un bi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rasmissione simultanea in due direzioni oppure n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ma dei connettor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4"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4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2 – Il livello Data Link</a:t>
            </a:r>
            <a:endParaRPr b="0" lang="en-US" sz="4400" spc="-1" strike="noStrike">
              <a:solidFill>
                <a:srgbClr val="ffffff"/>
              </a:solidFill>
              <a:latin typeface="Arial"/>
            </a:endParaRPr>
          </a:p>
        </p:txBody>
      </p:sp>
      <p:sp>
        <p:nvSpPr>
          <p:cNvPr id="346" name="PlaceHolder 2"/>
          <p:cNvSpPr>
            <a:spLocks noGrp="1"/>
          </p:cNvSpPr>
          <p:nvPr>
            <p:ph/>
          </p:nvPr>
        </p:nvSpPr>
        <p:spPr>
          <a:xfrm>
            <a:off x="1054080" y="1557360"/>
            <a:ext cx="7765920" cy="4307040"/>
          </a:xfrm>
          <a:prstGeom prst="rect">
            <a:avLst/>
          </a:prstGeom>
          <a:solidFill>
            <a:srgbClr val="ffffff"/>
          </a:solid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copo: far si che un mezzo fisico trasmissivo appaia, al livello superiore, come una linea di trasmissione esente da errori di trasmissione non rilevati.</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rmalmente funziona così:</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pezzetta i dati provenienti dal livello superiore in frame (da qualche centinaia a qualche migliaia di byt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via i frame in sequenza;</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spetta un </a:t>
            </a:r>
            <a:r>
              <a:rPr b="1" i="1" lang="it-IT" sz="1600" spc="-1" strike="noStrike">
                <a:solidFill>
                  <a:srgbClr val="000000"/>
                </a:solidFill>
                <a:latin typeface="Arial"/>
              </a:rPr>
              <a:t>acknowledgement frame</a:t>
            </a:r>
            <a:r>
              <a:rPr b="0" lang="it-IT" sz="1600" spc="-1" strike="noStrike">
                <a:solidFill>
                  <a:srgbClr val="000000"/>
                </a:solidFill>
                <a:latin typeface="Arial"/>
              </a:rPr>
              <a:t> (</a:t>
            </a:r>
            <a:r>
              <a:rPr b="1" i="1" lang="it-IT" sz="1600" spc="-1" strike="noStrike">
                <a:solidFill>
                  <a:srgbClr val="000000"/>
                </a:solidFill>
                <a:latin typeface="Arial"/>
              </a:rPr>
              <a:t>ack</a:t>
            </a:r>
            <a:r>
              <a:rPr b="0" lang="it-IT" sz="1600" spc="-1" strike="noStrike">
                <a:solidFill>
                  <a:srgbClr val="000000"/>
                </a:solidFill>
                <a:latin typeface="Arial"/>
              </a:rPr>
              <a:t>) per ogni frame inviat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combenz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ggiunta di delimitatori (</a:t>
            </a:r>
            <a:r>
              <a:rPr b="1" i="1" lang="it-IT" sz="1600" spc="-1" strike="noStrike">
                <a:solidFill>
                  <a:srgbClr val="000000"/>
                </a:solidFill>
                <a:latin typeface="Arial"/>
              </a:rPr>
              <a:t>framing</a:t>
            </a:r>
            <a:r>
              <a:rPr b="0" lang="it-IT" sz="1600" spc="-1" strike="noStrike">
                <a:solidFill>
                  <a:srgbClr val="000000"/>
                </a:solidFill>
                <a:latin typeface="Arial"/>
              </a:rPr>
              <a:t>) all'inizio ed alla fine del fram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gestione di errori</a:t>
            </a:r>
            <a:r>
              <a:rPr b="0" lang="it-IT" sz="1600" spc="-1" strike="noStrike">
                <a:solidFill>
                  <a:srgbClr val="000000"/>
                </a:solidFill>
                <a:latin typeface="Arial"/>
              </a:rPr>
              <a:t> di trasmissione causati da errori in ricezione, perdita di frame, duplicazione di frame (da perdita di ack);</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regolazione del traffico</a:t>
            </a:r>
            <a:r>
              <a:rPr b="0" lang="it-IT" sz="1600" spc="-1" strike="noStrike">
                <a:solidFill>
                  <a:srgbClr val="000000"/>
                </a:solidFill>
                <a:latin typeface="Arial"/>
              </a:rPr>
              <a:t> (impedire che il ricevente sia "sommerso" di dati);</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eccanismi per l'invio degli ac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reti broadcast hanno un'ulteriore problema: il controllo dell'accesso al canale trasmissivo, che è condiviso. Per questo hanno uno speciale sottolivello del livello data link, il </a:t>
            </a:r>
            <a:r>
              <a:rPr b="1" i="1" lang="it-IT" sz="1600" spc="-1" strike="noStrike">
                <a:solidFill>
                  <a:srgbClr val="000000"/>
                </a:solidFill>
                <a:latin typeface="Arial"/>
              </a:rPr>
              <a:t>sottolivello MAC (Medium Access Control)</a:t>
            </a:r>
            <a:r>
              <a:rPr b="0" lang="it-IT"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8"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4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3 – Il livello Network</a:t>
            </a:r>
            <a:endParaRPr b="0" lang="en-US" sz="4400" spc="-1" strike="noStrike">
              <a:solidFill>
                <a:srgbClr val="ffffff"/>
              </a:solidFill>
              <a:latin typeface="Arial"/>
            </a:endParaRPr>
          </a:p>
        </p:txBody>
      </p:sp>
      <p:sp>
        <p:nvSpPr>
          <p:cNvPr id="350" name="PlaceHolder 2"/>
          <p:cNvSpPr>
            <a:spLocks noGrp="1"/>
          </p:cNvSpPr>
          <p:nvPr>
            <p:ph/>
          </p:nvPr>
        </p:nvSpPr>
        <p:spPr>
          <a:xfrm>
            <a:off x="1271520" y="1484280"/>
            <a:ext cx="7693200" cy="4608720"/>
          </a:xfrm>
          <a:prstGeom prst="rect">
            <a:avLst/>
          </a:prstGeom>
          <a:solidFill>
            <a:srgbClr val="ffffff"/>
          </a:solidFill>
          <a:ln w="0">
            <a:noFill/>
          </a:ln>
        </p:spPr>
        <p:txBody>
          <a:bodyPr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copo: controllare il funzionamento della subnet di comunicazione.</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izialmente tale livello offriva solamente servizi connection oriented; successivamente fu aggiunta la modalità connectionless.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combenze:</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routing</a:t>
            </a:r>
            <a:r>
              <a:rPr b="0" lang="it-IT" sz="1800" spc="-1" strike="noStrike">
                <a:solidFill>
                  <a:srgbClr val="000000"/>
                </a:solidFill>
                <a:latin typeface="Arial"/>
              </a:rPr>
              <a:t>, cioé scelta del cammino da utilizzare. Può essere:</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atico (fissato ogni tanto e raramente variabile);</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namico (continuamente aggiornato, anche da un pacchetto all'altro);</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gestione della congestione</a:t>
            </a:r>
            <a:r>
              <a:rPr b="0" lang="it-IT" sz="1800" spc="-1" strike="noStrike">
                <a:solidFill>
                  <a:srgbClr val="000000"/>
                </a:solidFill>
                <a:latin typeface="Arial"/>
              </a:rPr>
              <a:t>: a volte troppi pacchetti arrivano ad un router (es.: da molte linee in ingresso ad un unica linea di uscita);</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accounting</a:t>
            </a:r>
            <a:r>
              <a:rPr b="0" lang="it-IT" sz="1800" spc="-1" strike="noStrike">
                <a:solidFill>
                  <a:srgbClr val="000000"/>
                </a:solidFill>
                <a:latin typeface="Arial"/>
              </a:rPr>
              <a:t>: gli operatori della rete possono far pagare l'uso agli utenti sulla base del traffico generato;</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conversione di dati</a:t>
            </a:r>
            <a:r>
              <a:rPr b="0" lang="it-IT" sz="1800" spc="-1" strike="noStrike">
                <a:solidFill>
                  <a:srgbClr val="000000"/>
                </a:solidFill>
                <a:latin typeface="Arial"/>
              </a:rPr>
              <a:t> nel passaggio fra una rete ed un'altra (diversa):</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dirizzi da rimappare;</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cchetti da frammentare;</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tocolli diversi da gesti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2"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5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4 – Il livello Transport</a:t>
            </a:r>
            <a:endParaRPr b="0" lang="en-US" sz="4400" spc="-1" strike="noStrike">
              <a:solidFill>
                <a:srgbClr val="ffffff"/>
              </a:solidFill>
              <a:latin typeface="Arial"/>
            </a:endParaRPr>
          </a:p>
        </p:txBody>
      </p:sp>
      <p:sp>
        <p:nvSpPr>
          <p:cNvPr id="35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copo: accettare dati dal livello superiore, spezzettarli in pacchetti, passarli al livello network ed assicurarsi che arrivino alla peer entity che si trova all'altra estremità della connessione. In più, fare ciò efficientemente, isolando i livelli superiori dai cambiamenti della tecnologia di rete sottosta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livello transport è il primo livello realmente </a:t>
            </a:r>
            <a:r>
              <a:rPr b="1" i="1" lang="it-IT" sz="2000" spc="-1" strike="noStrike">
                <a:solidFill>
                  <a:srgbClr val="000000"/>
                </a:solidFill>
                <a:latin typeface="Arial"/>
              </a:rPr>
              <a:t>end-to-end</a:t>
            </a:r>
            <a:r>
              <a:rPr b="0" lang="it-IT" sz="2000" spc="-1" strike="noStrike">
                <a:solidFill>
                  <a:srgbClr val="000000"/>
                </a:solidFill>
                <a:latin typeface="Arial"/>
              </a:rPr>
              <a:t>, cioé da host sorgente a host destinatario: le peer entity di questo livello portano avanti una conversazione senza intermediari.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este problematiche sono, in ambito end-to-end, le stesse che il livello data link ha nell'ambito di una singola linea di comunicazione; le soluzioni però sono alquanto diverse per la presenza della subn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5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OSI 4 – Incombenze del livello Transport</a:t>
            </a:r>
            <a:endParaRPr b="0" lang="en-US" sz="4000" spc="-1" strike="noStrike">
              <a:solidFill>
                <a:srgbClr val="ffffff"/>
              </a:solidFill>
              <a:latin typeface="Arial"/>
            </a:endParaRPr>
          </a:p>
        </p:txBody>
      </p:sp>
      <p:sp>
        <p:nvSpPr>
          <p:cNvPr id="35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creazione di connessioni di livello network</a:t>
            </a:r>
            <a:r>
              <a:rPr b="0" lang="it-IT" sz="1800" spc="-1" strike="noStrike">
                <a:solidFill>
                  <a:srgbClr val="000000"/>
                </a:solidFill>
                <a:latin typeface="Arial"/>
              </a:rPr>
              <a:t> per ogni connessione di livello transport richiesta:</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rmalmente, una connessione network per ciascuna connessione transport;</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ottenere un alto throughput: molte connessioni network per una singola connessione transport;</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 è alto il costo di una connessione network: una singola connessione network viene usata per molte connessioni transport, con meccanismi di multiplexing;</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offerta di vari servizi</a:t>
            </a:r>
            <a:r>
              <a:rPr b="0" lang="it-IT" sz="1800" spc="-1" strike="noStrike">
                <a:solidFill>
                  <a:srgbClr val="000000"/>
                </a:solidFill>
                <a:latin typeface="Arial"/>
              </a:rPr>
              <a:t> al livello superiore:</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nale punto a punto affidabile, che consegna i dati in ordine e senza errori (il servizio più diffuso, connection oriented);</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io di messaggi isolati, con o senza garanzia di consegna (connectionless);</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roadcasting di messaggi a molti destinatari (connection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6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5 – Il livello Session</a:t>
            </a:r>
            <a:endParaRPr b="0" lang="en-US" sz="4400" spc="-1" strike="noStrike">
              <a:solidFill>
                <a:srgbClr val="ffffff"/>
              </a:solidFill>
              <a:latin typeface="Arial"/>
            </a:endParaRPr>
          </a:p>
        </p:txBody>
      </p:sp>
      <p:sp>
        <p:nvSpPr>
          <p:cNvPr id="36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Ha a che fare con servizi più raffinati che non quelli del transport layer, come ad 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Arial"/>
              </a:rPr>
              <a:t>token management</a:t>
            </a:r>
            <a:r>
              <a:rPr b="0" lang="it-IT" sz="3200" spc="-1" strike="noStrike">
                <a:solidFill>
                  <a:srgbClr val="000000"/>
                </a:solidFill>
                <a:latin typeface="Arial"/>
              </a:rPr>
              <a:t>: autorizza le due parti, a turno, alla trasmissi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me vedremo nel seguito, questo livello non ha avuto un grande succes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4"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6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6 – Il livello Presentation</a:t>
            </a:r>
            <a:endParaRPr b="0" lang="en-US" sz="4400" spc="-1" strike="noStrike">
              <a:solidFill>
                <a:srgbClr val="ffffff"/>
              </a:solidFill>
              <a:latin typeface="Arial"/>
            </a:endParaRPr>
          </a:p>
        </p:txBody>
      </p:sp>
      <p:sp>
        <p:nvSpPr>
          <p:cNvPr id="36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interessato alla sintassi ed alla semantica delle informazioni da trasferire. Ad esempio, si occupa di convertire tipi di dati standard (caratteri, interi) da rappresentazioni specifiche della piattaforma HW di partenza in una rappresentazione "on the wire" e poi in quella specifica dell' HW di arrivo.</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nche questo livello non ha avuto molto succes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8"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6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7 – Il livello Application</a:t>
            </a:r>
            <a:endParaRPr b="0" lang="en-US" sz="4400" spc="-1" strike="noStrike">
              <a:solidFill>
                <a:srgbClr val="ffffff"/>
              </a:solidFill>
              <a:latin typeface="Arial"/>
            </a:endParaRPr>
          </a:p>
        </p:txBody>
      </p:sp>
      <p:sp>
        <p:nvSpPr>
          <p:cNvPr id="37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vede che qui risieda tutta la varietà di protocolli che sono necessari per offrire i vari servizi agli utenti, quali ad esempi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terminale virtuale</a:t>
            </a:r>
            <a:r>
              <a:rPr b="0" lang="it-IT"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transferimento file</a:t>
            </a:r>
            <a:r>
              <a:rPr b="0" lang="it-IT"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posta elettronica</a:t>
            </a:r>
            <a:r>
              <a:rPr b="0" lang="it-IT"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traverso l'uso di questi protocolli si possono scrivere applicazioni che offrono i suddetti servizi agli utenti final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2"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7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rchitettura TCP/IP</a:t>
            </a:r>
            <a:endParaRPr b="0" lang="en-US" sz="4400" spc="-1" strike="noStrike">
              <a:solidFill>
                <a:srgbClr val="ffffff"/>
              </a:solidFill>
              <a:latin typeface="Arial"/>
            </a:endParaRPr>
          </a:p>
        </p:txBody>
      </p:sp>
      <p:sp>
        <p:nvSpPr>
          <p:cNvPr id="37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madre di tutte le reti" fu </a:t>
            </a:r>
            <a:r>
              <a:rPr b="1" i="1" lang="it-IT" sz="2000" spc="-1" strike="noStrike">
                <a:solidFill>
                  <a:srgbClr val="000000"/>
                </a:solidFill>
                <a:latin typeface="Arial"/>
              </a:rPr>
              <a:t>Arpanet</a:t>
            </a:r>
            <a:r>
              <a:rPr b="0" lang="it-IT" sz="2000" spc="-1" strike="noStrike">
                <a:solidFill>
                  <a:srgbClr val="000000"/>
                </a:solidFill>
                <a:latin typeface="Arial"/>
              </a:rPr>
              <a:t>, originata da un progetto di ricerca finanziato dal DoD (Department of Defense) americano. Lo scopo era creare una rete estremamente affidabile anche in caso di catastrofi (o eventi bellici) che ne eliminassero una parte. Arpanet, attraverso varie evoluzioni, ha dato origine alla attuale Interne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 corso dello sviluppo, per integrare via via tipi diversi di reti, si vide la necessità di una nuova architettura, mirata fin dall'inizio a consentire l'interconnessione di molteplici reti (internetwor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rchitettura divenne, più tardi, nota coi nomi di</a:t>
            </a:r>
            <a:r>
              <a:rPr b="1" i="1" lang="it-IT" sz="2000" spc="-1" strike="noStrike">
                <a:solidFill>
                  <a:srgbClr val="000000"/>
                </a:solidFill>
                <a:latin typeface="Arial"/>
              </a:rPr>
              <a:t> Internet Protocol Suite</a:t>
            </a:r>
            <a:r>
              <a:rPr b="0" lang="it-IT" sz="2000" spc="-1" strike="noStrike">
                <a:solidFill>
                  <a:srgbClr val="000000"/>
                </a:solidFill>
                <a:latin typeface="Arial"/>
              </a:rPr>
              <a:t>, </a:t>
            </a:r>
            <a:r>
              <a:rPr b="1" i="1" lang="it-IT" sz="2000" spc="-1" strike="noStrike">
                <a:solidFill>
                  <a:srgbClr val="000000"/>
                </a:solidFill>
                <a:latin typeface="Arial"/>
              </a:rPr>
              <a:t>architettura TCP/IP</a:t>
            </a:r>
            <a:r>
              <a:rPr b="0" lang="it-IT" sz="2000" spc="-1" strike="noStrike">
                <a:solidFill>
                  <a:srgbClr val="000000"/>
                </a:solidFill>
                <a:latin typeface="Arial"/>
              </a:rPr>
              <a:t> e </a:t>
            </a:r>
            <a:r>
              <a:rPr b="1" i="1" lang="it-IT" sz="2000" spc="-1" strike="noStrike">
                <a:solidFill>
                  <a:srgbClr val="000000"/>
                </a:solidFill>
                <a:latin typeface="Arial"/>
              </a:rPr>
              <a:t>TCP/IP reference model</a:t>
            </a:r>
            <a:r>
              <a:rPr b="0" lang="it-IT" sz="2000" spc="-1" strike="noStrike">
                <a:solidFill>
                  <a:srgbClr val="000000"/>
                </a:solidFill>
                <a:latin typeface="Arial"/>
              </a:rPr>
              <a:t>, dal nome dei suoi due protocolli principali. Essa non è un modello nel senso stretto del termine, in quanto include i protocolli effettivi, che sono specificati per mezzo di documenti detti </a:t>
            </a:r>
            <a:r>
              <a:rPr b="1" i="1" lang="it-IT" sz="2000" spc="-1" strike="noStrike">
                <a:solidFill>
                  <a:srgbClr val="000000"/>
                </a:solidFill>
                <a:latin typeface="Arial"/>
              </a:rPr>
              <a:t>RFC</a:t>
            </a:r>
            <a:r>
              <a:rPr b="0" lang="it-IT" sz="2000" spc="-1" strike="noStrike">
                <a:solidFill>
                  <a:srgbClr val="000000"/>
                </a:solidFill>
                <a:latin typeface="Arial"/>
              </a:rPr>
              <a:t> (</a:t>
            </a:r>
            <a:r>
              <a:rPr b="1" i="1" lang="it-IT" sz="2000" spc="-1" strike="noStrike">
                <a:solidFill>
                  <a:srgbClr val="000000"/>
                </a:solidFill>
                <a:latin typeface="Arial"/>
              </a:rPr>
              <a:t>Request For Comments</a:t>
            </a:r>
            <a:r>
              <a:rPr b="0" lang="it-IT"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elazione tra TCP/IP e OSI</a:t>
            </a:r>
            <a:endParaRPr b="0" lang="en-US" sz="4400" spc="-1" strike="noStrike">
              <a:solidFill>
                <a:srgbClr val="ffffff"/>
              </a:solidFill>
              <a:latin typeface="Arial"/>
            </a:endParaRPr>
          </a:p>
        </p:txBody>
      </p:sp>
      <p:pic>
        <p:nvPicPr>
          <p:cNvPr id="378" name="Picture 3" descr=""/>
          <p:cNvPicPr/>
          <p:nvPr/>
        </p:nvPicPr>
        <p:blipFill>
          <a:blip r:embed="rId1"/>
          <a:stretch/>
        </p:blipFill>
        <p:spPr>
          <a:xfrm>
            <a:off x="2736720" y="1671480"/>
            <a:ext cx="4462560" cy="3056040"/>
          </a:xfrm>
          <a:prstGeom prst="rect">
            <a:avLst/>
          </a:prstGeom>
          <a:ln w="0">
            <a:noFill/>
          </a:ln>
        </p:spPr>
      </p:pic>
      <p:sp>
        <p:nvSpPr>
          <p:cNvPr id="379" name="Rectangle 4"/>
          <p:cNvSpPr/>
          <p:nvPr/>
        </p:nvSpPr>
        <p:spPr>
          <a:xfrm>
            <a:off x="1116000" y="4653000"/>
            <a:ext cx="149130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 requisiti di progetto stabiliti fin dall'inizio (estrema affidabilità 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tolleranza ai guasti, possibilità di interconnessione di più re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portarono alla scelta di una rete:</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packet-switched;</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basata su un livello connectionless di inter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Meccanismo di comunicazione</a:t>
            </a:r>
            <a:endParaRPr b="0" lang="en-US" sz="4400" spc="-1" strike="noStrike">
              <a:solidFill>
                <a:srgbClr val="ffffff"/>
              </a:solidFill>
              <a:latin typeface="Arial"/>
            </a:endParaRPr>
          </a:p>
        </p:txBody>
      </p:sp>
      <p:sp>
        <p:nvSpPr>
          <p:cNvPr id="2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realtà, nessun dato viene trasferito dal livello n di una macchina al livello n di un’altra macchi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dati vengono inviati, insieme ad opportune informazioni di controllo, dal livello n al livello n-1, e così via scendendo nella gerarchia dei livelli fino al livello 0 (livello fisic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livello 0 i dati e le informazioni vengono effetivamente trasferite alla macchina destinatario, dove risalgono attraverso la gerarchia di protocolli fino al livello 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8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CP/IP: il livello Host-to-Network</a:t>
            </a:r>
            <a:endParaRPr b="0" lang="en-US" sz="4400" spc="-1" strike="noStrike">
              <a:solidFill>
                <a:srgbClr val="ffffff"/>
              </a:solidFill>
              <a:latin typeface="Arial"/>
            </a:endParaRPr>
          </a:p>
        </p:txBody>
      </p:sp>
      <p:sp>
        <p:nvSpPr>
          <p:cNvPr id="38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livello più basso non è specificato nell'architettura, che prevede di utilizzare quelli disponibili per le varie piattaforme HW e conformi agli stand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utto ciò che si assume è la capacità dell'host di inviare pacchetti IP sulla re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5"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8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CP/IP: il livello Internet</a:t>
            </a:r>
            <a:endParaRPr b="0" lang="en-US" sz="4400" spc="-1" strike="noStrike">
              <a:solidFill>
                <a:srgbClr val="ffffff"/>
              </a:solidFill>
              <a:latin typeface="Arial"/>
            </a:endParaRPr>
          </a:p>
        </p:txBody>
      </p:sp>
      <p:sp>
        <p:nvSpPr>
          <p:cNvPr id="38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 il livello che tiene insieme l'intera architettura. Il suo ruolo è permettere ad un host di iniettare pacchetti in una qualunque rete e fare il possibile per farli viaggiare, indipendentemente gli uni dagli altri e magari per strade diverse, fino alla destinazione, che può essere situata anche in un'altra rete. Dunque è </a:t>
            </a:r>
            <a:r>
              <a:rPr b="1" i="1" lang="it-IT" sz="2000" spc="-1" strike="noStrike">
                <a:solidFill>
                  <a:srgbClr val="000000"/>
                </a:solidFill>
                <a:latin typeface="Arial"/>
              </a:rPr>
              <a:t>connectionless</a:t>
            </a:r>
            <a:r>
              <a:rPr b="0" lang="it-IT" sz="2000" spc="-1" strike="noStrike">
                <a:solidFill>
                  <a:srgbClr val="000000"/>
                </a:solidFill>
                <a:latin typeface="Arial"/>
              </a:rPr>
              <a:t>. E' un servizio </a:t>
            </a:r>
            <a:r>
              <a:rPr b="1" i="1" lang="it-IT" sz="2000" spc="-1" strike="noStrike">
                <a:solidFill>
                  <a:srgbClr val="000000"/>
                </a:solidFill>
                <a:latin typeface="Arial"/>
              </a:rPr>
              <a:t>best-effort datagram</a:t>
            </a:r>
            <a:r>
              <a:rPr b="0" lang="it-IT" sz="2000" spc="-1" strike="noStrike">
                <a:solidFill>
                  <a:srgbClr val="000000"/>
                </a:solidFill>
                <a:latin typeface="Arial"/>
              </a:rPr>
              <a:t>. E' definito un formato ufficiale dei pacchetti ed un protocollo, </a:t>
            </a:r>
            <a:r>
              <a:rPr b="1" i="1" lang="it-IT" sz="2000" spc="-1" strike="noStrike">
                <a:solidFill>
                  <a:srgbClr val="000000"/>
                </a:solidFill>
                <a:latin typeface="Arial"/>
              </a:rPr>
              <a:t>IP (Internet Protocol)</a:t>
            </a:r>
            <a:r>
              <a:rPr b="0" lang="it-IT"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combenz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out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trollo congesti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9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CP/IP: il livello Transport</a:t>
            </a:r>
            <a:endParaRPr b="0" lang="en-US" sz="4400" spc="-1" strike="noStrike">
              <a:solidFill>
                <a:srgbClr val="ffffff"/>
              </a:solidFill>
              <a:latin typeface="Arial"/>
            </a:endParaRPr>
          </a:p>
        </p:txBody>
      </p:sp>
      <p:sp>
        <p:nvSpPr>
          <p:cNvPr id="39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progettato per consentire la conversazione delle peer entity sugli host sorgente e destinazione (end-to-end). Sono definiti due protocolli in questo livell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TCP (Transmission Control Protocol)</a:t>
            </a:r>
            <a:r>
              <a:rPr b="0" lang="it-IT" sz="2400" spc="-1" strike="noStrike">
                <a:solidFill>
                  <a:srgbClr val="000000"/>
                </a:solidFill>
                <a:latin typeface="Arial"/>
              </a:rPr>
              <a:t>: è un protocollo connesso ed affidabile (ossia tutti i pacchetti arrivano, e nell'ordine giusto). Frammenta il flusso in arrivo dal livello superiore in messaggi separati che vengono passati al livello Internet. In arrivo, i pacchetti vengono riassemblati in un flusso di output per il livello superio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UDP (User Datagram Protocol)</a:t>
            </a:r>
            <a:r>
              <a:rPr b="0" lang="it-IT" sz="2400" spc="-1" strike="noStrike">
                <a:solidFill>
                  <a:srgbClr val="000000"/>
                </a:solidFill>
                <a:latin typeface="Arial"/>
              </a:rPr>
              <a:t>: è un protocollo non connesso e non affidabile, i pacchetti possono arrivare in ordine diverso o non arrivare affat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9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9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CP/IP: il livello Application</a:t>
            </a:r>
            <a:endParaRPr b="0" lang="en-US" sz="4400" spc="-1" strike="noStrike">
              <a:solidFill>
                <a:srgbClr val="ffffff"/>
              </a:solidFill>
              <a:latin typeface="Arial"/>
            </a:endParaRPr>
          </a:p>
        </p:txBody>
      </p:sp>
      <p:sp>
        <p:nvSpPr>
          <p:cNvPr id="395" name="PlaceHolder 2"/>
          <p:cNvSpPr>
            <a:spLocks noGrp="1"/>
          </p:cNvSpPr>
          <p:nvPr>
            <p:ph/>
          </p:nvPr>
        </p:nvSpPr>
        <p:spPr>
          <a:xfrm>
            <a:off x="1125000" y="1413000"/>
            <a:ext cx="7767720" cy="4680000"/>
          </a:xfrm>
          <a:prstGeom prst="rect">
            <a:avLst/>
          </a:prstGeom>
          <a:solidFill>
            <a:srgbClr val="ffffff"/>
          </a:solid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l'architettura TCP/IP non ci sono i livelli session e presentation (non furono ritenuti necessari; l'esperienza col modello OSI ha mostrato che questa visione è condivisibile).</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pra il livello transport c'è direttamente il livello application, che contiene tutti i protocolli di alto livello vengono usati dalle applicazioni reali.</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primi protocolli furono:</a:t>
            </a: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Telnet</a:t>
            </a:r>
            <a:r>
              <a:rPr b="0" lang="it-IT" sz="1800" spc="-1" strike="noStrike">
                <a:solidFill>
                  <a:srgbClr val="000000"/>
                </a:solidFill>
                <a:latin typeface="Arial"/>
              </a:rPr>
              <a:t>: terminale virtuale;</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FTP (File Transfer Protocol)</a:t>
            </a:r>
            <a:r>
              <a:rPr b="0" lang="it-IT" sz="1800" spc="-1" strike="noStrike">
                <a:solidFill>
                  <a:srgbClr val="000000"/>
                </a:solidFill>
                <a:latin typeface="Arial"/>
              </a:rPr>
              <a:t>: file transfer;</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SMTP (Simple Mail Transfer Protocol) e POP (Post Office Protocol)</a:t>
            </a:r>
            <a:r>
              <a:rPr b="0" lang="it-IT" sz="1800" spc="-1" strike="noStrike">
                <a:solidFill>
                  <a:srgbClr val="000000"/>
                </a:solidFill>
                <a:latin typeface="Arial"/>
              </a:rPr>
              <a:t>: posta elettronica.</a:t>
            </a:r>
            <a:endParaRPr b="0" lang="en-US" sz="18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uccessivamente se ne sono aggiunti altri, fra cui:</a:t>
            </a: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DNS (Domain Name Service)</a:t>
            </a:r>
            <a:r>
              <a:rPr b="0" lang="it-IT" sz="1800" spc="-1" strike="noStrike">
                <a:solidFill>
                  <a:srgbClr val="000000"/>
                </a:solidFill>
                <a:latin typeface="Arial"/>
              </a:rPr>
              <a:t>: mapping fra nomi di host e indirizzi IP numerici;</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NNTP (Network News Transfer Protocol)</a:t>
            </a:r>
            <a:r>
              <a:rPr b="0" lang="it-IT" sz="1800" spc="-1" strike="noStrike">
                <a:solidFill>
                  <a:srgbClr val="000000"/>
                </a:solidFill>
                <a:latin typeface="Arial"/>
              </a:rPr>
              <a:t>: trasferimento di articoli per i newsgroup;</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HTTP (HyperText Transfer Protocol)</a:t>
            </a:r>
            <a:r>
              <a:rPr b="0" lang="en-GB" sz="1800" spc="-1" strike="noStrike">
                <a:solidFill>
                  <a:srgbClr val="000000"/>
                </a:solidFill>
                <a:latin typeface="Arial"/>
              </a:rPr>
              <a:t>: alla base del Word Wide We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9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9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nfronto tra modello OSI e architettura TCP/IP</a:t>
            </a:r>
            <a:endParaRPr b="0" lang="en-US" sz="4000" spc="-1" strike="noStrike">
              <a:solidFill>
                <a:srgbClr val="ffffff"/>
              </a:solidFill>
              <a:latin typeface="Arial"/>
            </a:endParaRPr>
          </a:p>
        </p:txBody>
      </p:sp>
      <p:sp>
        <p:nvSpPr>
          <p:cNvPr id="39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omiglianze</a:t>
            </a:r>
            <a:r>
              <a:rPr b="0" lang="it-IT"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asati entrambi sul concetto di pila di protocolli indipendent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unzionalità simili in entrambi per i vari livelli.</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Differenze di fond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SI nasce come modello di riferimento (utilissimo per le discussioni generali), i protocolli vengono solo successivamen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CP/IP nasce coi protocolli, il modello di riferimento viene a posterio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0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0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attraverso middleware</a:t>
            </a:r>
            <a:endParaRPr b="0" lang="en-US" sz="4000" spc="-1" strike="noStrike">
              <a:solidFill>
                <a:srgbClr val="ffffff"/>
              </a:solidFill>
              <a:latin typeface="Arial"/>
            </a:endParaRPr>
          </a:p>
        </p:txBody>
      </p:sp>
      <p:sp>
        <p:nvSpPr>
          <p:cNvPr id="40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empio: sistema di posta elettronic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uò essere visto come un supporto middleware per la comunicazi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gni host esegue uno user agent che consente all’utente di comporre, inviare e ricevere messaggi di post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o user agent passa la mail al sistema di consegna delle mai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sistema di consegna recapita l’email allo user agent del destinatar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05"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0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Tipi di comunicazione: Comunicazione Persistente</a:t>
            </a:r>
            <a:endParaRPr b="0" lang="en-US" sz="4000" spc="-1" strike="noStrike">
              <a:solidFill>
                <a:srgbClr val="ffffff"/>
              </a:solidFill>
              <a:latin typeface="Arial"/>
            </a:endParaRPr>
          </a:p>
        </p:txBody>
      </p:sp>
      <p:sp>
        <p:nvSpPr>
          <p:cNvPr id="40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municazione persistente: come nell’esempio precedente, il messaggio immesso viene memorizzato dal middleware per tutto il tempo necessario alla consegn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è necessario che l’applicazione mittente continui l’applicazione dopo l’invio del messagg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è necessario che l’applicazione destinataria sia in esecuzione quando il messaggio è invi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0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Tipi di comunicazione: Comunicazione Transiente</a:t>
            </a:r>
            <a:endParaRPr b="0" lang="en-US" sz="4000" spc="-1" strike="noStrike">
              <a:solidFill>
                <a:srgbClr val="ffffff"/>
              </a:solidFill>
              <a:latin typeface="Arial"/>
            </a:endParaRPr>
          </a:p>
        </p:txBody>
      </p:sp>
      <p:sp>
        <p:nvSpPr>
          <p:cNvPr id="4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messaggio è memorizzato dal middleware solo finchè le applicazioni mittente e destinatario sono in esecuzio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 la consegna non è possibile, il messaggio viene cancella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 il caso della comunicazione di rete a livello di trasporto: i router memorizzano ed inoltrano, e se non è possibile inoltrare, cancella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1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Sincrona/Asincrona</a:t>
            </a:r>
            <a:endParaRPr b="0" lang="en-US" sz="4000" spc="-1" strike="noStrike">
              <a:solidFill>
                <a:srgbClr val="ffffff"/>
              </a:solidFill>
              <a:latin typeface="Arial"/>
            </a:endParaRPr>
          </a:p>
        </p:txBody>
      </p:sp>
      <p:sp>
        <p:nvSpPr>
          <p:cNvPr id="415" name="PlaceHolder 2"/>
          <p:cNvSpPr>
            <a:spLocks noGrp="1"/>
          </p:cNvSpPr>
          <p:nvPr>
            <p:ph/>
          </p:nvPr>
        </p:nvSpPr>
        <p:spPr>
          <a:xfrm>
            <a:off x="1249200" y="2203200"/>
            <a:ext cx="7570800" cy="331308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ncrona: Una volta sottomesso il messaggio, l’applicazione mittente si blocca finchè l’operazione non si è complet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sincrona: Una volta sottomesso il messaggio, l’applicazione mittente può eseguire altri task: il messaggio viene memorizzato temporaneamente fino ad avvenuta trasmissi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1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discreta ed a streaming</a:t>
            </a:r>
            <a:endParaRPr b="0" lang="en-US" sz="4000" spc="-1" strike="noStrike">
              <a:solidFill>
                <a:srgbClr val="ffffff"/>
              </a:solidFill>
              <a:latin typeface="Arial"/>
            </a:endParaRPr>
          </a:p>
        </p:txBody>
      </p:sp>
      <p:sp>
        <p:nvSpPr>
          <p:cNvPr id="4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screta: ogni messaggio costituisce un’unità di informazione completa, come nel caso dell’e-ma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treaming: Comporta l’invio di molti messaggi, in relazione temporale tra loro, che servono a ricostruire un’informazione comple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e interfacce</a:t>
            </a:r>
            <a:endParaRPr b="0" lang="en-US" sz="4400" spc="-1" strike="noStrike">
              <a:solidFill>
                <a:srgbClr val="ffffff"/>
              </a:solidFill>
              <a:latin typeface="Arial"/>
            </a:endParaRPr>
          </a:p>
        </p:txBody>
      </p:sp>
      <p:sp>
        <p:nvSpPr>
          <p:cNvPr id="223" name="PlaceHolder 2"/>
          <p:cNvSpPr>
            <a:spLocks noGrp="1"/>
          </p:cNvSpPr>
          <p:nvPr>
            <p:ph/>
          </p:nvPr>
        </p:nvSpPr>
        <p:spPr>
          <a:xfrm>
            <a:off x="1198440" y="1412640"/>
            <a:ext cx="7694640" cy="372420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ra ogni coppia di livelli adiacenti c’è un’</a:t>
            </a:r>
            <a:r>
              <a:rPr b="1" lang="it-IT" sz="2400" spc="-1" strike="noStrike">
                <a:solidFill>
                  <a:srgbClr val="000000"/>
                </a:solidFill>
                <a:latin typeface="Arial"/>
              </a:rPr>
              <a:t>interfacc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interfaccia definisce quali operazioni, primitive e servizi il livello sottostante offre al livello superio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interfacce devono essere </a:t>
            </a:r>
            <a:r>
              <a:rPr b="1" lang="it-IT" sz="2400" spc="-1" strike="noStrike">
                <a:solidFill>
                  <a:srgbClr val="000000"/>
                </a:solidFill>
                <a:latin typeface="Arial"/>
              </a:rPr>
              <a:t>chiare</a:t>
            </a:r>
            <a:r>
              <a:rPr b="0" lang="it-IT" sz="2400" spc="-1" strike="noStrike">
                <a:solidFill>
                  <a:srgbClr val="000000"/>
                </a:solidFill>
                <a:latin typeface="Arial"/>
              </a:rPr>
              <a:t>: ogni livello deve eseguire una collezione di funzioni specifica. Ciò semplifica l’eventuale sostituzione dell’implementazione di un livel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2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discreta ed a streaming</a:t>
            </a:r>
            <a:endParaRPr b="0" lang="en-US" sz="4000" spc="-1" strike="noStrike">
              <a:solidFill>
                <a:srgbClr val="ffffff"/>
              </a:solidFill>
              <a:latin typeface="Arial"/>
            </a:endParaRPr>
          </a:p>
        </p:txBody>
      </p:sp>
      <p:sp>
        <p:nvSpPr>
          <p:cNvPr id="42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screta: ogni messaggio costituisce un’unità di informazione completa, come nel caso dell’e-ma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treaming: Comporta l’invio di molti messaggi, in relazione temporale tra loro, che servono a ricostruire un’informazione comple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25"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hiamate a procedure remote</a:t>
            </a:r>
            <a:endParaRPr b="0" lang="en-US" sz="4000" spc="-1" strike="noStrike">
              <a:solidFill>
                <a:srgbClr val="ffffff"/>
              </a:solidFill>
              <a:latin typeface="Arial"/>
            </a:endParaRPr>
          </a:p>
        </p:txBody>
      </p:sp>
      <p:sp>
        <p:nvSpPr>
          <p:cNvPr id="42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sare le primitive send() e reveive() per far comunicare i processi non realizza la trasparenza dei sistemi distribuit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soluzione a questo problema fu proposta nel 1984 (Birrell e Nelson): consentire ai processi di chiamare procedure posizionate su altre macch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2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hiamate a procedure remote -1</a:t>
            </a:r>
            <a:endParaRPr b="0" lang="en-US" sz="4000" spc="-1" strike="noStrike">
              <a:solidFill>
                <a:srgbClr val="ffffff"/>
              </a:solidFill>
              <a:latin typeface="Arial"/>
            </a:endParaRPr>
          </a:p>
        </p:txBody>
      </p:sp>
      <p:sp>
        <p:nvSpPr>
          <p:cNvPr id="43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ando un processo sulla macchina A richiama una procedura sulla macchina B, il processo su A viene sospeso e la procedura chiamata viene eseguita su B</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informazioni possono passare dal chiamante al chiamato attraverso dei parametri, ed anche i risultati possono essere veicolati da parametr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ssun passaggio di messaggi è visibile al programmato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mote Procedure Call (RP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3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3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hiamate a procedura locale</a:t>
            </a:r>
            <a:endParaRPr b="0" lang="en-US" sz="4400" spc="-1" strike="noStrike">
              <a:solidFill>
                <a:srgbClr val="ffffff"/>
              </a:solidFill>
              <a:latin typeface="Arial"/>
            </a:endParaRPr>
          </a:p>
        </p:txBody>
      </p:sp>
      <p:sp>
        <p:nvSpPr>
          <p:cNvPr id="43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sempio di chiamata convenzional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unt=read(fd,buf,byt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ove fd è un intero che indica un file, buf è un array di byte e nbytes indica quanti byte dobbiamo leggere dall’array.</a:t>
            </a:r>
            <a:endParaRPr b="0" lang="en-US" sz="1600" spc="-1" strike="noStrike">
              <a:solidFill>
                <a:srgbClr val="000000"/>
              </a:solidFill>
              <a:latin typeface="Arial"/>
            </a:endParaRPr>
          </a:p>
        </p:txBody>
      </p:sp>
      <p:pic>
        <p:nvPicPr>
          <p:cNvPr id="436" name="Picture 5" descr=""/>
          <p:cNvPicPr/>
          <p:nvPr/>
        </p:nvPicPr>
        <p:blipFill>
          <a:blip r:embed="rId1"/>
          <a:stretch/>
        </p:blipFill>
        <p:spPr>
          <a:xfrm>
            <a:off x="1360440" y="2852640"/>
            <a:ext cx="4003560" cy="2880000"/>
          </a:xfrm>
          <a:prstGeom prst="rect">
            <a:avLst/>
          </a:prstGeom>
          <a:ln w="0">
            <a:noFill/>
          </a:ln>
        </p:spPr>
      </p:pic>
      <p:sp>
        <p:nvSpPr>
          <p:cNvPr id="437" name="Text Box 6"/>
          <p:cNvSpPr/>
          <p:nvPr/>
        </p:nvSpPr>
        <p:spPr>
          <a:xfrm>
            <a:off x="5364000" y="2781360"/>
            <a:ext cx="309564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programma chiamante inserisce sullo stack i parametri e l’indirizzo di ritor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procedura read mette sullo stack il valore di ritorno e restituisce il valore al programma chiaman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3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4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haimata a procedura locale - 1</a:t>
            </a:r>
            <a:endParaRPr b="0" lang="en-US" sz="4000" spc="-1" strike="noStrike">
              <a:solidFill>
                <a:srgbClr val="ffffff"/>
              </a:solidFill>
              <a:latin typeface="Arial"/>
            </a:endParaRPr>
          </a:p>
        </p:txBody>
      </p:sp>
      <p:sp>
        <p:nvSpPr>
          <p:cNvPr id="44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assaggio dei parametri per valore</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Un parametro come fd o bytes viene semplicemente copiato sullo stack. La procedura chiamata può modificarlo, ma ciò non ha ripercussioni sulla variabile originale</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assaggio dei parametri per riferimento</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parametro rappresenta un riferimento ad una variabile, come nel caso del parametro buf che rappresenta l’indirizzo di un vettore. Ogni modifica fatta dal programma chiamato è effettuata sulla variabile originale</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assaggio dei parametri per copia-ripristino</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me nel passaggio per valore, la variabile originale è copiata sullo stack. Al termine del programma chiamato, il valore modificato sullo stack è ricopiato sulla variabile originale. Produce effetti simili al passaggio per riferimento, ma quando nella lista dei parametri un parametro appare più volte, la semantica di questo passaggio è diversa dal passaggio per riferimento</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4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4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hiamate a procedura remota: Client Stub</a:t>
            </a:r>
            <a:endParaRPr b="0" lang="en-US" sz="4000" spc="-1" strike="noStrike">
              <a:solidFill>
                <a:srgbClr val="ffffff"/>
              </a:solidFill>
              <a:latin typeface="Arial"/>
            </a:endParaRPr>
          </a:p>
        </p:txBody>
      </p:sp>
      <p:sp>
        <p:nvSpPr>
          <p:cNvPr id="445"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dea di base: rendere le chiamate a procedure remote quanto più simili a chiamate loca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RPC devono essere trasparenti: la procedura chiamante non deve sapere che la procedura chiamata sta su una macchina remot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aso della procedura read mostrata in esempio: in un sistema tradizionale, il programmatore mette nel suo codice una chiamata a read per ottenere i dati. La routine read è estratta dal linker dalla libreria ed inserita nel codice oggetto. Quando è eseguita, la procedura read si comporta come descritto in precedenza, esegue una chiamata al sistema operativo locale per ottenere i dati e mette il risultato sullo stack. Quindi il suo operato è trasparente al programma chiamante, che si è limitato ad invocare la procedura coi parametri corrett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RPC ottengono la trasparenza in modo analogo: quando la read è in realtà una procedura remota, ne viene messa in libreria una copia, chiamata </a:t>
            </a:r>
            <a:r>
              <a:rPr b="1" lang="it-IT" sz="1600" spc="-1" strike="noStrike">
                <a:solidFill>
                  <a:srgbClr val="000000"/>
                </a:solidFill>
                <a:latin typeface="Arial"/>
              </a:rPr>
              <a:t>client stub.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nche il client stub esegue una chiamata al sistema operativo locale, ma non per ottenere i dati come nel caso precedente. In realtà esso esegue una chiamata alla primitiva </a:t>
            </a:r>
            <a:r>
              <a:rPr b="1" lang="it-IT" sz="1600" spc="-1" strike="noStrike">
                <a:solidFill>
                  <a:srgbClr val="000000"/>
                </a:solidFill>
                <a:latin typeface="Arial"/>
              </a:rPr>
              <a:t>send</a:t>
            </a:r>
            <a:r>
              <a:rPr b="0" lang="it-IT" sz="1600" spc="-1" strike="noStrike">
                <a:solidFill>
                  <a:srgbClr val="000000"/>
                </a:solidFill>
                <a:latin typeface="Arial"/>
              </a:rPr>
              <a:t>, impacchettando i parametri della read in un messaggio per la macchina remota su cui sta la procedura chiamata. Poi esegue una </a:t>
            </a:r>
            <a:r>
              <a:rPr b="1" lang="it-IT" sz="1600" spc="-1" strike="noStrike">
                <a:solidFill>
                  <a:srgbClr val="000000"/>
                </a:solidFill>
                <a:latin typeface="Arial"/>
              </a:rPr>
              <a:t>receive</a:t>
            </a:r>
            <a:r>
              <a:rPr b="0" lang="it-IT" sz="1600" spc="-1" strike="noStrike">
                <a:solidFill>
                  <a:srgbClr val="000000"/>
                </a:solidFill>
                <a:latin typeface="Arial"/>
              </a:rPr>
              <a:t> e si blocca aspettando i risulta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4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4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hiamate a procedura remota: Server Stub</a:t>
            </a:r>
            <a:endParaRPr b="0" lang="en-US" sz="4000" spc="-1" strike="noStrike">
              <a:solidFill>
                <a:srgbClr val="ffffff"/>
              </a:solidFill>
              <a:latin typeface="Arial"/>
            </a:endParaRPr>
          </a:p>
        </p:txBody>
      </p:sp>
      <p:sp>
        <p:nvSpPr>
          <p:cNvPr id="449"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ando il messaggio raggiunge la macchina remota, il sistema operativo di quest’ultima lo passa al </a:t>
            </a:r>
            <a:r>
              <a:rPr b="1" lang="it-IT" sz="1600" spc="-1" strike="noStrike">
                <a:solidFill>
                  <a:srgbClr val="000000"/>
                </a:solidFill>
                <a:latin typeface="Arial"/>
              </a:rPr>
              <a:t>server stub</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server stub è un pezzo di codice che trasforma le richieste provenienti dalla rete in chiamate a procedura loca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server stub spacchetta il messaggio, chiama la procedura read locale nel solito modo (parametri sullo stack) e quando riprende il controllo a procedura eseguita, impacchetta il risultato e lo invia al client stub chiamante. Quindi esegue nuovamente una receive e si blocca in attesa della successiva chiamat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ando il messaggio arriva al sistema operativo chiamante, esso viene passato al processo che ha chiamato la send, ovvero al client stub. Quest’ultimo spacchetta il messaggio, estrae il risultato e lo mette in cima allo stack della procedura che ha chiamato la read. Quest’ultima è semplicemente informata che il risultato è ora disponibile sullo stack, e non deve preoccuparsi di come ciò sia stato possibi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5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5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ssaggio dei parametri in RPC</a:t>
            </a:r>
            <a:endParaRPr b="0" lang="en-US" sz="4000" spc="-1" strike="noStrike">
              <a:solidFill>
                <a:srgbClr val="ffffff"/>
              </a:solidFill>
              <a:latin typeface="Arial"/>
            </a:endParaRPr>
          </a:p>
        </p:txBody>
      </p:sp>
      <p:sp>
        <p:nvSpPr>
          <p:cNvPr id="453"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funzione del client stub è di prendere i parametri della procedura, impacchettarli in un messaggio ed inviarli al server stub. L’operazione di impacchettamento è denominata </a:t>
            </a:r>
            <a:r>
              <a:rPr b="1" lang="it-IT" sz="1600" spc="-1" strike="noStrike">
                <a:solidFill>
                  <a:srgbClr val="000000"/>
                </a:solidFill>
                <a:latin typeface="Arial"/>
              </a:rPr>
              <a:t>marshaling</a:t>
            </a:r>
            <a:r>
              <a:rPr b="0" lang="it-IT" sz="1600" spc="-1" strike="noStrike">
                <a:solidFill>
                  <a:srgbClr val="000000"/>
                </a:solidFill>
                <a:latin typeface="Arial"/>
              </a:rPr>
              <a:t> dei parametri.</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4" name="Picture 4" descr=""/>
          <p:cNvPicPr/>
          <p:nvPr/>
        </p:nvPicPr>
        <p:blipFill>
          <a:blip r:embed="rId1"/>
          <a:stretch/>
        </p:blipFill>
        <p:spPr>
          <a:xfrm>
            <a:off x="1690560" y="2637000"/>
            <a:ext cx="6769080" cy="34542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5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5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ssaggio dei parametri in RPC</a:t>
            </a:r>
            <a:endParaRPr b="0" lang="en-US" sz="4000" spc="-1" strike="noStrike">
              <a:solidFill>
                <a:srgbClr val="ffffff"/>
              </a:solidFill>
              <a:latin typeface="Arial"/>
            </a:endParaRPr>
          </a:p>
        </p:txBody>
      </p:sp>
      <p:sp>
        <p:nvSpPr>
          <p:cNvPr id="458"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funzione del client stub è di prendere i parametri della procedura, impacchettarli in un messaggio ed inviarli al server stub. L’operazione di impacchettamento è denominata </a:t>
            </a:r>
            <a:r>
              <a:rPr b="1" lang="it-IT" sz="1600" spc="-1" strike="noStrike">
                <a:solidFill>
                  <a:srgbClr val="000000"/>
                </a:solidFill>
                <a:latin typeface="Arial"/>
              </a:rPr>
              <a:t>marshaling</a:t>
            </a:r>
            <a:r>
              <a:rPr b="0" lang="it-IT" sz="1600" spc="-1" strike="noStrike">
                <a:solidFill>
                  <a:srgbClr val="000000"/>
                </a:solidFill>
                <a:latin typeface="Arial"/>
              </a:rPr>
              <a:t> dei parametri.</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inchè le macchine mittente e destinataria sono identiche ed i parametri passati sono di tipo scalare (int, char, ecc.) tutto funziona perfettamen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 se una macchina mainframe IBM, che per i caratteri usa la codifica EBCDIC, comunica con un personal computer IBM che usa la codifica ASCII, lo schema di cui sopra non funzion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n altro problema si verifica tra macchine che usano numerare i byte da destra a sinistra (little endian), come le INTEL, quando comunicano con macchine che usano numerare i byte da sinistra a destra (big endian), come le SPARC.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6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6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ssaggio dei parametri in RPC</a:t>
            </a:r>
            <a:endParaRPr b="0" lang="en-US" sz="4000" spc="-1" strike="noStrike">
              <a:solidFill>
                <a:srgbClr val="ffffff"/>
              </a:solidFill>
              <a:latin typeface="Arial"/>
            </a:endParaRPr>
          </a:p>
        </p:txBody>
      </p:sp>
      <p:sp>
        <p:nvSpPr>
          <p:cNvPr id="462"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 mandiamo un messaggio che contiene l’intero 5 e la stringa GIANNI da una macchina INTEL ad una SPARC, ecco cosa succederà</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essaggio originale: 5 0 0  0   I N N A I G per l’INTEL significa intero 5 stringa GIANNI, perché per INTEL 5 0 0 0 significa byte meno significativo 5, byte più significativo zero, così come I N N A I G significa byte meno significativo (quindi carattere di fine parola) I, byte più significativo (quindi carattere inizio di parola) 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essaggio ricevuto dalla SPARC: 5 0 0  0   I N N A I G per la SPARC significa intero 5*2^24, stringa GIANNI, perché per SPARC 5 0 0 0 significa byte meno significativo 0, bit più significativo 5 (che quindi pesa 2^24 perché preceduto dai 24 bit 0…23.</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vertire il messaggio mandato da INTEL avrebbe effetto sull’intero 5, ma non sulla stringa. Infatti per 0 0 0 5 G I A N N I significherebbe intero 5 stringa IANNI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5"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a di Rete</a:t>
            </a:r>
            <a:endParaRPr b="0" lang="en-US" sz="4400" spc="-1" strike="noStrike">
              <a:solidFill>
                <a:srgbClr val="ffffff"/>
              </a:solidFill>
              <a:latin typeface="Arial"/>
            </a:endParaRPr>
          </a:p>
        </p:txBody>
      </p:sp>
      <p:sp>
        <p:nvSpPr>
          <p:cNvPr id="22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insieme di livelli e protocolli è chiamata Architettura di Re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é i dettagli implementativi né le specifiche delle interfacce appartengono all’architettu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macchine della rete non devono necessariamente usare le stesse interfacce, purchè usino la stessa gerarchia di protocoll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64"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6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ssaggio dei parametri in RPC</a:t>
            </a:r>
            <a:endParaRPr b="0" lang="en-US" sz="4000" spc="-1" strike="noStrike">
              <a:solidFill>
                <a:srgbClr val="ffffff"/>
              </a:solidFill>
              <a:latin typeface="Arial"/>
            </a:endParaRPr>
          </a:p>
        </p:txBody>
      </p:sp>
      <p:sp>
        <p:nvSpPr>
          <p:cNvPr id="466"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luzione: richiedente e ricevente devono concordare il formato del messaggio</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tabilire se la codifica è little endian o big endian</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tabilire in che formato sono codificati i caratteri (es. ASCII)</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tabilire in che formato sono codificati gli interi (es. UNICOD) ed i float (es. IEEE 754)</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efinire il servizio di connessione (es. TCP/IP)</a:t>
            </a: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efinito il protocollo RPC, gli stub devono essere implementati. Fortunatamente, gli stub per lo stesso protocollo ma per procedure diverse differiscono solo per le loro interfacce alle applicazioni</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 semplificare le cose, le interfacce sono realizzabili tramite un linguaggio per la definizione delle interfacce IDL. Un’interfaccia realizzata in IDL può quindi essere compilata in un client stub ed in un server stub</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68"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6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ltro problema: passaggio per riferimento</a:t>
            </a:r>
            <a:endParaRPr b="0" lang="en-US" sz="4000" spc="-1" strike="noStrike">
              <a:solidFill>
                <a:srgbClr val="ffffff"/>
              </a:solidFill>
              <a:latin typeface="Arial"/>
            </a:endParaRPr>
          </a:p>
        </p:txBody>
      </p:sp>
      <p:sp>
        <p:nvSpPr>
          <p:cNvPr id="470"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n riferimento è un indirizzo in memoria, e quindi è valido solo nel contesto in cui è usato. Se il client stub usa per il parametro buf (l’indirizzo del buffer) il valore 100, non possiamo aspettarci che questo valore abbia senso per il server stub, dove l’indirizzo 100 indicherà una qualche imprecisata area di memori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soluzione è semplice: il client stub sa che il parametro buf è l’indirizzo di un  vettore, quindi può copiare il vettore nel messaggio ed inviarlo al server stub. Quest’ultimo effettuerà le operazioni col vettore copia, usando lo spazio di indirizzi della macchina ricevente. Se eventualmente si dovesse effettuare una modifica sul vettore copia, questa sarebbe poi riportata dal client stub sul vettore origina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i è usato un meccanismo di copia-ripristin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Ottimizzazione: se il client stub sa che il riferimento è un parametro di input, non serve che venga ricopiato il suo valore restituito. Se si tratta di un parametro di output, non serve effettuare la copia in partenz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72"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7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PC Asincrone</a:t>
            </a:r>
            <a:endParaRPr b="0" lang="en-US" sz="4400" spc="-1" strike="noStrike">
              <a:solidFill>
                <a:srgbClr val="ffffff"/>
              </a:solidFill>
              <a:latin typeface="Arial"/>
            </a:endParaRPr>
          </a:p>
        </p:txBody>
      </p:sp>
      <p:sp>
        <p:nvSpPr>
          <p:cNvPr id="474"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 modalità sincrona, una chiamata RPC provoca la messa in attesa del processo chiamante, fintanto che la chiamata stessa non sia stata eseguita e il risultato sia stato restituit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 diverse situazioni, in cui il processo chiamato non deve restituire nessun risultato, non è necessario tale blocco del processo chiaman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lcuni sistemi RPC forniscono quindi la possibilità di effettuare chiamate RPC asincrone, permettendo al processo chiamante, una volta effettuata la chiamata e ricevuto un acknowledge dallo stub server attestante che la chiamata è stata ricevuta ed avviata, di dedicarsi ad altri task</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 il processo chiamante riprende la sua esecuzione senza aspettare l’acknowledge, l’RPC asincrona si chiama “a senso unic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7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orientata ai messaggi</a:t>
            </a:r>
            <a:endParaRPr b="0" lang="en-US" sz="4000" spc="-1" strike="noStrike">
              <a:solidFill>
                <a:srgbClr val="ffffff"/>
              </a:solidFill>
              <a:latin typeface="Arial"/>
            </a:endParaRPr>
          </a:p>
        </p:txBody>
      </p:sp>
      <p:sp>
        <p:nvSpPr>
          <p:cNvPr id="478"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n sempre le RPC sono adatte a supportare la comunicazione in un sistema distribuit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n lo sono soprattutto quando non si può essere certi che l’interlocutore sia collegato in re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 questi casi, la natura essenzialmente sincrona delle RPC comporta una perdita di efficacia nella comunicazion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comunicazione orientata ai messaggi sostituisce le chiamate a procedure remote con messaggi</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uò essere usata sia con interlocutori online sia con interlocutori offli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8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8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transiente orientata ai messaggi:SOCKET</a:t>
            </a:r>
            <a:endParaRPr b="0" lang="en-US" sz="4000" spc="-1" strike="noStrike">
              <a:solidFill>
                <a:srgbClr val="ffffff"/>
              </a:solidFill>
              <a:latin typeface="Arial"/>
            </a:endParaRPr>
          </a:p>
        </p:txBody>
      </p:sp>
      <p:sp>
        <p:nvSpPr>
          <p:cNvPr id="48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i sistemi distribuiti usano il semplice modello di scambio di messaggi fornito dal sistema di traspor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trefaccia standard del sistema di trasporto: Socket del TC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a socket è una porta di comunicazione astratta su cui si possono scrivere e da cui si possono leggere dat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84"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8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cket: Primitive lato Server</a:t>
            </a:r>
            <a:endParaRPr b="0" lang="en-US" sz="4400" spc="-1" strike="noStrike">
              <a:solidFill>
                <a:srgbClr val="ffffff"/>
              </a:solidFill>
              <a:latin typeface="Arial"/>
            </a:endParaRPr>
          </a:p>
        </p:txBody>
      </p:sp>
      <p:sp>
        <p:nvSpPr>
          <p:cNvPr id="48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ocket: crea una nuova porta di comunicazion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Bind: associa un indirizzo locale alla porta appena creata (es. un server associerà l’indirizzo IP della macchina e il numero di porta reale su cui vuole ricevere messagg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sten: usata solo in comunicazioni orientate alla connessione. Chiamata non bloccante che annuncia la disponibilità ad accettare connession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ccept: blocca il chiamante finchè non arriva una richiesta di connession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88"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8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cket: Primitive lato Client</a:t>
            </a:r>
            <a:endParaRPr b="0" lang="en-US" sz="4400" spc="-1" strike="noStrike">
              <a:solidFill>
                <a:srgbClr val="ffffff"/>
              </a:solidFill>
              <a:latin typeface="Arial"/>
            </a:endParaRPr>
          </a:p>
        </p:txBody>
      </p:sp>
      <p:sp>
        <p:nvSpPr>
          <p:cNvPr id="49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ocket: il binding all’indirizzo locale non è necessario in quanto il sistema operativo può allocare dinamicamente una porta quando la connessione viene stabili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nect: richiede che il chiamante specifichi l’indirizzo a cui va inviata la richiesta di connessione. Il client è bloccato finchè la connessione non è stabili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92"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9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Gestione della comunicazione da entrambi i lati</a:t>
            </a:r>
            <a:endParaRPr b="0" lang="en-US" sz="4000" spc="-1" strike="noStrike">
              <a:solidFill>
                <a:srgbClr val="ffffff"/>
              </a:solidFill>
              <a:latin typeface="Arial"/>
            </a:endParaRPr>
          </a:p>
        </p:txBody>
      </p:sp>
      <p:sp>
        <p:nvSpPr>
          <p:cNvPr id="49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nd: invia dati sulla connessi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eceive: riceve dati dalla connessi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lose: rilascia la connessione (deve essere eseguita da ambo le par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modello a socket è molto utilizzato per programmare in rete in ambiente UNI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9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9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transiente orientata ai messaggi:MPI</a:t>
            </a:r>
            <a:endParaRPr b="0" lang="en-US" sz="4000" spc="-1" strike="noStrike">
              <a:solidFill>
                <a:srgbClr val="ffffff"/>
              </a:solidFill>
              <a:latin typeface="Arial"/>
            </a:endParaRPr>
          </a:p>
        </p:txBody>
      </p:sp>
      <p:sp>
        <p:nvSpPr>
          <p:cNvPr id="49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PI sta per Message Passing Interface (interfaccia per lo scambio di messagg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un protocollo a livello di astrazione più alto rispetto alle socke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socket sono state progettate per lavorare in ambiente TCP/IP: non sono adatte ad ambienti proprietari sviluppati per reti ad alta velocità, dove sono richieste funzionalità più avanzate (es. cluster di server ad alte prestazion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PI suppone che la comunicazione abbia luogo tra gruppi di processi conosciuti. Ogni processo è identificato da un ID di processo e da un ID di gruppo, e una coppia (procID,groupID) è usata come destinatario o sorgente della comunicazione al posto degli IP.</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municazione transiente è qui asincrona. Mediante la primitiva MPI_bsend, il mittente invia anzitutto il messaggio al sistema runtime di MPI, che lo bufferizza e lo recapita al destinatario quando possibile, lasciando libero il mittente di fare altro. Quando il destinatario chiamerà la primitiva receive il messaggio sarà inoltra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50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50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persistente: Sistemi a code di messaggi</a:t>
            </a:r>
            <a:endParaRPr b="0" lang="en-US" sz="4000" spc="-1" strike="noStrike">
              <a:solidFill>
                <a:srgbClr val="ffffff"/>
              </a:solidFill>
              <a:latin typeface="Arial"/>
            </a:endParaRPr>
          </a:p>
        </p:txBody>
      </p:sp>
      <p:sp>
        <p:nvSpPr>
          <p:cNvPr id="50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dea base: le applicazioni comunicano inserendo messaggi in apposite co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solito ogni applicazione ha la sua coda (a volte esistono anche code condivise da più applicazion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mittente ha solo la garanzia che il suo messaggio venga inserito in coda del destinatario: non c’è bisogno che il destinatario sia online al momento della trasmissione, né che il mittente sia online al momento della ricezio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imitive principali: put (per inserire un messaggio nella coda del destinatario) e get (per prelevare un messaggio dalla cod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empio: IBM WebSp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Livelli, Protocolli ed Interfacce: una visione d’insieme</a:t>
            </a:r>
            <a:endParaRPr b="0" lang="en-US" sz="4000" spc="-1" strike="noStrike">
              <a:solidFill>
                <a:srgbClr val="ffffff"/>
              </a:solidFill>
              <a:latin typeface="Arial"/>
            </a:endParaRPr>
          </a:p>
        </p:txBody>
      </p:sp>
      <p:graphicFrame>
        <p:nvGraphicFramePr>
          <p:cNvPr id="231" name="Object 3"/>
          <p:cNvGraphicFramePr/>
          <p:nvPr/>
        </p:nvGraphicFramePr>
        <p:xfrm>
          <a:off x="2208240" y="1704960"/>
          <a:ext cx="5459400" cy="4245120"/>
        </p:xfrm>
        <a:graphic>
          <a:graphicData uri="http://schemas.openxmlformats.org/presentationml/2006/ole">
            <p:oleObj r:id="rId1" spid="">
              <p:embed/>
              <p:pic>
                <p:nvPicPr>
                  <p:cNvPr id="232" name="Object 3" descr=""/>
                  <p:cNvPicPr/>
                  <p:nvPr/>
                </p:nvPicPr>
                <p:blipFill>
                  <a:blip r:embed="rId2"/>
                  <a:stretch/>
                </p:blipFill>
                <p:spPr>
                  <a:xfrm>
                    <a:off x="2208240" y="1704960"/>
                    <a:ext cx="5459400" cy="424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4"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3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Un esempio: L’architettura filosofo-interprete-segretaria</a:t>
            </a:r>
            <a:endParaRPr b="0" lang="en-US" sz="4000" spc="-1" strike="noStrike">
              <a:solidFill>
                <a:srgbClr val="ffffff"/>
              </a:solidFill>
              <a:latin typeface="Arial"/>
            </a:endParaRPr>
          </a:p>
        </p:txBody>
      </p:sp>
      <p:graphicFrame>
        <p:nvGraphicFramePr>
          <p:cNvPr id="236" name="Object 3"/>
          <p:cNvGraphicFramePr/>
          <p:nvPr/>
        </p:nvGraphicFramePr>
        <p:xfrm>
          <a:off x="2340000" y="1963800"/>
          <a:ext cx="5545080" cy="4724280"/>
        </p:xfrm>
        <a:graphic>
          <a:graphicData uri="http://schemas.openxmlformats.org/presentationml/2006/ole">
            <p:oleObj r:id="rId1" spid="">
              <p:embed/>
              <p:pic>
                <p:nvPicPr>
                  <p:cNvPr id="237" name="Object 3" descr=""/>
                  <p:cNvPicPr/>
                  <p:nvPr/>
                </p:nvPicPr>
                <p:blipFill>
                  <a:blip r:embed="rId2"/>
                  <a:stretch/>
                </p:blipFill>
                <p:spPr>
                  <a:xfrm>
                    <a:off x="2340000" y="1963800"/>
                    <a:ext cx="5545080" cy="4724280"/>
                  </a:xfrm>
                  <a:prstGeom prst="rect">
                    <a:avLst/>
                  </a:prstGeom>
                  <a:ln w="0">
                    <a:noFill/>
                  </a:ln>
                </p:spPr>
              </p:pic>
            </p:oleObj>
          </a:graphicData>
        </a:graphic>
      </p:graphicFrame>
      <p:sp>
        <p:nvSpPr>
          <p:cNvPr id="238" name="Text Box 4"/>
          <p:cNvSpPr/>
          <p:nvPr/>
        </p:nvSpPr>
        <p:spPr>
          <a:xfrm>
            <a:off x="3924360" y="2781360"/>
            <a:ext cx="2160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diano e il cinese suppongono di parlare tra loro (protocollo 3)</a:t>
            </a:r>
            <a:endParaRPr b="0" lang="en-US" sz="1400" spc="-1" strike="noStrike">
              <a:solidFill>
                <a:srgbClr val="000000"/>
              </a:solidFill>
              <a:latin typeface="Arial"/>
            </a:endParaRPr>
          </a:p>
        </p:txBody>
      </p:sp>
      <p:sp>
        <p:nvSpPr>
          <p:cNvPr id="239" name="Text Box 5"/>
          <p:cNvSpPr/>
          <p:nvPr/>
        </p:nvSpPr>
        <p:spPr>
          <a:xfrm>
            <a:off x="3852720" y="4135320"/>
            <a:ext cx="2303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 due traduttori parlano tra loro in olandese (protocollo 2)</a:t>
            </a:r>
            <a:endParaRPr b="0" lang="en-US" sz="1400" spc="-1" strike="noStrike">
              <a:solidFill>
                <a:srgbClr val="000000"/>
              </a:solidFill>
              <a:latin typeface="Arial"/>
            </a:endParaRPr>
          </a:p>
        </p:txBody>
      </p:sp>
      <p:sp>
        <p:nvSpPr>
          <p:cNvPr id="240" name="Text Box 6"/>
          <p:cNvSpPr/>
          <p:nvPr/>
        </p:nvSpPr>
        <p:spPr>
          <a:xfrm>
            <a:off x="1042920" y="3500280"/>
            <a:ext cx="144144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 realtà, l’indiano si serve di un interprete che capisce l’inglese</a:t>
            </a:r>
            <a:endParaRPr b="0" lang="en-US" sz="1400" spc="-1" strike="noStrike">
              <a:solidFill>
                <a:srgbClr val="000000"/>
              </a:solidFill>
              <a:latin typeface="Arial"/>
            </a:endParaRPr>
          </a:p>
        </p:txBody>
      </p:sp>
      <p:sp>
        <p:nvSpPr>
          <p:cNvPr id="241" name="Text Box 7"/>
          <p:cNvSpPr/>
          <p:nvPr/>
        </p:nvSpPr>
        <p:spPr>
          <a:xfrm>
            <a:off x="1042920" y="4869000"/>
            <a:ext cx="144144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terprete traduce il messaggio in olandese e lo passa alla segretaria</a:t>
            </a:r>
            <a:endParaRPr b="0" lang="en-US" sz="1400" spc="-1" strike="noStrike">
              <a:solidFill>
                <a:srgbClr val="000000"/>
              </a:solidFill>
              <a:latin typeface="Arial"/>
            </a:endParaRPr>
          </a:p>
        </p:txBody>
      </p:sp>
      <p:sp>
        <p:nvSpPr>
          <p:cNvPr id="242" name="Text Box 8"/>
          <p:cNvSpPr/>
          <p:nvPr/>
        </p:nvSpPr>
        <p:spPr>
          <a:xfrm>
            <a:off x="3851280" y="5651640"/>
            <a:ext cx="2303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segretaria invia il messaggio all’altra segretaria per fax (protocollo 1)</a:t>
            </a:r>
            <a:endParaRPr b="0" lang="en-US" sz="1400" spc="-1" strike="noStrike">
              <a:solidFill>
                <a:srgbClr val="000000"/>
              </a:solidFill>
              <a:latin typeface="Arial"/>
            </a:endParaRPr>
          </a:p>
        </p:txBody>
      </p:sp>
      <p:sp>
        <p:nvSpPr>
          <p:cNvPr id="243" name="Text Box 9"/>
          <p:cNvSpPr/>
          <p:nvPr/>
        </p:nvSpPr>
        <p:spPr>
          <a:xfrm>
            <a:off x="7667640" y="5084640"/>
            <a:ext cx="14414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segretaria passa il fax all’interprete</a:t>
            </a:r>
            <a:endParaRPr b="0" lang="en-US" sz="1400" spc="-1" strike="noStrike">
              <a:solidFill>
                <a:srgbClr val="000000"/>
              </a:solidFill>
              <a:latin typeface="Arial"/>
            </a:endParaRPr>
          </a:p>
        </p:txBody>
      </p:sp>
      <p:sp>
        <p:nvSpPr>
          <p:cNvPr id="244" name="Text Box 10"/>
          <p:cNvSpPr/>
          <p:nvPr/>
        </p:nvSpPr>
        <p:spPr>
          <a:xfrm>
            <a:off x="7667640" y="3429000"/>
            <a:ext cx="144144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terprete traduce il messaggio dall’ olandese al francese e lo passa al filosof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4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comunicazione su rete a 5 livelli - 1</a:t>
            </a:r>
            <a:endParaRPr b="0" lang="en-US" sz="4000" spc="-1" strike="noStrike">
              <a:solidFill>
                <a:srgbClr val="ffffff"/>
              </a:solidFill>
              <a:latin typeface="Arial"/>
            </a:endParaRPr>
          </a:p>
        </p:txBody>
      </p:sp>
      <p:graphicFrame>
        <p:nvGraphicFramePr>
          <p:cNvPr id="248" name="Object 3"/>
          <p:cNvGraphicFramePr/>
          <p:nvPr/>
        </p:nvGraphicFramePr>
        <p:xfrm>
          <a:off x="1042920" y="1916280"/>
          <a:ext cx="7345440" cy="4600440"/>
        </p:xfrm>
        <a:graphic>
          <a:graphicData uri="http://schemas.openxmlformats.org/presentationml/2006/ole">
            <p:oleObj r:id="rId1" spid="">
              <p:embed/>
              <p:pic>
                <p:nvPicPr>
                  <p:cNvPr id="249" name="Object 3" descr=""/>
                  <p:cNvPicPr/>
                  <p:nvPr/>
                </p:nvPicPr>
                <p:blipFill>
                  <a:blip r:embed="rId2"/>
                  <a:stretch/>
                </p:blipFill>
                <p:spPr>
                  <a:xfrm>
                    <a:off x="1042920" y="1916280"/>
                    <a:ext cx="7345440" cy="46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cp:lastModifiedBy>
  <dcterms:modified xsi:type="dcterms:W3CDTF">2013-09-30T15:02:05Z</dcterms:modified>
  <cp:revision>54</cp:revision>
  <dc:subject/>
  <dc:title>Diapositiva 1</dc:title>
</cp:coreProperties>
</file>