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5AF4E-0D90-4F05-86F1-F1D2A5FE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13E24-9F8B-4601-BDAE-C1D109E5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04332-ECC8-4307-BB13-7FA6F3E4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45D9-01C2-45C5-91A4-8AAA24C1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29C4-79D9-46A8-8C4E-5AEB707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ACC5B-AB93-4DCE-A12C-D9944BF1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40B9D-6B9E-495E-981A-55958BD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F25E4-1447-43C4-8C5B-F1348EA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22436-6EF5-4CC3-8004-9AA636E7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1D399-2977-4DBA-8EBB-91FC1AF4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43AB-E7D2-4258-A5D5-434C523D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E6F18-58E2-49BD-AA8C-FA059CAB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24250-7FAE-4570-86AF-04B8FA74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930F3-6B2C-49D6-96D6-A44A5EB6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1763D-2C95-49AE-849C-62D1782F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935CA-3564-48B1-84F1-AE1DD53E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DD93F-8602-4B83-92CF-59852ED7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FB5AC-DFD0-4C0C-A604-3F4D461C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63CEF-A963-46FC-BE1D-CA929B1C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E24B3-835D-4E36-8801-02AB55E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32AA1-3010-484A-96F3-DA89A219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BA6DD-14FC-4047-A366-76336BBF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DCA6D-8552-426C-8F1D-3A94ED2E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A6638-84C3-4B13-8375-A64CA5AF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C0460-369A-4E13-8A1E-0AFFCAC4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DC814-B969-4409-8B50-2F55875B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DA09B-776D-4CE0-B796-C7DF879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4E573-0E63-4ED7-8A1A-2AEA4D8B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D7A3B-5CA0-4C77-A96E-B70663FC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3AEB2-27C8-48BA-9BC4-DA94F51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34879-03C1-4D45-B286-3146C0A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55D52-746B-4E8F-9171-56A5F37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9A275-E12C-4D44-BB26-1E672E2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A2A50-B473-4477-AD35-D16894D4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9F0EB-A414-4BD3-A37D-7941F65D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3A660-910D-4754-88E8-56C9490E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3B23F-1331-4319-8FAF-3D329B00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76D4C-E68A-4571-AEF1-2E66C2AF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BA482-9005-4EBB-BA18-E02A84BC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D1EE4-23BB-4E3D-AE9B-2C5AE061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15B14-64F1-47F7-942A-843B2F6A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9187C-D448-43CE-99F5-85C2EA6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3EEFF-170D-4819-9046-6727F425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CCF3D-1976-48BF-949E-F6484AE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265EF-8A8D-4416-8514-520F47F5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2C2E2-D9CB-47AC-9C2A-5B374CCB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7AB40-8614-43A9-B119-C241F148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B41E6-C9D5-47CE-A844-832719F4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F619-9AFD-4906-98AB-AF94615CF29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B282-A2F9-48A0-8521-EC3A03E945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4F5E-46D7-4A9E-BC89-FF2B4C3994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315A-9298-4627-AD7B-008B05167F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0F2-F759-424C-9C5A-91591BF00D9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3 2014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2. Sistemi Distribuit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 proce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e join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508720" y="1700280"/>
            <a:ext cx="302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metodo main() attende il completamento del thread prima di procedere con l’esecuzione: il programma si comporta adesso in modo determin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hread nei S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: rendono più semplice la gestione di connessioni logiche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spetti specifici da consider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ient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ver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obiettivo dei sistemi distribuiti è quello di raggiungere un alto grado di trasparenza alla distrib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e reti globali, ciò comporta la necessità di nascondere i lunghi tempi di propagazione dei messaggi tra i processi (ordine delle centinai di millisec., o addirittura dei secon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odo per nascondere la latenza nella comunicazione: avviare la comunicazione stessa e immediatamente iniziare a fare qualcos’a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: Browser Web: quando si carica una pagina Web, si prelevano dati spesso molto “pesanti” come immagini o oggetti multimediali. Per nascondere la latenza, il Browser spesso comincia a visualizzare i dati disponibili mentre ancora la comunicazione è in 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appena il file HTML è stato prelevato, si possono lanciare più thread indipendenti per prelevare i vari dati. Se un thread si blocca, gli altri non ne risent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o vantaggio: se il server è effettivamente replicato su più macchine per gestire flussi elevati di richieste, un client multi-thread può ottenere performance migliori perché è altamente probabile che i vari thread verrano eseguiti (in parallelo) da server diffe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o principale del multithreading nei SD: la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lifica notevolmente la scrittura del codice di u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onsideri ad esempio un file server che occasionalmente deve bloccarsi in att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file server attende la richiesta di un’operazione su un file, quindi la soddisfa ed invia la 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 possib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thread, il dispacher, legge le richieste in ingr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richieste sono inviate dai client al server ad una porta ben conosci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er esamina la richiesta, sceglie un worker thread inattivo e gliela pa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va avanti eseguendo una lettura bloccante sul file system locale de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può rimanere bloccato in attesa dei dati da disco. Ma questo non blocca né il dispatcher ne gli altri worker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ta: senza il multithreading, il server rimarrebbe bloccato sulla singola richiesta, senza poter servire altre richies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è un altro esempio di come i thread generalmente migliorino le pres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: Processo Server in JAV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ogliamo scrivere il codice di un programma server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farlo, dobbiamo introdurre due concetti base del linguaggio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è una sorta di “terminazione” software di un collegamento bidirezionale tra un programma server ed uno o più programmi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associa al programma server una specifica porta hardware sulla macchina su cui è eseguito, in modo tale che ogni programma client che sta in qualunque altro luogo nella rete con un socket associato a quella stessa porta può comunicare col programma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2538360" y="1703520"/>
          <a:ext cx="455472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1703520"/>
                    <a:ext cx="455472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Client extends JFrame implements ActionListener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text, click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Button button;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Field textFiel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socke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 = new JLabel("Text to sen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 = new JTextField(20); button = new JButton("Click Me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Fiel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South", butto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actionPerformed(ActionEvent event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f(source == button){ //Send data over so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ing text = textField.getTex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.println(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.setText(new String(""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Receive text from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tring line = in.readLin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Text received :" + lin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listenSocket(){ //Create socket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= new Socket("kq6py", 4444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 = new PrintWriter(socket.getOutputStream(), 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= 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w InputStreamReader(socket.getInputStream()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UnknownHost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Unknown hos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No I/O"); 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 frame = new SocketClien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Title("Client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//fine della classe Socket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" name="Object 5"/>
          <p:cNvGraphicFramePr/>
          <p:nvPr/>
        </p:nvGraphicFramePr>
        <p:xfrm>
          <a:off x="2673360" y="1773360"/>
          <a:ext cx="4203720" cy="25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3360" y="1773360"/>
                    <a:ext cx="420372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ass SocketServer extends JFrame implements ActionListener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Button butt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 clien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actionPerformed(ActionEvent event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(source == button){ textArea.setText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 = new ServerSocket(4444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Could not listen on port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ent = server.accep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Accept failed: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System.out.println("Accept failed: 4444"); System.exit(-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CONTIN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line = in.readLine(); //Send data back to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println(lin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//Fine funzione listen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tected void finalize(){ //Clean 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catch (IOException e) { System.out.println("Could not close."); System.exit(-1)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 frame = new SocketServer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Title("Server Program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//fine classe Socket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data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48836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permettere la connessione contemporanea di più client, il server deve usare più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411280" y="2766960"/>
          <a:ext cx="460872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66960"/>
                    <a:ext cx="460872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ClientWorker implements Runnable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Socket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JTextArea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entWorke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client, JTextArea textArea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client =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textArea =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run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in or out failed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line = in.readLine(); //Send data back to client out.println(line);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xtArea.append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Read failed"); System.exit(-1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ThrdServer extends JFrame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(){ //Begin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Are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 = new ServerSocket(444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Could not listen on port 4444"); System.exit(-1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ientWorker 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 = new ClientWorker(server.accept(), textAre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read t = new Thread(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Accept failed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444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tected void finalize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erver.close(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Could not close socke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 frame = new SocketThrdServer(); frame.setTitle("Server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System.exit(0); }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cessi: Concetti di b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rso della sua attività il S.O. crea una serie di Processori Virtuali, ad ognuno dei quali è assegnato un processo (programma in esecuzi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.O. ha cura che i singoli processi non si disturbino a vicenda: è reso trasparente il fatto che i processi utilzzano la stessa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zzo della Trasparenza alla Concorren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processo deve avere uno spazio degli indirizzi in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evono gestire gli switch da un processo all’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ai Processi ai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un processo, anche un thread esegue un suo pezzo di codice, indipendentemente dagli altri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differenza dei processi, non c’è però un alto grado di trasparenza alla concorr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atti, un sistema a thread gestisce solo l’insieme minimo delle informazioni per permettere alla CPU di essere condivisa da più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ntesto di un thread è composto solo dal contesto della CPU e da qualche altra informazione sui thread in esecuzione (ad esempio un thread è bloccato e non può essere utilizz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il programmatore che deve proteggere i dati da accessi scorretti da parte dei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 rispetto ai processi: Prestazioni generalmente migliori, al prezzo di uno sforzo intellettuale da parte del programm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a come si usano i thread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per scomporre un processo in sotto parti elementari in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processi a singolo thread, quando si esegue una chiamata a sistema bloccante, si blocca tutto il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: in un foglio elettronico, quando si inseriscono dati in una cella occorre poi eseguire computazioni che si ripercuotono su tutte le altre c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un solo thread, mentre si inseriscono i dati non si effettuano computazioni, e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iù efficiente usare due thread, uno per gestire l’input della cella, l’altro per gestire le compu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ltro grande vantaggio nel multi-threading si ha nei sistemi multiprocessore: ogni thread può essere assegnato ad un processore e ciò permette l’esecuzione parallela mentre i dati stanno su una memoria centrale condivisa (es. i server nelle applicazioni client-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508720" y="170028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si ottiene molto: i thread continuano ad essere eseguiti indipend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</cp:lastModifiedBy>
  <dcterms:modified xsi:type="dcterms:W3CDTF">2013-09-30T15:01:11Z</dcterms:modified>
  <cp:revision>72</cp:revision>
  <dc:subject/>
  <dc:title>Diapositiva 1</dc:title>
</cp:coreProperties>
</file>