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36A874-320D-45A6-AE41-314E8D025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96C3AE-DF52-4FF2-9F38-598FCE904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9DB90-416D-43C9-BFE6-6CBE6B0EC6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AF529D-9E6D-4ECB-92F4-2F85CF472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2746BD-58AE-4958-8569-2357E51D3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2DAA4-5530-4956-8572-315DE96B9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30AB4-AB69-4EB4-A994-821A297EE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41103-2C40-4560-833D-CF2D7319A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ADAA9-0E62-4F1F-95BA-94BAA043B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364D75-6761-4589-9233-69436B785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376432-9371-44F1-80A4-7256871487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B77B3F-3662-4637-8371-F2177BDBC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3CB925-11C4-4C57-98BD-8C8DDE2C359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5396C0-5921-40A5-A24E-09E6A9612B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5A9C77-F7CA-4F31-9A21-0689EDD97F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C86FEB-DF88-41C5-A2C2-7D7E7040A7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64F1FB-8FAB-4E54-A70D-7D7090E5A0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18F280-34D5-4D6A-A392-B5A74A5157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7099FF-14DF-4959-93D3-F0D99DA476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BE5235-177C-455B-9E8C-8FBC0855E1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1073AB-BCF4-4DD9-A1F0-5829B030F3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1D9892-47EF-4411-A162-C45DC2DEFE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6BE83F-2BCD-4BE2-80D5-1B15D6530D3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C9E4430-9B68-4B99-A598-C16D1FFE9B9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E815788-8A57-4BD5-B01C-36E2D28412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C64632-D707-417A-866D-CF44B5F13C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6E875C-560D-417B-8304-85D965AE67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791814-49C4-4EEA-AC9D-8DB8BAC26E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9B7626-4EF4-4BF3-805E-001CCEECFD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30B247-5BA5-4513-96E5-72F22316C6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8E36CA-546B-492E-8A11-59C02BCA4E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9239C1-D1DF-4CBE-B5C2-EE224E654A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8B02AE-0C63-4759-96F8-5B447A7087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99ACAA-07CE-4F8A-9070-DD65624D22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0A6AADC-96BF-415D-B419-9219C99A7C3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007B9E-3955-4849-A280-7A69A2009BA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81C19F3-6E4D-4323-B59D-1C7117B8D8B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07A0F6C-4086-4F73-B568-B8CD2350AD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F4E52A6-F3A0-410A-B654-6645B76D401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AEAC34-8CF7-4D35-B279-2557486011A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46C55AF-665F-409D-9C56-F8397731BE7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A2F92F-F829-4FA9-8400-295D429244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2D87370-3443-4D6D-99A4-A510A79B7AA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DFB00F4-5E0A-464F-A7E8-56E3DC5B8C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63BCCA-6EB6-476B-AE4D-7EC5F4BE8C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6F585A-FC43-4E6B-9A01-CED00C2A6A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32985E1-3DE4-474E-A173-EA98D10C989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AA2008B-E92F-408B-B252-825FFA77323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A7C5-483E-49ED-A2BE-254302DB4A8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60ED-292B-4C9B-983E-B135B1EA1BE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D268-1700-4BBD-9EBB-B4C53DAAAE2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9FD7-DB78-4C8E-B41E-F57D0ED909B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9278-CCA9-4EF4-A561-E8D3C9D8D8D3}"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1. Sistemi Distribuiti</a:t>
            </a:r>
            <a:br>
              <a:rPr sz="2400"/>
            </a:br>
            <a:r>
              <a:rPr b="1" lang="it-IT" sz="2400" spc="-1" strike="noStrike">
                <a:solidFill>
                  <a:srgbClr val="ffffff"/>
                </a:solidFill>
                <a:latin typeface="Tahoma"/>
              </a:rPr>
              <a:t>Introdu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asparenza</a:t>
            </a:r>
            <a:endParaRPr b="0" lang="en-US" sz="44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ccesso: si vuole nascondere all’utente come i dati sono rappresentati sulle singole macchine (es. differenti 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ubicazione: si vuole che gli utenti non possano indicare dove è fisicamente localizzata una risor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migrazione: le risorse possono essere spostate senza interferire sulla loro modalità d’accesso. Se ciò si può fare addirittura mentre le risorse sono in uso, abbiamo Trasparenza al riposiziona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replica: si nasconde l’esistenza di molte copie di una risorsa, che vengono automaticamente tenute aggiorn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concorrenza: l’accesso concorrente ad una risorsa condivisa la lascia in uno stato coer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i guasti: l’utente non si rende conto che una risorsa ha smesso di funzion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rado di Trasparenza</a:t>
            </a:r>
            <a:endParaRPr b="0" lang="en-US" sz="44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detto che una trasparenza assoluta sia desiderab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ensi ad una applicazione che per eseguire una certa operazione per l’utente debba contattare uno tra tanti server disponibili, e che si voglia nascondere quale server viene contattato. Se il server contattato non risponde, l’utente non ha modo di interrompere il tentativo per passare ad un altro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ertura</a:t>
            </a:r>
            <a:endParaRPr b="0" lang="en-US" sz="44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D aperto è un sistema che offre servizi rispettando certe regole standard che descrivono la sintassi e la semantica dei servizi stes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SD i servizi sono specificati per mezzo di interfacce scritte in un Interface Definition Language (IDL). Esse spesso specificano la sintassi ma il difficile è specificare la semantica (“cosa i servizi fan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e interfacce sono ben specificate i sistemi che le usano possono implementarle in modo diverso senza problemi ed interagire tra loro (interoperabilità). Inoltre si possono portare agevolmente da un sistema ad un altro (portabilit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l’ampliabilità è una caratteristica dell’apertura. I sistemi devono essere estendibi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calabilità</a:t>
            </a:r>
            <a:endParaRPr b="0" lang="en-US" sz="44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spetto centrale, visto l’aumento esponenziale degli utenti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 dimensione: possiamo aggiungere utenti e risorse al sist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geografica: utenti e risorse possono essere anche molto lontan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mministrazione: il sistema deve rimanere gestibile anche coprendo molte strutture indipend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i di Scalabilità</a:t>
            </a: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limiti maggiori emergono quando i dati, i servizi, o le applicazioni sono 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tal caso l’unità centrale diventa un collo di bottiglia: si immagini se il DNS di Internet fosse ancora implementato come un’unica tabel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rispetto alle dimensioni si affronta mediante approcci decentralizza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geografica è difficile da ottenere perché le reti geografiche sono point-to-point. Anche qui occorrerebbe adottare soluzioni de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bilità rispetto all’amministrazione è strettamente legata a problemi di sicurezza. Occorre fare in modo che passando da un dominio ad un altro più esteso, non si violi la sicurezza di quest’ultimo (esempio: applet 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iche di Scalabilità</a:t>
            </a:r>
            <a:endParaRPr b="0" lang="en-US" sz="44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unicazione asincrona: cercare di evitare l’attesa delle risposte alle richieste di servizi remoti. Per esempio, quando un servizio viene richiesto ad un server, invece di aspettare passivamente la risposta si può permettere all’applicazione richiedente di fare altro lavoro utile. Quando arriva una risposta, l’applicazione interrompe quello che stava facendo e torna a gestire il processo originale (sono utili i thread paralle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durre la comunicazione totale, spostando su client parte del lavoro che è fatto dal server (es. Applet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tribuzione: prendere un componente, spezzarlo in più parti e distribuirle nel sistema (es. D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plicazione – Caching: incrementare la disponibilità delle riso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1</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 Calcolo Distribuit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i calcolo a cluster: semplici computer collegati da reti ad alta velocità, per consentire la programmazione parallela (es. Beowulf su Linu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id Computing: in un cluster, i computer sono tutti uguali. La tecnologia grid presenta invece componenti eterogenee. Gli appartenenti alla stessa organizzazione virtuale hanno diritto all’accesso alle stesse risorse (server, data storage, basi di dati)</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2</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i Informativi Distribuiti: Emergono in contesti aziendali, in cui necessita l’integrazione di diverse applicazioni. L’integrazione di applicazioni aziendali è oggi un campo in grande sviluppo (Enterprise Application Integration, E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3</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stribuiti Pervasivi:nascono con i dispositivi di calcolo mobili ed embedded. Dispositivi piccoli,a batteria, mobili e wireless. Devono “integrarsi” nel nostro ambien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omestici (integrano in un solo sistema TV, smartphone,PDA, eventualmente impianti antifurto,videosorveglianza,climatizzazione ec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elettronici per l’assistenza sanitaria (basati su sensori wirel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ti di Sensori: centinaia o migliaia di nodi, ognuno equipaggiato con un sensore (es. sistemi per il controllo del traf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9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96" name="Object 4"/>
          <p:cNvGraphicFramePr/>
          <p:nvPr/>
        </p:nvGraphicFramePr>
        <p:xfrm>
          <a:off x="1763640" y="3548160"/>
          <a:ext cx="5581800" cy="2257200"/>
        </p:xfrm>
        <a:graphic>
          <a:graphicData uri="http://schemas.openxmlformats.org/presentationml/2006/ole">
            <p:oleObj r:id="rId1" spid="">
              <p:embed/>
              <p:pic>
                <p:nvPicPr>
                  <p:cNvPr id="29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ogresso tecnologico dei Computer</a:t>
            </a:r>
            <a:endParaRPr b="0" lang="en-US" sz="40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1945-1985: Computer ingombranti e costosi. Ogni computer operava indipendentemente dagli al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à anni 80: sviluppo di microprocessori potenti a 8, 16, 32, 64 bit: capacità di calcolo di un mainframe ma costi molto più bass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assa da macchine da 10 milioni di dollari che eseguivano 1 istruzione/sec a macchine da 1000 dollari che eseguono 1 miliardo di istruzioni al secon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uadagno prezzo/prestazioni: 10</a:t>
            </a:r>
            <a:r>
              <a:rPr b="0" lang="it-IT" sz="2800" spc="-1" strike="noStrike" baseline="30000">
                <a:solidFill>
                  <a:srgbClr val="000000"/>
                </a:solidFill>
                <a:latin typeface="Arial"/>
              </a:rPr>
              <a:t>13</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305" name="Object 3"/>
          <p:cNvGraphicFramePr/>
          <p:nvPr/>
        </p:nvGraphicFramePr>
        <p:xfrm>
          <a:off x="1836720" y="1569960"/>
          <a:ext cx="6048360" cy="3659400"/>
        </p:xfrm>
        <a:graphic>
          <a:graphicData uri="http://schemas.openxmlformats.org/presentationml/2006/ole">
            <p:oleObj r:id="rId1" spid="">
              <p:embed/>
              <p:pic>
                <p:nvPicPr>
                  <p:cNvPr id="30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viluppo delle Reti di Calcolatori</a:t>
            </a:r>
            <a:endParaRPr b="0" lang="en-US" sz="40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nvenzione delle reti di computer ad alta velocit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Locali (LAN): connettono centinaia di macchine in un edificio con velocità da 100 milioni a 10 miliardi di bit/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Geografiche (WAN): milioni di macchine connesse in tutto il mondo, con velocità da 64Kbs a gigabit/se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ultato</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Facilità di mettere insieme sistemi di calcolo composti da un gran numero di computer connessi da reti ad alta veloc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esti sistemi sono chiamati Sistemi Distribuiti, diversamente dai precedenti Sistemi Centralizzati, che avevano un singolo processore e alcune periferi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efinizione di Sistema Distribuito</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i="1" lang="it-IT" sz="2400" spc="-1" strike="noStrike">
                <a:solidFill>
                  <a:srgbClr val="000000"/>
                </a:solidFill>
                <a:latin typeface="Arial"/>
              </a:rPr>
              <a:t>Collezione di computer indipendenti che appare ai propri utenti come un singolo sistema coer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omponenti di un SD sono quindi computer autonom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utenti di un SD pensano di aver a che fare con un unico sist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 segue che le componenti di un SD devono collaborare tra lor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ealizzare la collaborazione? Domanda chia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ssuna supposizione sul tipo di computer, sui sistemi operativi o sulle modalità di interconne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dei SD</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differenze tra i computer, le modalità di comunicazione e l’organizzazione interna del SD sono nascoste agli ut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tenti e applicazioni possono interagire con un SD in modo coerente e uniforme, indipendentemente da quando e dove l’interazione ha luo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SD deve essere facilmente espandibile e scalabile, essendo composto da computer indipendenti e avendo un’organizzazione trasparente: facilità di sostituire parti o aggiungere nuove component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D come Middleware</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solito, un SD si configura  come un layer di software intermedio tra un soprastante livello delle applicazioni e un sottostante livello di software di base (Sistemi Operativi, Sistemi di Comunicazione).</a:t>
            </a:r>
            <a:endParaRPr b="0" lang="en-US" sz="2000" spc="-1" strike="noStrike">
              <a:solidFill>
                <a:srgbClr val="000000"/>
              </a:solidFill>
              <a:latin typeface="Arial"/>
            </a:endParaRPr>
          </a:p>
        </p:txBody>
      </p:sp>
      <p:sp>
        <p:nvSpPr>
          <p:cNvPr id="232" name="Rectangle 5"/>
          <p:cNvSpPr/>
          <p:nvPr/>
        </p:nvSpPr>
        <p:spPr>
          <a:xfrm>
            <a:off x="385128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6"/>
          <p:cNvSpPr/>
          <p:nvPr/>
        </p:nvSpPr>
        <p:spPr>
          <a:xfrm>
            <a:off x="5148360" y="3645000"/>
            <a:ext cx="10792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
          <p:cNvSpPr/>
          <p:nvPr/>
        </p:nvSpPr>
        <p:spPr>
          <a:xfrm>
            <a:off x="6588000" y="3645000"/>
            <a:ext cx="107964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8"/>
          <p:cNvSpPr/>
          <p:nvPr/>
        </p:nvSpPr>
        <p:spPr>
          <a:xfrm>
            <a:off x="234000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9"/>
          <p:cNvSpPr/>
          <p:nvPr/>
        </p:nvSpPr>
        <p:spPr>
          <a:xfrm>
            <a:off x="241128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A</a:t>
            </a:r>
            <a:endParaRPr b="0" lang="en-US" sz="1800" spc="-1" strike="noStrike">
              <a:solidFill>
                <a:srgbClr val="000000"/>
              </a:solidFill>
              <a:latin typeface="Arial"/>
            </a:endParaRPr>
          </a:p>
        </p:txBody>
      </p:sp>
      <p:sp>
        <p:nvSpPr>
          <p:cNvPr id="237" name="Text Box 10"/>
          <p:cNvSpPr/>
          <p:nvPr/>
        </p:nvSpPr>
        <p:spPr>
          <a:xfrm>
            <a:off x="3995640" y="3716280"/>
            <a:ext cx="2016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B</a:t>
            </a:r>
            <a:endParaRPr b="0" lang="en-US" sz="1800" spc="-1" strike="noStrike">
              <a:solidFill>
                <a:srgbClr val="000000"/>
              </a:solidFill>
              <a:latin typeface="Arial"/>
            </a:endParaRPr>
          </a:p>
        </p:txBody>
      </p:sp>
      <p:sp>
        <p:nvSpPr>
          <p:cNvPr id="238" name="Text Box 11"/>
          <p:cNvSpPr/>
          <p:nvPr/>
        </p:nvSpPr>
        <p:spPr>
          <a:xfrm>
            <a:off x="665964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C</a:t>
            </a:r>
            <a:endParaRPr b="0" lang="en-US" sz="1800" spc="-1" strike="noStrike">
              <a:solidFill>
                <a:srgbClr val="000000"/>
              </a:solidFill>
              <a:latin typeface="Arial"/>
            </a:endParaRPr>
          </a:p>
        </p:txBody>
      </p:sp>
      <p:sp>
        <p:nvSpPr>
          <p:cNvPr id="239" name="Text Box 12"/>
          <p:cNvSpPr/>
          <p:nvPr/>
        </p:nvSpPr>
        <p:spPr>
          <a:xfrm>
            <a:off x="241128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1</a:t>
            </a:r>
            <a:endParaRPr b="0" lang="en-US" sz="1800" spc="-1" strike="noStrike">
              <a:solidFill>
                <a:srgbClr val="000000"/>
              </a:solidFill>
              <a:latin typeface="Arial"/>
            </a:endParaRPr>
          </a:p>
        </p:txBody>
      </p:sp>
      <p:sp>
        <p:nvSpPr>
          <p:cNvPr id="240" name="Text Box 13"/>
          <p:cNvSpPr/>
          <p:nvPr/>
        </p:nvSpPr>
        <p:spPr>
          <a:xfrm>
            <a:off x="392436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2</a:t>
            </a:r>
            <a:endParaRPr b="0" lang="en-US" sz="1800" spc="-1" strike="noStrike">
              <a:solidFill>
                <a:srgbClr val="000000"/>
              </a:solidFill>
              <a:latin typeface="Arial"/>
            </a:endParaRPr>
          </a:p>
        </p:txBody>
      </p:sp>
      <p:sp>
        <p:nvSpPr>
          <p:cNvPr id="241" name="Text Box 14"/>
          <p:cNvSpPr/>
          <p:nvPr/>
        </p:nvSpPr>
        <p:spPr>
          <a:xfrm>
            <a:off x="521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3</a:t>
            </a:r>
            <a:endParaRPr b="0" lang="en-US" sz="1800" spc="-1" strike="noStrike">
              <a:solidFill>
                <a:srgbClr val="000000"/>
              </a:solidFill>
              <a:latin typeface="Arial"/>
            </a:endParaRPr>
          </a:p>
        </p:txBody>
      </p:sp>
      <p:sp>
        <p:nvSpPr>
          <p:cNvPr id="242" name="Text Box 15"/>
          <p:cNvSpPr/>
          <p:nvPr/>
        </p:nvSpPr>
        <p:spPr>
          <a:xfrm>
            <a:off x="665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4</a:t>
            </a:r>
            <a:endParaRPr b="0" lang="en-US" sz="1800" spc="-1" strike="noStrike">
              <a:solidFill>
                <a:srgbClr val="000000"/>
              </a:solidFill>
              <a:latin typeface="Arial"/>
            </a:endParaRPr>
          </a:p>
        </p:txBody>
      </p:sp>
      <p:sp>
        <p:nvSpPr>
          <p:cNvPr id="243" name="Text Box 16"/>
          <p:cNvSpPr/>
          <p:nvPr/>
        </p:nvSpPr>
        <p:spPr>
          <a:xfrm>
            <a:off x="1979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1</a:t>
            </a:r>
            <a:endParaRPr b="0" lang="en-US" sz="1800" spc="-1" strike="noStrike">
              <a:solidFill>
                <a:srgbClr val="000000"/>
              </a:solidFill>
              <a:latin typeface="Arial"/>
            </a:endParaRPr>
          </a:p>
        </p:txBody>
      </p:sp>
      <p:sp>
        <p:nvSpPr>
          <p:cNvPr id="244" name="Text Box 17"/>
          <p:cNvSpPr/>
          <p:nvPr/>
        </p:nvSpPr>
        <p:spPr>
          <a:xfrm>
            <a:off x="341964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2</a:t>
            </a:r>
            <a:endParaRPr b="0" lang="en-US" sz="1800" spc="-1" strike="noStrike">
              <a:solidFill>
                <a:srgbClr val="000000"/>
              </a:solidFill>
              <a:latin typeface="Arial"/>
            </a:endParaRPr>
          </a:p>
        </p:txBody>
      </p:sp>
      <p:sp>
        <p:nvSpPr>
          <p:cNvPr id="245" name="Text Box 18"/>
          <p:cNvSpPr/>
          <p:nvPr/>
        </p:nvSpPr>
        <p:spPr>
          <a:xfrm>
            <a:off x="478800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3</a:t>
            </a:r>
            <a:endParaRPr b="0" lang="en-US" sz="1800" spc="-1" strike="noStrike">
              <a:solidFill>
                <a:srgbClr val="000000"/>
              </a:solidFill>
              <a:latin typeface="Arial"/>
            </a:endParaRPr>
          </a:p>
        </p:txBody>
      </p:sp>
      <p:sp>
        <p:nvSpPr>
          <p:cNvPr id="246" name="Text Box 19"/>
          <p:cNvSpPr/>
          <p:nvPr/>
        </p:nvSpPr>
        <p:spPr>
          <a:xfrm>
            <a:off x="6227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4</a:t>
            </a:r>
            <a:endParaRPr b="0" lang="en-US" sz="1800" spc="-1" strike="noStrike">
              <a:solidFill>
                <a:srgbClr val="000000"/>
              </a:solidFill>
              <a:latin typeface="Arial"/>
            </a:endParaRPr>
          </a:p>
        </p:txBody>
      </p:sp>
      <p:sp>
        <p:nvSpPr>
          <p:cNvPr id="247" name="Text Box 20"/>
          <p:cNvSpPr/>
          <p:nvPr/>
        </p:nvSpPr>
        <p:spPr>
          <a:xfrm>
            <a:off x="2482920" y="4437000"/>
            <a:ext cx="5041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a Distribuito (Middle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i dei SD</a:t>
            </a:r>
            <a:endParaRPr b="0" lang="en-US" sz="44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ando vale la pena di costruire un S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e risorse siano facilmente accessibil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a distribuzione delle risorse sia nascos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aper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scalab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ccessibilità</a:t>
            </a: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sorse: computer, dati, stampanti, pagine Web,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volte si vuole che queste risorse siano condivise (la condivisione è econo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dimostra che connettere utenti e risorse è una strategia di succes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oupware: File Sharing, Editing Collaborativo, Video Conferenza,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za della Sicurezza quando si è connessi in rete: protezione della privacy, evitare lo spam, sono tutti ottimi motivi per progettare un 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cp:lastModifiedBy>
  <dcterms:modified xsi:type="dcterms:W3CDTF">2013-09-30T15:00:38Z</dcterms:modified>
  <cp:revision>52</cp:revision>
  <dc:subject/>
  <dc:title>Diapositiva 1</dc:title>
</cp:coreProperties>
</file>