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2E7B8-4EEC-49AE-BF53-C683209D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B9732-1D5E-4C6E-9B79-970D5F1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9F4E2-54A3-437D-B0A5-3E628DC0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3BC3C-E9F2-400C-8E51-71F6A0BA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8550F-BCC9-4073-916C-81CC254F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83755-E758-4694-845C-211F0D08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6608B-1C25-4B9B-A4F3-38CA9C24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5EF61-0F45-4414-B236-C003AFF9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61755-8BAC-44EF-9070-16C48F56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241EC-5E46-4E81-BA88-0724AE89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3699A-3435-44A0-B98B-9D1A0567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23898-57FA-4045-A655-EC6A1562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750EE-C763-4B2A-8C5B-7D98E628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112A0-44D6-4DE1-8977-FD678110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86883-8D75-47A7-9582-8C30DB40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B8965-48D9-4CA6-B417-02C929F3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0188B-1CE1-449A-BDEA-99A1F27C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DF3C1-EEA1-45A3-BDF2-B7A2AF47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8D688-B5CD-43B8-B81F-B593BBC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C143C-C307-42A8-9787-CBE1C50C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58C8F-E2A8-4257-BC8B-5EC763C4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6A937-FD9E-4F26-99BA-0977B4C7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D215D-9D4A-4547-8841-87C9277E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3F5F3-A59A-41EE-98ED-1CA70A4D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3DB2C-5033-4113-B418-C614C0C0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4399B-65EE-49EF-B246-B9147802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0819D-74A8-48ED-9395-C6F205E3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05759-9ACC-42E4-BEB4-D1F84A1C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362D3-71D5-4ED0-A845-8EAA2D4D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4DD93-20FA-4C5D-AC07-E867B58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15462-FA5D-4EEF-A944-BC3EF0F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D1B89-AB89-4926-A568-D00F43C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E3C76-B64B-4A46-AFD1-1C6D014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AF4B1-B170-4F80-8724-6CD9CC2A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C27F3-48DB-461B-AAB8-7D5A4231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05259-397D-4566-B6B1-89563504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C4249-8AFC-4A8F-81F0-3C3926C9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BB84B-25AC-43C6-85FD-69B541D6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32C38-9C01-44A5-9618-032F68E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4C7A5-8562-48F2-8DFA-4A109EC9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00CC2-38F2-495B-9756-955F1F61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1AE52-5606-4A50-B343-874665DE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BBC14-132D-46CB-BCBC-8EE62F0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1B141-9F5F-418F-BF1C-B3BD3C3A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AF2EA-F1E3-4EE0-9B5F-908A9D7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0100C-95A1-441B-BB27-7523F5D0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C594E-83AD-490C-A719-68DBC081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085E5-230C-44E7-ADD8-F24AF2C8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89BC-E934-406B-8C8E-A0CD79C6FFD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BC5B-8A24-44F2-9A23-3A09E9FE2E3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47C2-5BBD-4DC5-83E1-2662556EA6E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AD70-E014-4AF8-9BEF-614107A9E38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5F60-A8B6-4726-869F-F6FABBA5396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4042-41B5-429F-86ED-BC45C78F68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C96-3CAF-49B8-BF12-D027E0AB15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74FC-DB4B-47B4-9B0E-38EE72F0E8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3413-FFDA-4CB1-BF33-9B03C2AC7E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1D6E-F494-4E2A-8E6B-0A5A98FB922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722C-1B99-4617-830A-D6286ED621D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58AD-9DE7-4962-BE77-8492431BBD7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3012-91B6-4797-94A1-B800DB95575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3 - 2014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of. 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0. Introdu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324000" y="1413000"/>
            <a:ext cx="14436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 particolar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questo corso verranno tratt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. Alcune principali architetture distrib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2. Le principali tecnologie su cui si basa il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. I linguaggi XML e XM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. I Web Services, quale esempio di soluzione distribuita che approfondiremo particolar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Web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WS permettono l'interoperabilità tra diverse applicazioni software e su diverse piattaforme hardware/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ano un formato dei dati di tipo testuale, quindi più comprensibile e più facile da utilizzare per gli sviluppatori (esclusi ovviamente i trasferimenti di dati di tipo binar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rmalmente, essendo basati sul protocollo HTTP, non richiedono modifiche alle regole di sicurezza utilizzate come filtro dai firew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semplici da utilizzare e possono essere combinati l'uno con l'altro (indipendentemente da chi li fornisce e da dove vengono resi disponibili) per formare servizi "integrati" e compl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Web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ettono di riutilizzare applicazioni già svilupp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tanto che l'interfaccia rimane costante, le modifiche effettuate ai servizi rimangono traspar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rvizi we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ono in grado di pubblicare le loro funzioni e di scambiare dati con il resto del mo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utte le informazioni vengono scambiate attraverso protocolli "aperti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Obiettivi del co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re alcune nozioni fondamentali per l’Ingegneria del Web, quali i concetti base dei Sistemi Distribuiti e i Linguaggi Ontologic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rendere i contesti applicativi nei quali vengono sviluppate le applicazioni WS: sistemi distribuiti ed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re i concetti chiave delle Service Oriented Architecture (SOA) che costituiscono le più moderne e sofisticate soluzioni per applicare l’Internet Technology (IT) all’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re i fondamenti del protocollo SOAP, che nel contesto di una Service-Oriented Architecture consente di veicolare i messaggi tra le applic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Obiettivi del co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re i concetti fondamentali relativi ai WS basati su SOAP, ed imparare a realizzare WS con una particolare implementazione di SOAP (Apache SOAP) tramite il toolkit AX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rare a descrivere servizi SOAP tramite lo standard 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re i concetti basi per la descrizione dei processi e dei flussi di processo (Workf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Organizzazione del co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7 ore di le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5 ore di esercita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ramma delle esercita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cetti di base, struttura Jboss, le applicazioni (.war, .j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xis II &amp; Soap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alisi di un caso di studio per la realizzazione di un’interfaccia 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alità d’es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scussione di un’applicazione WS realizzata dall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ame orale sugli argomenti svolti durante al co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We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Web è al giorno d’oggi il principale servizio offerto dalla ret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un servizio composito, che offre non solo la possibilità di navigare attraverso un enorme insieme di pagine a contenuto multimediale, ma an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ossibilità di accedere a delle importanti funzionalità applicative tramite interfacce user friendly, nel contesto di attività come l’e-commerce, l’e-learning, l’e-governement, l’e-health, e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ossibilità di partecipare a comunità virtuali, come i Soci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We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stato inizialmente implementato da Tim Berners-Lee mentre era ricercatore al CERN, sulla base di idee dello stesso Berners-Lee e di un suo collega, Robert Cailliau, e oggi gli standard su cui è basato, in continua evoluzione, sono mantenuti da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World Wide Web Consortiu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W3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 agosto 1991:i Berners-Lee mett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n-li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u Internet il primo sit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Inizialmente utilizzato solo dalla comunità scientifica, il 30 aprile 1993 il CERN decide di rendere pubblica la tecnologia alla base de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We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Web è uno spazio elettronico e digitale di Internet destinato alla pubblicazione di contenuti multimediali, nonché uno strumento per implementare particolari serviz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ale spazio elettronico e tali servizi sono resi disponibili attraverso particolari computer di Internet chiamati server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unque disponga di un computer, di un accesso ad Internet, degli opportuni programmi e del cosiddetto “spazio web”, può pubblicare contenuti multimediali sul Web e fornire particolari servizi attraverso il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We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contenuti del Web sono organizzati nei cosiddett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iti we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loro volta strutturati nelle cosiddett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agine web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posizioni di testo e/o grafica visualizzate dal browser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pagine web, anche appartenenti a siti diversi, sono collegate fra loro in modo non sequenziale attraverso 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arti di testo e/o grafica di una pagina web che permettono di accedere ad un'altra pagina web, creando così un ipert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siti web, sono identificati da una sequenza di caratteri univoca chiamata URL che ne permette la rintracciabilità nel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We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rviz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wnload: la distribuzione di softw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eb mail: la gestione della casella di posta elettronica attraverso il We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reaming: la distribuzione di audio/video in tempo re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eb TV: la televisione fruita attraverso il We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eb radio: la radio fruita attraverso il We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eb chat: la comunicazione testuale in tempo reale tra più utenti di Internet, tramite pagine we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zioni per il We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applicazioni accessibili attraverso il Web sono molteplici, ed estremamente disomoge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se sono infatti scritte in differenti linguaggi di program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oltre, ognuna di tali applicazioni coinvolge uno o più elaboratori diversi: il Web mette in gioco una enorme rete di macchine dalle caratteristiche hardware e software diff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blemat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esso le applicazioni devono “parlare” tra loro, al fine di rendere possibile la realizzazione di determinate funzion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, in un processo di e-commerce B2C, non è solo l’utente che interagisce con l’applicazione del venditore, ma anche l’applicazione del venditore che, ad esempio, deve interagire con l’applicazione del forn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assicurare l’interoperabilità tra applicazioni scritte in linguaggi diversi, su macchine che hanno hardware e SO differen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luzio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i ed architetture distribuite: consentono di risolvere i problemi di scalabilità, ma consentono anche apertura, robustezza e miglioramenti delle prest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guaggi ontologici: XML, XML Schema, RDF, OWL, WSDL: consentono di realizzare un’effettiva interopera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</cp:lastModifiedBy>
  <dcterms:modified xsi:type="dcterms:W3CDTF">2013-09-30T15:00:17Z</dcterms:modified>
  <cp:revision>132</cp:revision>
  <dc:subject/>
  <dc:title>Diapositiva 1</dc:title>
</cp:coreProperties>
</file>